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107-066D-4788-9987-298E7FC0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B1F-49BA-4591-9451-22CAAB65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242-70E1-4EA6-90EE-A4987508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0F7-1103-44D1-ADDC-D83F9720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A079-FF67-4C87-9794-6C319250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A009-12FC-4AC7-91FF-F97737A1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AE0A-F5B2-4356-A99D-F7B42C58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1F75-C8AC-4710-8286-F01955AF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B4C0-39D5-47FA-AFB7-0E55B7E6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E9B2-EDCE-4C12-835C-EF93D1D8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21BF-E658-4B14-8802-2ADEF6AC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871-51E1-44A8-A9C1-7B124E1B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D16B-1964-414F-81D4-A7779868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7C92-1DD1-4EB1-97CF-90EFC7CE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71D7-F2A3-44C7-9ACF-A5E6644B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DAEB-34ED-4D78-B32C-0BF55E70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5563-603C-4451-B67F-B01B4305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A4B-8724-4D9F-BA06-E04878EF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00A-8189-4B08-93C3-F554AF14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08F-9412-4DAA-AE60-E959A9AF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399-B4F2-491C-A91B-8D313F63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BA5-7263-4388-AE9A-E84E23EC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FC4-8238-4719-BB29-9C78D56E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0F2-5DAE-45BF-95CC-F76998C2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F5FD-5DB8-4718-950C-231C0A1BE0DA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4BA0-EEA3-4A5F-BDE5-E3C24028AD5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vsb.cz/duzi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TIL 5 (13.11. 2017)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rie Du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cs.vsb.cz/duzi/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Tři druhy kontextu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okud výskyt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není hyperintensionální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, je 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konstrukce C užita v módu provádění, tj. je </a:t>
            </a:r>
            <a:r>
              <a:rPr b="1" i="1" lang="cs-CZ" sz="2500" spc="-1" strike="noStrike">
                <a:solidFill>
                  <a:srgbClr val="006633"/>
                </a:solidFill>
                <a:latin typeface="Arial"/>
              </a:rPr>
              <a:t>konstituentem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 D.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ak může být výskyt C v D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 intenzionální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 extenzionální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500" spc="-1" strike="noStrike">
                <a:solidFill>
                  <a:srgbClr val="006633"/>
                </a:solidFill>
                <a:latin typeface="Arial"/>
              </a:rPr>
              <a:t>Intenzionální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 výskyt C </a:t>
            </a:r>
            <a:r>
              <a:rPr b="0" lang="cs-CZ" sz="2500" spc="-1" strike="noStrike">
                <a:solidFill>
                  <a:srgbClr val="006633"/>
                </a:solidFill>
                <a:latin typeface="Symbol"/>
                <a:ea typeface="Symbol"/>
              </a:rPr>
              <a:t></a:t>
            </a:r>
            <a:r>
              <a:rPr b="0" i="1" lang="cs-CZ" sz="2500" spc="-1" strike="noStrike" baseline="-25000">
                <a:solidFill>
                  <a:srgbClr val="006633"/>
                </a:solidFill>
                <a:latin typeface="Arial"/>
              </a:rPr>
              <a:t>v 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f: celá funkce f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v-konstruovaná konstrukcí C (může to být i nulární funkce, tj. atomický objekt)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 je objektem predikac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Pak všechny konstituenty C mají rovněž výskyt intenzionální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500" spc="-1" strike="noStrike">
                <a:solidFill>
                  <a:srgbClr val="006633"/>
                </a:solidFill>
                <a:latin typeface="Arial"/>
              </a:rPr>
              <a:t>Extenzionální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 výskyt C </a:t>
            </a:r>
            <a:r>
              <a:rPr b="0" lang="cs-CZ" sz="2500" spc="-1" strike="noStrike">
                <a:solidFill>
                  <a:srgbClr val="006633"/>
                </a:solidFill>
                <a:latin typeface="Symbol"/>
                <a:ea typeface="Symbol"/>
              </a:rPr>
              <a:t></a:t>
            </a:r>
            <a:r>
              <a:rPr b="0" i="1" lang="cs-CZ" sz="2500" spc="-1" strike="noStrike" baseline="-25000">
                <a:solidFill>
                  <a:srgbClr val="006633"/>
                </a:solidFill>
                <a:latin typeface="Arial"/>
              </a:rPr>
              <a:t>v 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0" lang="cs-CZ" sz="2500" spc="-1" strike="noStrike">
                <a:solidFill>
                  <a:srgbClr val="006633"/>
                </a:solidFill>
                <a:latin typeface="Arial"/>
              </a:rPr>
              <a:t>/(</a:t>
            </a:r>
            <a:r>
              <a:rPr b="0" lang="cs-CZ" sz="2500" spc="-1" strike="noStrike">
                <a:solidFill>
                  <a:srgbClr val="006633"/>
                </a:solidFill>
                <a:latin typeface="Symbol"/>
                <a:ea typeface="Symbol"/>
              </a:rPr>
              <a:t></a:t>
            </a:r>
            <a:r>
              <a:rPr b="0" lang="cs-CZ" sz="2500" spc="-1" strike="noStrike">
                <a:solidFill>
                  <a:srgbClr val="006633"/>
                </a:solidFill>
                <a:latin typeface="Arial"/>
              </a:rPr>
              <a:t>):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cs-CZ" sz="25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hodnota funkce f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v-konstruované konstrukcí C (funkce f je alespoň unární)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 je objektem predikac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Tři druhy kontextu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Resit</a:t>
            </a:r>
            <a:r>
              <a:rPr b="0" i="1" lang="cs-CZ" sz="20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Tom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x </a:t>
            </a:r>
            <a:r>
              <a:rPr b="0" lang="da-DK" sz="2000" spc="-1" strike="noStrike">
                <a:solidFill>
                  <a:srgbClr val="006633"/>
                </a:solidFill>
                <a:latin typeface="Arial"/>
              </a:rPr>
              <a:t>[[</a:t>
            </a:r>
            <a:r>
              <a:rPr b="0" lang="da-DK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da-DK" sz="2000" spc="-1" strike="noStrike">
                <a:solidFill>
                  <a:srgbClr val="006633"/>
                </a:solidFill>
                <a:latin typeface="Arial"/>
              </a:rPr>
              <a:t>Sin x</a:t>
            </a:r>
            <a:r>
              <a:rPr b="0" lang="da-DK" sz="20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i="1" lang="da-DK" sz="2000" spc="-1" strike="noStrike">
                <a:solidFill>
                  <a:srgbClr val="006633"/>
                </a:solidFill>
                <a:latin typeface="Arial"/>
              </a:rPr>
              <a:t> = </a:t>
            </a:r>
            <a:r>
              <a:rPr b="0" lang="da-DK" sz="2000" spc="-1" strike="noStrike">
                <a:solidFill>
                  <a:srgbClr val="006633"/>
                </a:solidFill>
                <a:latin typeface="Arial"/>
              </a:rPr>
              <a:t>0]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enty Kompozic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Resit</a:t>
            </a:r>
            <a:r>
              <a:rPr b="0" i="1" lang="cs-CZ" sz="20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Tom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x </a:t>
            </a:r>
            <a:r>
              <a:rPr b="0" lang="da-DK" sz="2000" spc="-1" strike="noStrike">
                <a:solidFill>
                  <a:srgbClr val="006633"/>
                </a:solidFill>
                <a:latin typeface="Arial"/>
              </a:rPr>
              <a:t>[[</a:t>
            </a:r>
            <a:r>
              <a:rPr b="0" lang="da-DK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da-DK" sz="2000" spc="-1" strike="noStrike">
                <a:solidFill>
                  <a:srgbClr val="006633"/>
                </a:solidFill>
                <a:latin typeface="Arial"/>
              </a:rPr>
              <a:t>Sin x</a:t>
            </a:r>
            <a:r>
              <a:rPr b="0" lang="da-DK" sz="20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i="1" lang="da-DK" sz="2000" spc="-1" strike="noStrike">
                <a:solidFill>
                  <a:srgbClr val="006633"/>
                </a:solidFill>
                <a:latin typeface="Arial"/>
              </a:rPr>
              <a:t> = </a:t>
            </a:r>
            <a:r>
              <a:rPr b="0" lang="da-DK" sz="2000" spc="-1" strike="noStrike">
                <a:solidFill>
                  <a:srgbClr val="006633"/>
                </a:solidFill>
                <a:latin typeface="Arial"/>
              </a:rPr>
              <a:t>0]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dy podkonstrukce, které je nutno vykonat k získání pravdivostní hodnoty v libovolném světočase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w, t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jsou (kromě této Kompozice samotné) ty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i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i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w],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it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w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o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0" lang="da-DK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Sin x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0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dkonstruk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0" lang="da-DK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Sin x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0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není konstituentem, je pouze objektem, o kterém se zde vypovídá, že Tom zjišťuje, co tato konstrukce konstruuje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Logika postoj</a:t>
            </a: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ů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propoziční“ post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om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tt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věří, ví, myslí si), že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tt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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vztah individua k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propozi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tt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*/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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vztah individua k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hyperpropozi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pojmové“ post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om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tt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hledá, nachází, řeší, chce být, myslí na, …)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tt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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vztah individua k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intenz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tt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*/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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vztah individua k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hyperintenz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29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a druhy ještě ve dvou variantách: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e dicto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e 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De 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Tom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 něč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tt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že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Logika postoj</a:t>
            </a: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ů: (hyper-)propozič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ostoje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doxastické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(„doxa“ je řecky mínění) jsou reprezentovány větami tva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Osoba a se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domnívá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(věří, myslí si, pochybuje, zda …) že P“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kdežto postoje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epistémické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(„epistémé“ je řecky poznání) jsou vyjádřen větami tva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Osoba a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ví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, že P“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Epistémické postoje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se chovají jistým způsobem odlišně od postojů doxastických (neboť to, co je věděno, musí být pravda, jsou to tzv.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faktiva, pravdivost věděného je presupozicí celé věty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), ale jinak jsou podstatné problémy logické analýzy sdíleny oběma druhy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(hyper-)propoziční postoj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) Vedlejší věta je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matematická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logická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Karel se domnívá, že všechna prvočísla jsou lichá.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) Vedlejší věta je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analyticky pravdivá (nepravdivá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a obsahuje empirické výraz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Karel není přesvědčen, že (nutně) velryby jsou savci.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) Vedlejší věta je sice empirická, ale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obsahuje matematické výrazy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Karel souhlasí, že počet obyvatel Prahy je 1048576.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) Vedlejší věta je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empirická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neobsahuje matematické výrazy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Karel si myslí, že Praha je západně od Plzně.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(hyper-)propoziční postoj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 případech a) – c) nemáme na vybranou: hyperintenzionální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Ad a)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Karel se domnívá, že všechna prvočísla jsou lichá.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01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Domnívat*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Karel 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[[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All 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Prime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Lichá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]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y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(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)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): omezený kvantifikátor, který dané množině čísel přiřadí množinu všech jejích nadmnožin;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Prim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Lich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omnív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/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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1312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Kdyby analýza nebyla hyperintensionální, pak by z této věty plynulo, že Karel se domnívá každou analytickou Nepravdu – „</a:t>
            </a:r>
            <a:r>
              <a:rPr b="0" i="1" lang="cs-CZ" sz="2100" spc="-1" strike="noStrike">
                <a:solidFill>
                  <a:srgbClr val="0070c0"/>
                </a:solidFill>
                <a:latin typeface="Arial"/>
              </a:rPr>
              <a:t>paradox idioci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“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„Karel se domnívá, že 1+1=3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1312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Častěji se uvádí problém epistémických logik – </a:t>
            </a: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paradox logicko/ matematické vševědoucnosti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01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Karel ví, že 1+1=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01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1+1=2 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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aritmetika přirozených čísel je neúpln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01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------------------------------------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01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Karel ví, že aritmetika přirozených čísel je neúpln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(hyper-)propoziční postoj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mile je vedlejší věta v domněnkové větě matematická, je příslušný postoj nutně hyperintenzionální, tj. citlivý na způsob zadání pravdivostní hodnot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zapomínejme, že všechny pravdivé matematické věty označují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a všechny nepravdivé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 A domnívat se, že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bo že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nedává smys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o, co je na matematice zajímavé, jsou právě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konstrukce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které nejrozmanitějším způsobem vedou k pravdivostní hodnotě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6633"/>
                </a:solidFill>
                <a:latin typeface="Garamond"/>
              </a:rPr>
              <a:t>(hyper-)propoziční postoje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ostoj k analyticky pravdivé (analyticky nepravdivé) větě je hyperintensionální, jinak bychom obdrželi variantu paradoxu vševědoucnosti (idioci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Analyticky pravdivé (nepravdivé) věty označují propozici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TRUE (FALSE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která je pravdivá (nepravdivá) ve všech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w, 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.: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Velryba je savec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tem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de dic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j. ne tak, že určitá jedna velryba má vlastnost být savcem, ale ž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lastnost být savcem je </a:t>
            </a:r>
            <a:r>
              <a:rPr b="0" i="1" lang="cs-CZ" sz="2000" spc="-1" strike="noStrike">
                <a:solidFill>
                  <a:srgbClr val="990000"/>
                </a:solidFill>
                <a:latin typeface="Arial"/>
              </a:rPr>
              <a:t>rekvizitou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vlastnosti být velryb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990000"/>
                </a:solidFill>
                <a:latin typeface="Arial"/>
              </a:rPr>
              <a:t>Rekvizi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avec, Velry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5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0" lang="cs-CZ" sz="25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cs-CZ" sz="2500" spc="-1" strike="noStrike">
                <a:solidFill>
                  <a:srgbClr val="006633"/>
                </a:solidFill>
                <a:latin typeface="Symbol"/>
                <a:ea typeface="Symbol"/>
              </a:rPr>
              <a:t></a:t>
            </a:r>
            <a:r>
              <a:rPr b="0" lang="cs-CZ" sz="25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cs-CZ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Domnívat*</a:t>
            </a:r>
            <a:r>
              <a:rPr b="0" i="1" lang="cs-CZ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Karel </a:t>
            </a:r>
            <a:r>
              <a:rPr b="0" lang="cs-CZ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cs-CZ" sz="25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cs-CZ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Rekvizita </a:t>
            </a:r>
            <a:r>
              <a:rPr b="0" lang="cs-CZ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Savec </a:t>
            </a:r>
            <a:r>
              <a:rPr b="0" lang="cs-CZ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Velryba</a:t>
            </a:r>
            <a:r>
              <a:rPr b="0" lang="cs-CZ" sz="2500" spc="-1" strike="noStrike">
                <a:solidFill>
                  <a:srgbClr val="006633"/>
                </a:solidFill>
                <a:latin typeface="Arial"/>
              </a:rPr>
              <a:t>]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Garamond"/>
              </a:rPr>
              <a:t>Rekvizity</a:t>
            </a:r>
            <a:r>
              <a:rPr b="0" i="1" lang="cs-CZ" sz="3200" spc="-1" strike="noStrike">
                <a:solidFill>
                  <a:srgbClr val="006633"/>
                </a:solidFill>
                <a:latin typeface="Garamond"/>
              </a:rPr>
              <a:t> - definic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Rekvizit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pq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]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]]]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p,q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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2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Rekvizita 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Savec 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Velryba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Velryba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]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Savec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]]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2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True 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nám ošetří parcialitu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33"/>
                </a:solidFill>
                <a:latin typeface="Arial"/>
              </a:rPr>
              <a:t>Přesta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l</a:t>
            </a:r>
            <a:r>
              <a:rPr b="0" i="1" lang="cs-CZ" sz="1800" spc="-1" strike="noStrike">
                <a:solidFill>
                  <a:srgbClr val="006633"/>
                </a:solidFill>
                <a:latin typeface="Arial"/>
              </a:rPr>
              <a:t> kouřit 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|= kou</a:t>
            </a:r>
            <a:r>
              <a:rPr b="0" i="1" lang="cs-CZ" sz="1800" spc="-1" strike="noStrike">
                <a:solidFill>
                  <a:srgbClr val="006633"/>
                </a:solidFill>
                <a:latin typeface="Arial"/>
              </a:rPr>
              <a:t>ř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il</a:t>
            </a:r>
            <a:r>
              <a:rPr b="0" i="1" lang="cs-CZ" sz="1800" spc="-1" strike="noStrike">
                <a:solidFill>
                  <a:srgbClr val="006633"/>
                </a:solidFill>
                <a:latin typeface="Arial"/>
              </a:rPr>
              <a:t>, nepřesta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l</a:t>
            </a:r>
            <a:r>
              <a:rPr b="0" i="1" lang="cs-CZ" sz="1800" spc="-1" strike="noStrike">
                <a:solidFill>
                  <a:srgbClr val="006633"/>
                </a:solidFill>
                <a:latin typeface="Arial"/>
              </a:rPr>
              <a:t> kouřit 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|= kou</a:t>
            </a:r>
            <a:r>
              <a:rPr b="0" i="1" lang="cs-CZ" sz="1800" spc="-1" strike="noStrike">
                <a:solidFill>
                  <a:srgbClr val="006633"/>
                </a:solidFill>
                <a:latin typeface="Arial"/>
              </a:rPr>
              <a:t>ř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il</a:t>
            </a:r>
            <a:r>
              <a:rPr b="0" i="1" lang="cs-CZ" sz="18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dy pokud nekouřil, nemůže být pravda ani že přestal ani že nepřestal – </a:t>
            </a:r>
            <a:r>
              <a:rPr b="0" i="1" lang="cs-CZ" sz="1800" spc="-1" strike="noStrike">
                <a:solidFill>
                  <a:srgbClr val="990000"/>
                </a:solidFill>
                <a:latin typeface="Arial"/>
              </a:rPr>
              <a:t>presupozice </a:t>
            </a:r>
            <a:r>
              <a:rPr b="0" i="1" lang="cs-CZ" sz="1800" spc="-1" strike="noStrike">
                <a:solidFill>
                  <a:srgbClr val="006633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vizita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estal_kouřit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uři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estal_kouři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uři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]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vizita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přestal_kouřit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uři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estal_kouři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uři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]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28571f"/>
                </a:solidFill>
                <a:latin typeface="Arial"/>
              </a:rPr>
              <a:t>Pozor !!!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řestal_kouřit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]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nekouřil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řestal_kouřit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nekouřil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řestal_kouřit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]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nekouřil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True</a:t>
            </a: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, </a:t>
            </a: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False</a:t>
            </a: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, </a:t>
            </a: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Undef</a:t>
            </a: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: vlastnosti propozic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, False, Unde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vlastnosti propozice,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že je v daném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w,t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avdivá, nepravdivá, nedefinovaná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25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500" spc="-1" strike="noStrike">
                <a:solidFill>
                  <a:srgbClr val="006633"/>
                </a:solidFill>
                <a:latin typeface="Arial"/>
              </a:rPr>
              <a:t>True</a:t>
            </a:r>
            <a:r>
              <a:rPr b="0" i="1" lang="en-US" sz="25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i="1" lang="en-US" sz="25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] = </a:t>
            </a:r>
            <a:r>
              <a:rPr b="0" lang="en-US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, pokud </a:t>
            </a:r>
            <a:r>
              <a:rPr b="0" i="1" lang="en-US" sz="25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en-US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= </a:t>
            </a:r>
            <a:r>
              <a:rPr b="0" lang="en-US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6633"/>
                </a:solidFill>
                <a:latin typeface="Arial"/>
              </a:rPr>
              <a:t>T,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cs-CZ" sz="25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6633"/>
                </a:solidFill>
                <a:latin typeface="Arial"/>
              </a:rPr>
              <a:t>jinak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en-US" sz="25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False</a:t>
            </a:r>
            <a:r>
              <a:rPr b="0" i="1" lang="en-US" sz="25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i="1" lang="en-US" sz="25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] = </a:t>
            </a:r>
            <a:r>
              <a:rPr b="0" lang="en-US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, pokud </a:t>
            </a:r>
            <a:r>
              <a:rPr b="0" i="1" lang="en-US" sz="25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en-US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 = </a:t>
            </a:r>
            <a:r>
              <a:rPr b="0" lang="en-US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6633"/>
                </a:solidFill>
                <a:latin typeface="Arial"/>
              </a:rPr>
              <a:t>F,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6633"/>
                </a:solidFill>
                <a:latin typeface="Arial"/>
              </a:rPr>
              <a:t>jinak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en-US" sz="2500" spc="-1" strike="noStrike">
                <a:solidFill>
                  <a:srgbClr val="006633"/>
                </a:solidFill>
                <a:latin typeface="Arial"/>
              </a:rPr>
              <a:t>.</a:t>
            </a:r>
            <a:r>
              <a:rPr b="1" i="1" lang="cs-CZ" sz="25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Undef</a:t>
            </a:r>
            <a:r>
              <a:rPr b="0" i="1" lang="en-US" sz="25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i="1" lang="en-US" sz="25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] = [</a:t>
            </a:r>
            <a:r>
              <a:rPr b="0" lang="en-US" sz="2500" spc="-1" strike="noStrike">
                <a:solidFill>
                  <a:srgbClr val="006633"/>
                </a:solidFill>
                <a:latin typeface="Symbol"/>
                <a:ea typeface="Symbol"/>
              </a:rPr>
              <a:t>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500" spc="-1" strike="noStrike">
                <a:solidFill>
                  <a:srgbClr val="006633"/>
                </a:solidFill>
                <a:latin typeface="Arial"/>
              </a:rPr>
              <a:t>True</a:t>
            </a:r>
            <a:r>
              <a:rPr b="0" i="1" lang="en-US" sz="25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i="1" lang="en-US" sz="25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US" sz="2500" spc="-1" strike="noStrike">
                <a:solidFill>
                  <a:srgbClr val="006633"/>
                </a:solidFill>
                <a:latin typeface="Symbol"/>
                <a:ea typeface="Symbol"/>
              </a:rPr>
              <a:t>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6633"/>
                </a:solidFill>
                <a:latin typeface="Symbol"/>
                <a:ea typeface="Symbol"/>
              </a:rPr>
              <a:t>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False</a:t>
            </a:r>
            <a:r>
              <a:rPr b="0" i="1" lang="en-US" sz="25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i="1" lang="en-US" sz="25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]]</a:t>
            </a:r>
            <a:r>
              <a:rPr b="1" i="1" lang="en-US" sz="25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Undef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Undef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ou 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žitečné pro ošetření parci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6633"/>
                </a:solidFill>
                <a:latin typeface="Garamond"/>
              </a:rPr>
              <a:t>Příklady ze cvičení 4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2803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nalyzujt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ledující úsudek (a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intensionáln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(b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hyperintensionáln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ůvodněte, při které analýze je úsudek platný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Tom hledá sněžného muž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Sněžný muž je Yet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–––––––––––––––––––––––––––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Tom hledá Yetti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70000"/>
              </a:lnSpc>
              <a:spcBef>
                <a:spcPts val="22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: druhá premisa je myšlena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e dic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j. jako zadávající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identitu vlastnosti být sněžným mužem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být Yetti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však výrazy „sněžný muž“ a „Yetti“ nejsou synonym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22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ez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modifikátor vlastnosti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u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, Yet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ez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</a:t>
            </a:r>
            <a:r>
              <a:rPr b="0" i="1" lang="cs-CZ" sz="2000" spc="-1" strike="noStrike" baseline="-25000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33"/>
                </a:solidFill>
                <a:latin typeface="Symbol"/>
                <a:ea typeface="Symbol"/>
              </a:rPr>
              <a:t>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006633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d a) Intenzionální hledán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vztah k vlastnosti, jejíž instance chce Tom nalézt, tj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Hled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d b) Hyperintenzionální hledán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vztah k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onstruk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 vlastnosti, jejíž instance chce Tom nalézt, tj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Hledat*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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Hyperpropoziční postoj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Karel souhlasí, že počet obyvatel Prahy je 104857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1048576 (dek) = 100000 (hex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-----------------------------------------------------------------------------------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??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Karel souhlasí, že počet obyvatel Prahy je 100000 (hex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e to neplyne, proto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19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cs-CZ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Souhlasit*</a:t>
            </a:r>
            <a:r>
              <a:rPr b="0" i="1" lang="cs-CZ" sz="1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cs-CZ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Karel </a:t>
            </a:r>
            <a:r>
              <a:rPr b="0" lang="cs-CZ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cs-CZ" sz="19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cs-CZ" sz="19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cs-CZ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Počet</a:t>
            </a:r>
            <a:r>
              <a:rPr b="0" lang="cs-CZ" sz="19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cs-CZ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Obyvatel</a:t>
            </a:r>
            <a:r>
              <a:rPr b="0" i="1" lang="cs-CZ" sz="1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cs-CZ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Praha</a:t>
            </a:r>
            <a:r>
              <a:rPr b="0" lang="cs-CZ" sz="1900" spc="-1" strike="noStrike">
                <a:solidFill>
                  <a:srgbClr val="006633"/>
                </a:solidFill>
                <a:latin typeface="Arial"/>
              </a:rPr>
              <a:t>]] = </a:t>
            </a:r>
            <a:r>
              <a:rPr b="0" lang="cs-CZ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1048576</a:t>
            </a:r>
            <a:r>
              <a:rPr b="0" lang="cs-CZ" sz="1900" spc="-1" strike="noStrike">
                <a:solidFill>
                  <a:srgbClr val="006633"/>
                </a:solidFill>
                <a:latin typeface="Arial"/>
              </a:rPr>
              <a:t>]]</a:t>
            </a:r>
            <a:r>
              <a:rPr b="0" lang="en-US" sz="19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očet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);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Obyvatel(něčeho)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(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ouhlasit*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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: Nejde zde o rozdíl ve způsob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zápis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ného čísla, nýbrž o rozdíl ve způsobu, jak j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onstruován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48576 (dek) = 1.10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0.10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4.10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8.10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5.10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7.10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6.10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00000 (hexa) = 1.16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0.16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0.16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0.16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0.16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+ 0.16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Propoziční postoj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el se domínvá, že Praha je západně od Plz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990000"/>
                </a:solidFill>
                <a:latin typeface="Arial"/>
              </a:rPr>
              <a:t>t</a:t>
            </a:r>
            <a:r>
              <a:rPr b="0" lang="cs-CZ" sz="1900" spc="-1" strike="noStrike">
                <a:solidFill>
                  <a:srgbClr val="990000"/>
                </a:solidFill>
                <a:latin typeface="Arial"/>
              </a:rPr>
              <a:t> [</a:t>
            </a:r>
            <a:r>
              <a:rPr b="0" lang="cs-CZ" sz="19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990000"/>
                </a:solidFill>
                <a:latin typeface="Arial"/>
              </a:rPr>
              <a:t>Domnívat</a:t>
            </a:r>
            <a:r>
              <a:rPr b="0" i="1" lang="cs-CZ" sz="19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19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19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990000"/>
                </a:solidFill>
                <a:latin typeface="Arial"/>
              </a:rPr>
              <a:t>Karel </a:t>
            </a:r>
            <a:r>
              <a:rPr b="0" lang="cs-CZ" sz="19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990000"/>
                </a:solidFill>
                <a:latin typeface="Arial"/>
              </a:rPr>
              <a:t>t</a:t>
            </a:r>
            <a:r>
              <a:rPr b="0" lang="cs-CZ" sz="1900" spc="-1" strike="noStrike">
                <a:solidFill>
                  <a:srgbClr val="990000"/>
                </a:solidFill>
                <a:latin typeface="Arial"/>
              </a:rPr>
              <a:t> [</a:t>
            </a:r>
            <a:r>
              <a:rPr b="0" lang="cs-CZ" sz="19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990000"/>
                </a:solidFill>
                <a:latin typeface="Arial"/>
              </a:rPr>
              <a:t>Západně</a:t>
            </a:r>
            <a:r>
              <a:rPr b="0" i="1" lang="cs-CZ" sz="19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19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19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990000"/>
                </a:solidFill>
                <a:latin typeface="Arial"/>
              </a:rPr>
              <a:t>Praha </a:t>
            </a:r>
            <a:r>
              <a:rPr b="0" lang="cs-CZ" sz="19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990000"/>
                </a:solidFill>
                <a:latin typeface="Arial"/>
              </a:rPr>
              <a:t>Plzeň</a:t>
            </a:r>
            <a:r>
              <a:rPr b="0" lang="cs-CZ" sz="1900" spc="-1" strike="noStrike">
                <a:solidFill>
                  <a:srgbClr val="990000"/>
                </a:solidFill>
                <a:latin typeface="Arial"/>
              </a:rPr>
              <a:t>]]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Domnívat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</a:t>
            </a:r>
            <a:r>
              <a:rPr b="0" lang="cs-CZ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 Západně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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Intenzionální postoj se týká tohoto stavu světa, nezávisle na tom, jakým způsobem je popsán (konceptualizován) – např. ekvivalentní popis je dán větou „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lzeň je východně od Prahy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“, apo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Je-li Karel přesvědčen, že tento stav světa je aktuální, pak při cestě do Plzně z Prahy se bude orientovat na západ, při cestě z Prahy do Plzně se bude orientovat na východ. Řídí se vždy nestrukturovaným důsledkem svého přesvědčení o stavu svět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Je tomu skutečně tak? Nemůže Karel sice připustit, že si myslí o Praze, že je západně od Plzně, ale zároveň odmítne myslet si, že Plzeň je východně od Prahy? Znamenalo by to, že Karel si odporuje? Jistě tehdy, kdyby se jeho postoj týkal propozic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Avšak je tu druhá možnost: Karel se může vztahovat ke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způsobu (tj. konstrukci)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 jakým je propozice zadán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onstrukce 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Západně</a:t>
            </a:r>
            <a:r>
              <a:rPr b="0" i="1" lang="cs-CZ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raha 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lzeň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] je prostě 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jiná konstrukce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než např. (ekvivalentní) konstrukce 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Východně</a:t>
            </a:r>
            <a:r>
              <a:rPr b="0" i="1" lang="cs-CZ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lzeň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Postoje k propozici (implicitní znalosti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om se domnívá, že Praha je větší než Br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om se domnívá, že Brno je menší než Prah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omnívat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o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Větší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Brn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]]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omnívat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o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Menší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Brn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]]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 rozdíl od explicitního postoje hyperintenzionálního je nyní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omnívat(se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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 vztah individua k 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ropozici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Postoje k propozici (implicitní znalosti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ůkaz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: Dodatečné typy: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; =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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: identita pravdivostních hodnot; =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((o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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: identita propozic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e všech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zachovávají následující kroky pravdivos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omnívat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Tom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Větší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Brno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]]]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řed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x y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Větší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x y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Menší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y x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]]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xiom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Větší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Brno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Menší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Brno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]]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Větší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Brno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Menší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Brno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]]   Z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Větší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Brno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((o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Menší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Brno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]]   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omnívat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Tom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Menší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Brno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]]]  subst. id., 1, 5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Krok 5) si možná vyžaduje vysvětlení. Platí-li nutně, ve všech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rovnost pravdivostních hodnot konstruovaných Kompozicemi [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Větší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Brno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] a [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Menší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Brno </a:t>
            </a:r>
            <a:r>
              <a:rPr b="0" lang="cs-CZ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], musí být také identické propozice konstruované Uzávěrem v kroku 5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Propoziční postoj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va extrém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Hyperintensionální postoj (</a:t>
            </a: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explicitní znalost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: agent je „logický idiot“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Intensionální postoj (</a:t>
            </a: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implicitní znalost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: agent je logicky vševědouc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Možné řešení: </a:t>
            </a: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komputační znal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zmeme v úvahu, jaká pravidla odvozování daný agent ovládá a budeme počítat, co si může odvodit, pokud daná pravidla bude správně aplik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kce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Inf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R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)/((</a:t>
            </a:r>
            <a:r>
              <a:rPr b="0" lang="en-GB" sz="2100" spc="-1" strike="noStrike">
                <a:solidFill>
                  <a:srgbClr val="006633"/>
                </a:solidFill>
                <a:latin typeface="Symbol"/>
                <a:ea typeface="Symbol"/>
              </a:rPr>
              <a:t></a:t>
            </a:r>
            <a:r>
              <a:rPr b="0" i="1" lang="en-GB" sz="2100" spc="-1" strike="noStrike" baseline="-25000">
                <a:solidFill>
                  <a:srgbClr val="006633"/>
                </a:solidFill>
                <a:latin typeface="Arial"/>
              </a:rPr>
              <a:t>n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)(</a:t>
            </a:r>
            <a:r>
              <a:rPr b="0" lang="en-GB" sz="2100" spc="-1" strike="noStrike">
                <a:solidFill>
                  <a:srgbClr val="006633"/>
                </a:solidFill>
                <a:latin typeface="Symbol"/>
                <a:ea typeface="Symbol"/>
              </a:rPr>
              <a:t></a:t>
            </a:r>
            <a:r>
              <a:rPr b="0" i="1" lang="en-GB" sz="2100" spc="-1" strike="noStrike" baseline="-25000">
                <a:solidFill>
                  <a:srgbClr val="006633"/>
                </a:solidFill>
                <a:latin typeface="Arial"/>
              </a:rPr>
              <a:t>n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))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řiřadí vstupní množině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konstrukcí </a:t>
            </a: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množinu těch konstrukcí, které jsou odvoditelné z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omocí množiny pravidel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Inf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R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):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d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 [[</a:t>
            </a: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d c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GB" sz="2100" spc="-1" strike="noStrike">
                <a:solidFill>
                  <a:srgbClr val="006633"/>
                </a:solidFill>
                <a:latin typeface="Symbol"/>
                <a:ea typeface="Symbol"/>
              </a:rPr>
              <a:t>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6633"/>
                </a:solidFill>
                <a:latin typeface="Symbol"/>
                <a:ea typeface="Symbol"/>
              </a:rPr>
              <a:t></a:t>
            </a: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r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 [[</a:t>
            </a:r>
            <a:r>
              <a:rPr b="0" lang="en-GB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R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r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GB" sz="2100" spc="-1" strike="noStrike">
                <a:solidFill>
                  <a:srgbClr val="006633"/>
                </a:solidFill>
                <a:latin typeface="Symbol"/>
                <a:ea typeface="Symbol"/>
              </a:rPr>
              <a:t>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 (</a:t>
            </a: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d 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|—</a:t>
            </a:r>
            <a:r>
              <a:rPr b="0" i="1" lang="en-GB" sz="2100" spc="-1" strike="noStrike" baseline="-25000">
                <a:solidFill>
                  <a:srgbClr val="006633"/>
                </a:solidFill>
                <a:latin typeface="Arial"/>
              </a:rPr>
              <a:t>r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lang="en-GB" sz="2100" spc="-1" strike="noStrike">
                <a:solidFill>
                  <a:srgbClr val="006633"/>
                </a:solidFill>
                <a:latin typeface="Arial"/>
              </a:rPr>
              <a:t>)]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|—</a:t>
            </a:r>
            <a:r>
              <a:rPr b="0" i="1" lang="en-GB" sz="21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)’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 notace pro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[[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r 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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GB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</a:t>
            </a:r>
            <a:r>
              <a:rPr b="0" i="1" lang="en-GB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množina pravidel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21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GB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</a:t>
            </a:r>
            <a:r>
              <a:rPr b="0" i="1" lang="en-GB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v-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konstruuje prvek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tj. určité pravidlo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Propoziční postoje – komputační znalos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ub-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lasická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-l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vozeno z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plývá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j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GB" sz="28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i="1" lang="en-GB" sz="2800" spc="-1" strike="noStrike">
                <a:solidFill>
                  <a:srgbClr val="006633"/>
                </a:solidFill>
                <a:latin typeface="Arial"/>
              </a:rPr>
              <a:t>Inf</a:t>
            </a:r>
            <a:r>
              <a:rPr b="0" lang="en-GB" sz="28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i="1" lang="en-GB" sz="2800" spc="-1" strike="noStrike">
                <a:solidFill>
                  <a:srgbClr val="006633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006633"/>
                </a:solidFill>
                <a:latin typeface="Arial"/>
              </a:rPr>
              <a:t>) </a:t>
            </a:r>
            <a:r>
              <a:rPr b="0" lang="en-GB" sz="2800" spc="-1" strike="noStrike">
                <a:solidFill>
                  <a:srgbClr val="006633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GB" sz="2800" spc="-1" strike="noStrike">
                <a:solidFill>
                  <a:srgbClr val="006633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i="1" lang="en-GB" sz="2800" spc="-1" strike="noStrike">
                <a:solidFill>
                  <a:srgbClr val="006633"/>
                </a:solidFill>
                <a:latin typeface="Arial"/>
              </a:rPr>
              <a:t>Cn </a:t>
            </a:r>
            <a:r>
              <a:rPr b="0" lang="en-GB" sz="2800" spc="-1" strike="noStrike">
                <a:solidFill>
                  <a:srgbClr val="006633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, kd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n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množina všech logických důsledk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eflexiv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í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800" spc="-1" strike="noStrike">
                <a:solidFill>
                  <a:srgbClr val="006633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33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i="1" lang="en-GB" sz="2800" spc="-1" strike="noStrike">
                <a:solidFill>
                  <a:srgbClr val="006633"/>
                </a:solidFill>
                <a:latin typeface="Arial"/>
              </a:rPr>
              <a:t>Inf</a:t>
            </a:r>
            <a:r>
              <a:rPr b="0" lang="en-GB" sz="28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i="1" lang="en-GB" sz="2800" spc="-1" strike="noStrike">
                <a:solidFill>
                  <a:srgbClr val="006633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006633"/>
                </a:solidFill>
                <a:latin typeface="Arial"/>
              </a:rPr>
              <a:t>) </a:t>
            </a:r>
            <a:r>
              <a:rPr b="0" lang="en-GB" sz="2800" spc="-1" strike="noStrike">
                <a:solidFill>
                  <a:srgbClr val="006633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g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zapomíná, co už ví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”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sled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33"/>
                </a:solidFill>
                <a:latin typeface="Arial"/>
              </a:rPr>
              <a:t>Inf</a:t>
            </a:r>
            <a:r>
              <a:rPr b="0" lang="en-GB" sz="28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i="1" lang="en-GB" sz="2800" spc="-1" strike="noStrike">
                <a:solidFill>
                  <a:srgbClr val="006633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006633"/>
                </a:solidFill>
                <a:latin typeface="Arial"/>
              </a:rPr>
              <a:t>) </a:t>
            </a:r>
            <a:r>
              <a:rPr b="0" lang="cs-CZ" sz="2800" spc="-1" strike="noStrike">
                <a:solidFill>
                  <a:srgbClr val="006633"/>
                </a:solidFill>
                <a:latin typeface="Arial"/>
              </a:rPr>
              <a:t>je </a:t>
            </a:r>
            <a:r>
              <a:rPr b="0" i="1" lang="en-GB" sz="2800" spc="-1" strike="noStrike">
                <a:solidFill>
                  <a:srgbClr val="006633"/>
                </a:solidFill>
                <a:latin typeface="Arial"/>
              </a:rPr>
              <a:t>monoton</a:t>
            </a:r>
            <a:r>
              <a:rPr b="0" i="1" lang="cs-CZ" sz="2800" spc="-1" strike="noStrike">
                <a:solidFill>
                  <a:srgbClr val="006633"/>
                </a:solidFill>
                <a:latin typeface="Arial"/>
              </a:rPr>
              <a:t>í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-l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’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Propoziční postoje – komputační znalos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006633"/>
                </a:solidFill>
                <a:latin typeface="Arial"/>
              </a:rPr>
              <a:t>Inf</a:t>
            </a:r>
            <a:r>
              <a:rPr b="0" lang="en-GB" sz="27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i="1" lang="en-GB" sz="2700" spc="-1" strike="noStrike">
                <a:solidFill>
                  <a:srgbClr val="006633"/>
                </a:solidFill>
                <a:latin typeface="Arial"/>
              </a:rPr>
              <a:t>R</a:t>
            </a:r>
            <a:r>
              <a:rPr b="0" lang="en-GB" sz="2700" spc="-1" strike="noStrike">
                <a:solidFill>
                  <a:srgbClr val="006633"/>
                </a:solidFill>
                <a:latin typeface="Arial"/>
              </a:rPr>
              <a:t>) </a:t>
            </a:r>
            <a:r>
              <a:rPr b="0" lang="cs-CZ" sz="2700" spc="-1" strike="noStrike">
                <a:solidFill>
                  <a:srgbClr val="006633"/>
                </a:solidFill>
                <a:latin typeface="Arial"/>
              </a:rPr>
              <a:t>je </a:t>
            </a:r>
            <a:r>
              <a:rPr b="0" i="1" lang="cs-CZ" sz="2700" spc="-1" strike="noStrike">
                <a:solidFill>
                  <a:srgbClr val="006633"/>
                </a:solidFill>
                <a:latin typeface="Arial"/>
              </a:rPr>
              <a:t>shora omezená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f(R) K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…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1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 nejmenší fixed point – komputační (inferovatelná) znalost: </a:t>
            </a:r>
            <a:r>
              <a:rPr b="0" i="1" lang="en-GB" sz="2400" spc="-1" strike="noStrike">
                <a:solidFill>
                  <a:srgbClr val="006633"/>
                </a:solidFill>
                <a:latin typeface="Arial"/>
              </a:rPr>
              <a:t>K</a:t>
            </a:r>
            <a:r>
              <a:rPr b="0" i="1" lang="en-GB" sz="2400" spc="-1" strike="noStrike" baseline="30000">
                <a:solidFill>
                  <a:srgbClr val="006633"/>
                </a:solidFill>
                <a:latin typeface="Arial"/>
              </a:rPr>
              <a:t>inf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6633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)</a:t>
            </a:r>
            <a:r>
              <a:rPr b="0" i="1" lang="en-GB" sz="24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en-GB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= </a:t>
            </a:r>
            <a:r>
              <a:rPr b="0" lang="en-GB" sz="2400" spc="-1" strike="noStrike">
                <a:solidFill>
                  <a:srgbClr val="006633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en-GB" sz="2400" spc="-1" strike="noStrike">
                <a:solidFill>
                  <a:srgbClr val="006633"/>
                </a:solidFill>
                <a:latin typeface="Arial"/>
              </a:rPr>
              <a:t>x 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i="1" lang="en-GB" sz="2400" spc="-1" strike="noStrike">
                <a:solidFill>
                  <a:srgbClr val="006633"/>
                </a:solidFill>
                <a:latin typeface="Arial"/>
              </a:rPr>
              <a:t>Inf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6633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)</a:t>
            </a:r>
            <a:r>
              <a:rPr b="0" i="1" lang="en-GB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i="1" lang="en-GB" sz="2400" spc="-1" strike="noStrike">
                <a:solidFill>
                  <a:srgbClr val="006633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6633"/>
                </a:solidFill>
                <a:latin typeface="Symbol"/>
                <a:ea typeface="Symbol"/>
              </a:rPr>
              <a:t>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6633"/>
                </a:solidFill>
                <a:latin typeface="Arial"/>
              </a:rPr>
              <a:t>K</a:t>
            </a:r>
            <a:r>
              <a:rPr b="0" i="1" lang="en-GB" sz="2400" spc="-1" strike="noStrike" baseline="30000">
                <a:solidFill>
                  <a:srgbClr val="006633"/>
                </a:solidFill>
                <a:latin typeface="Arial"/>
              </a:rPr>
              <a:t>exp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6633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)</a:t>
            </a:r>
            <a:r>
              <a:rPr b="0" i="1" lang="en-GB" sz="24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0000"/>
                </a:solidFill>
                <a:latin typeface="Arial"/>
              </a:rPr>
              <a:t>K</a:t>
            </a:r>
            <a:r>
              <a:rPr b="0" i="1" lang="en-GB" sz="2400" spc="-1" strike="noStrike" baseline="30000">
                <a:solidFill>
                  <a:srgbClr val="990000"/>
                </a:solidFill>
                <a:latin typeface="Arial"/>
              </a:rPr>
              <a:t>exp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99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0" i="1" lang="en-GB" sz="24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en-GB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990000"/>
                </a:solidFill>
                <a:latin typeface="Arial"/>
              </a:rPr>
              <a:t>K</a:t>
            </a:r>
            <a:r>
              <a:rPr b="0" i="1" lang="en-GB" sz="2400" spc="-1" strike="noStrike" baseline="30000">
                <a:solidFill>
                  <a:srgbClr val="990000"/>
                </a:solidFill>
                <a:latin typeface="Arial"/>
              </a:rPr>
              <a:t>inf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99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0" i="1" lang="en-GB" sz="24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en-GB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99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990000"/>
                </a:solidFill>
                <a:latin typeface="Arial"/>
              </a:rPr>
              <a:t>K</a:t>
            </a:r>
            <a:r>
              <a:rPr b="0" i="1" lang="en-GB" sz="2400" spc="-1" strike="noStrike" baseline="30000">
                <a:solidFill>
                  <a:srgbClr val="990000"/>
                </a:solidFill>
                <a:latin typeface="Arial"/>
              </a:rPr>
              <a:t>imp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99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0" i="1" lang="en-GB" sz="24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i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cionál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vědou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Epistémické postoje (faktiv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ědět, že, pochopit, ž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po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om ví, že Měsíc je větší než Země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edy, Měsíc je větší než Země. Ale to není pravda, pro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om neví, že Měsíc je větší než Země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le z toho také plyne, že Měsíc je větší než Země. Proto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ni jedna z obou vět nemůže být pravdivá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Presupozice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: to, co je věděno, musí být pravda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Epistémické postoje (faktiv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chť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 takový vztah označený faktivem. Pak v jednotlivých případech platí tato pravidla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a)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intenzionální případ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tj.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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epistémický vztah k 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ropozici.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1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K</a:t>
            </a:r>
            <a:r>
              <a:rPr b="0" i="1" lang="cs-CZ" sz="21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 x p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]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1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K</a:t>
            </a:r>
            <a:r>
              <a:rPr b="0" i="1" lang="cs-CZ" sz="21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 x p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990000"/>
                </a:solidFill>
                <a:latin typeface="Symbol"/>
                <a:ea typeface="Symbol"/>
              </a:rPr>
              <a:t>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990000"/>
                </a:solidFill>
                <a:latin typeface="Symbol"/>
                <a:ea typeface="Symbol"/>
              </a:rPr>
              <a:t>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1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True</a:t>
            </a:r>
            <a:r>
              <a:rPr b="0" i="1" lang="cs-CZ" sz="21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p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]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1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True</a:t>
            </a:r>
            <a:r>
              <a:rPr b="0" i="1" lang="cs-CZ" sz="21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990000"/>
                </a:solidFill>
                <a:latin typeface="Arial"/>
              </a:rPr>
              <a:t>p</a:t>
            </a:r>
            <a:r>
              <a:rPr b="0" lang="cs-CZ" sz="2100" spc="-1" strike="noStrike">
                <a:solidFill>
                  <a:srgbClr val="990000"/>
                </a:solidFill>
                <a:latin typeface="Arial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ypy: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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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„Karel ví, že Tallin je město“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|= “Tallin je měst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8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Vědět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Karel 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Město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allin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]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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Město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allin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312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Kdyby Tallin nebyl město, nebyla by tato věta ani pravdivá ani nepravdivá. Z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y samotné však presupozice dokazatelná není. Proto musíme formulovat ta pravidl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Epistémické postoje (faktiv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978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hyperintenzionální přípa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1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vztah ke konstrukci pro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990000"/>
                </a:solidFill>
                <a:latin typeface="Arial"/>
              </a:rPr>
              <a:t>K*</a:t>
            </a:r>
            <a:r>
              <a:rPr b="0" i="1" lang="cs-CZ" sz="20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000" spc="-1" strike="noStrike">
                <a:solidFill>
                  <a:srgbClr val="990000"/>
                </a:solidFill>
                <a:latin typeface="Arial"/>
              </a:rPr>
              <a:t> x c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] 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990000"/>
                </a:solidFill>
                <a:latin typeface="Arial"/>
              </a:rPr>
              <a:t>K*</a:t>
            </a:r>
            <a:r>
              <a:rPr b="0" i="1" lang="cs-CZ" sz="20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000" spc="-1" strike="noStrike">
                <a:solidFill>
                  <a:srgbClr val="990000"/>
                </a:solidFill>
                <a:latin typeface="Arial"/>
              </a:rPr>
              <a:t> x c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00"/>
                </a:solidFill>
                <a:latin typeface="Symbol"/>
                <a:ea typeface="Symbol"/>
              </a:rPr>
              <a:t>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0000"/>
                </a:solidFill>
                <a:latin typeface="Symbol"/>
                <a:ea typeface="Symbol"/>
              </a:rPr>
              <a:t>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990000"/>
                </a:solidFill>
                <a:latin typeface="Arial"/>
              </a:rPr>
              <a:t>True</a:t>
            </a:r>
            <a:r>
              <a:rPr b="0" i="1" lang="cs-CZ" sz="20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r>
              <a:rPr b="0" i="1" lang="cs-CZ" sz="2000" spc="-1" strike="noStrike">
                <a:solidFill>
                  <a:srgbClr val="99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] 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990000"/>
                </a:solidFill>
                <a:latin typeface="Arial"/>
              </a:rPr>
              <a:t>True</a:t>
            </a:r>
            <a:r>
              <a:rPr b="0" i="1" lang="cs-CZ" sz="20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r>
              <a:rPr b="0" i="1" lang="cs-CZ" sz="2000" spc="-1" strike="noStrike">
                <a:solidFill>
                  <a:srgbClr val="99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y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*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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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Karel neví*, že Petr je starší než Eva.“ |= „Petr je starší než Eva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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Vědět*</a:t>
            </a:r>
            <a:r>
              <a:rPr b="0" i="1" lang="cs-CZ" sz="20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Karel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Starší</a:t>
            </a:r>
            <a:r>
              <a:rPr b="0" i="1" lang="cs-CZ" sz="20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Petr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Eva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]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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20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Starší</a:t>
            </a:r>
            <a:r>
              <a:rPr b="0" i="1" lang="cs-CZ" sz="20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Petr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Eva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]] = </a:t>
            </a: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Starší</a:t>
            </a:r>
            <a:r>
              <a:rPr b="0" i="1" lang="cs-CZ" sz="20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Petr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Eva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y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ědět*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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tarší(než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oužili jsme pravidlo 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20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C = 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Cvi</a:t>
            </a: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čení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 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Intenzionální hled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en-US" sz="3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Hledat</a:t>
            </a:r>
            <a:r>
              <a:rPr b="0" i="1" lang="en-US" sz="30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lang="en-US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Tom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Snezny </a:t>
            </a:r>
            <a:r>
              <a:rPr b="0" lang="en-US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Muz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]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= [</a:t>
            </a:r>
            <a:r>
              <a:rPr b="0" lang="en-US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Snezny </a:t>
            </a:r>
            <a:r>
              <a:rPr b="0" lang="en-US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Muz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US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Yetti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]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en-US" sz="3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en-US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Hledat</a:t>
            </a:r>
            <a:r>
              <a:rPr b="0" i="1" lang="en-US" sz="30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lang="en-US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Tom </a:t>
            </a:r>
            <a:r>
              <a:rPr b="0" lang="en-US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Yetti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]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 je identi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vlastnosti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tj. můžeme použít Leibnizův zákon substituce ident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udek je platn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Epistémické postoje (faktiv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4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2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6633"/>
                </a:solidFill>
                <a:latin typeface="Arial"/>
              </a:rPr>
              <a:t>matematický vztah ke konstrukci pravdivostní hodno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K*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x d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] 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K*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x d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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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y: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K*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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25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cs-CZ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Karel neví*, že 2 je prvočíslo.“ |= „2 je prvočíslo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6633"/>
                </a:solidFill>
                <a:latin typeface="Symbol"/>
                <a:ea typeface="Symbol"/>
              </a:rPr>
              <a:t>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Vědět*</a:t>
            </a:r>
            <a:r>
              <a:rPr b="0" i="1" lang="cs-CZ" sz="26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Karel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Prime </a:t>
            </a:r>
            <a:r>
              <a:rPr b="0" lang="cs-CZ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2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]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6633"/>
                </a:solidFill>
                <a:latin typeface="Symbol"/>
                <a:ea typeface="Symbol"/>
              </a:rPr>
              <a:t>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Prime </a:t>
            </a:r>
            <a:r>
              <a:rPr b="0" lang="cs-CZ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2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ostoje </a:t>
            </a: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de dicto 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vs. </a:t>
            </a: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de 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62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De di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om si myslí, že papež není pape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De 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om si o papeži myslí, že (on) není pape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Logicky nezávislé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dict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re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i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va principy de r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obecně neplatí v případě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de dicto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Existenční presupoz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Substituce ko-referenčních výraz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Logická nezávislost </a:t>
            </a: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de dicto 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a </a:t>
            </a: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de 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 postoje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e dicto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vyplývá postoj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e 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om si myslí, že papež je moudrý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Může si to myslet, i když papež neexistuje (pak ale nemůže být pravdivý postoj de re) a vůbec netuší, kdo je pape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dálo by se však, že z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stoje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de r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vyplývá postoj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e dict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kud si Tom o papeži myslí, že je moudrý, pak si myslí, že papež je moudrý ??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ení tomu tak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Tom může být kamarádem Františka, aniž by tušil, že jeho kamarád se stal papežem. Přitom si o Františkovi myslí, že je moudrý, tedy si to myslí o papežovi, ale nemusí si myslet, že papež je moudr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ině tehdy, když přidáme další premisu, že </a:t>
            </a:r>
            <a:r>
              <a:rPr b="0" i="1" lang="cs-CZ" sz="2600" spc="-1" strike="noStrike">
                <a:solidFill>
                  <a:srgbClr val="28571f"/>
                </a:solidFill>
                <a:latin typeface="Arial"/>
              </a:rPr>
              <a:t>Tom ví, kdo je papež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můžeme logicky vyvodit jeden postoj z druhého a naopak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6633"/>
                </a:solidFill>
                <a:latin typeface="Garamond"/>
              </a:rPr>
              <a:t>Intenzionální postoje </a:t>
            </a:r>
            <a:r>
              <a:rPr b="1" i="1" lang="cs-CZ" sz="4200" spc="-1" strike="noStrike">
                <a:solidFill>
                  <a:srgbClr val="006633"/>
                </a:solidFill>
                <a:latin typeface="Garamond"/>
              </a:rPr>
              <a:t>de dic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Tom si myslí, že primátor města Ostravy je moudrý“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om má postoj k 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ropozici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že primátor města Ostravy je moudrý, konstruované Uzávěrem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Moudrý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y: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Moudrý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 úřad primátora města Ostrav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MO =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rimátor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], kde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rimátor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něčeho)/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Myslí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om 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Moudrý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PMO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]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datečné typy: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Mysl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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o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6633"/>
                </a:solidFill>
                <a:latin typeface="Garamond"/>
              </a:rPr>
              <a:t>Intenzionální postoje </a:t>
            </a:r>
            <a:r>
              <a:rPr b="1" i="1" lang="cs-CZ" sz="4200" spc="-1" strike="noStrike">
                <a:solidFill>
                  <a:srgbClr val="006633"/>
                </a:solidFill>
                <a:latin typeface="Garamond"/>
              </a:rPr>
              <a:t>de dic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30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t</a:t>
            </a:r>
            <a:r>
              <a:rPr b="0" lang="cs-CZ" sz="3000" spc="-1" strike="noStrike">
                <a:solidFill>
                  <a:srgbClr val="990000"/>
                </a:solidFill>
                <a:latin typeface="Arial"/>
              </a:rPr>
              <a:t> [</a:t>
            </a:r>
            <a:r>
              <a:rPr b="0" lang="cs-CZ" sz="3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Myslí</a:t>
            </a:r>
            <a:r>
              <a:rPr b="0" i="1" lang="cs-CZ" sz="30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3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Tom </a:t>
            </a:r>
            <a:r>
              <a:rPr b="0" lang="cs-CZ" sz="30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30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t</a:t>
            </a:r>
            <a:r>
              <a:rPr b="0" lang="cs-CZ" sz="3000" spc="-1" strike="noStrike">
                <a:solidFill>
                  <a:srgbClr val="990000"/>
                </a:solidFill>
                <a:latin typeface="Arial"/>
              </a:rPr>
              <a:t> [</a:t>
            </a:r>
            <a:r>
              <a:rPr b="0" lang="cs-CZ" sz="3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Moudrý</a:t>
            </a:r>
            <a:r>
              <a:rPr b="0" i="1" lang="cs-CZ" sz="30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3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PMO</a:t>
            </a:r>
            <a:r>
              <a:rPr b="0" i="1" lang="cs-CZ" sz="30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lang="cs-CZ" sz="3000" spc="-1" strike="noStrike">
                <a:solidFill>
                  <a:srgbClr val="990000"/>
                </a:solidFill>
                <a:latin typeface="Arial"/>
              </a:rPr>
              <a:t>]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chť </a:t>
            </a:r>
            <a:r>
              <a:rPr b="0" lang="cs-CZ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cs-CZ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Kajn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28571f"/>
                </a:solidFill>
                <a:latin typeface="Arial"/>
              </a:rPr>
              <a:t>Neplyne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že Tom si myslí, že Kajnar je moudr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Moudrý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Moudrý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Kajnar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28571f"/>
                </a:solidFill>
                <a:latin typeface="Arial"/>
              </a:rPr>
              <a:t>Neplyne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že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PMO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existuj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om si může myslet, že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 moudrý, ačkoliv je úřad zrovna neobsazen. Pak prostě daná propozice aktuálně nemá pravdivostní hodnotu, ale Tom to neví, myslí si, že má hodnotu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6633"/>
                </a:solidFill>
                <a:latin typeface="Garamond"/>
              </a:rPr>
              <a:t>Intenzionální postoje </a:t>
            </a:r>
            <a:r>
              <a:rPr b="1" i="1" lang="cs-CZ" sz="4200" spc="-1" strike="noStrike">
                <a:solidFill>
                  <a:srgbClr val="006633"/>
                </a:solidFill>
                <a:latin typeface="Garamond"/>
              </a:rPr>
              <a:t>de dic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Myslí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om 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Moudrý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PMO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]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chť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MO = </a:t>
            </a:r>
            <a:r>
              <a:rPr b="0" i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rosta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lyn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že Tom si myslí, ž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osta Ostravy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je moudr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Moudrý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Moudrý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arosta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az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je zřejm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V případě intenzionálního postoje 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de dicto 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můžeme substituovat tutéž intensi (i když jinak konceptualizovano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Hyperintensionální postoje </a:t>
            </a: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de dic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Myslí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om </a:t>
            </a:r>
            <a:r>
              <a:rPr b="0" lang="en-US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Moudrý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PMO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]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]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chť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MO = </a:t>
            </a:r>
            <a:r>
              <a:rPr b="0" i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rosta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Nep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lyn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že Tom si myslí, ž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osta Ostravy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je moudr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Moudrý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cs-CZ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Moudrý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arosta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az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je zřejm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V případě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hyper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intenzionálního postoje 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de dicto </a:t>
            </a:r>
            <a:r>
              <a:rPr b="0" i="1" lang="en-US" sz="2600" spc="-1" strike="noStrike">
                <a:solidFill>
                  <a:srgbClr val="990000"/>
                </a:solidFill>
                <a:latin typeface="Arial"/>
              </a:rPr>
              <a:t>ne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můžeme substituovat tutéž intensi (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pokud je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 jinak konceptualizovaná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ůžeme substituovat pouze procedurálně isomorfní konstruk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6633"/>
                </a:solidFill>
                <a:latin typeface="Garamond"/>
              </a:rPr>
              <a:t>Intenzionální postoje </a:t>
            </a:r>
            <a:r>
              <a:rPr b="1" i="1" lang="cs-CZ" sz="4200" spc="-1" strike="noStrike">
                <a:solidFill>
                  <a:srgbClr val="006633"/>
                </a:solidFill>
                <a:latin typeface="Garamond"/>
              </a:rPr>
              <a:t>de 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„</a:t>
            </a: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Tom si o primátorovi města Ostravy myslí, </a:t>
            </a:r>
            <a:br>
              <a:rPr sz="3000"/>
            </a:b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že (on) je moudrý“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má tu vlastnost, že si o něm Tom myslí, že je moudrý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 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MTM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PMO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]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MTM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 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x 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Myslí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om 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 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Moudrý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x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]]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PMO = 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en-US" sz="26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en-US" sz="2600" spc="-1" strike="noStrike">
                <a:solidFill>
                  <a:srgbClr val="990000"/>
                </a:solidFill>
                <a:latin typeface="Arial"/>
              </a:rPr>
              <a:t>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Primátor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990000"/>
                </a:solidFill>
                <a:latin typeface="Arial"/>
              </a:rPr>
              <a:t>Ostrava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6633"/>
                </a:solidFill>
                <a:latin typeface="Garamond"/>
              </a:rPr>
              <a:t>Intenzionální postoje </a:t>
            </a:r>
            <a:r>
              <a:rPr b="1" i="1" lang="cs-CZ" sz="4200" spc="-1" strike="noStrike">
                <a:solidFill>
                  <a:srgbClr val="006633"/>
                </a:solidFill>
                <a:latin typeface="Garamond"/>
              </a:rPr>
              <a:t>de 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„</a:t>
            </a: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Tom si o primátorovi města Ostravy myslí, </a:t>
            </a:r>
            <a:br>
              <a:rPr sz="3000"/>
            </a:b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že (on) je moudrý“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Pomocí substituční metod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30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t </a:t>
            </a:r>
            <a:r>
              <a:rPr b="0" lang="cs-CZ" sz="30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3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Myslí</a:t>
            </a:r>
            <a:r>
              <a:rPr b="0" i="1" lang="cs-CZ" sz="30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3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Tom </a:t>
            </a:r>
            <a:r>
              <a:rPr b="0" lang="cs-CZ" sz="30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r>
              <a:rPr b="0" lang="cs-CZ" sz="30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3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Sub </a:t>
            </a:r>
            <a:r>
              <a:rPr b="0" lang="cs-CZ" sz="30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3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Tr </a:t>
            </a:r>
            <a:r>
              <a:rPr b="0" lang="cs-CZ" sz="3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PMO</a:t>
            </a:r>
            <a:r>
              <a:rPr b="0" i="1" lang="cs-CZ" sz="30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lang="cs-CZ" sz="3000" spc="-1" strike="noStrike">
                <a:solidFill>
                  <a:srgbClr val="990000"/>
                </a:solidFill>
                <a:latin typeface="Arial"/>
              </a:rPr>
              <a:t>] </a:t>
            </a:r>
            <a:r>
              <a:rPr b="0" lang="cs-CZ" sz="3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3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lang="cs-CZ" sz="30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30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w’</a:t>
            </a:r>
            <a:r>
              <a:rPr b="0" lang="cs-CZ" sz="30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t’ </a:t>
            </a:r>
            <a:r>
              <a:rPr b="0" lang="cs-CZ" sz="30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30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Moudrý</a:t>
            </a:r>
            <a:r>
              <a:rPr b="0" i="1" lang="cs-CZ" sz="3000" spc="-1" strike="noStrike" baseline="-25000">
                <a:solidFill>
                  <a:srgbClr val="990000"/>
                </a:solidFill>
                <a:latin typeface="Arial"/>
              </a:rPr>
              <a:t>w’t’</a:t>
            </a:r>
            <a:r>
              <a:rPr b="0" i="1" lang="cs-CZ" sz="3000" spc="-1" strike="noStrike">
                <a:solidFill>
                  <a:srgbClr val="990000"/>
                </a:solidFill>
                <a:latin typeface="Arial"/>
              </a:rPr>
              <a:t> on</a:t>
            </a:r>
            <a:r>
              <a:rPr b="0" lang="cs-CZ" sz="3000" spc="-1" strike="noStrike">
                <a:solidFill>
                  <a:srgbClr val="990000"/>
                </a:solidFill>
                <a:latin typeface="Arial"/>
              </a:rPr>
              <a:t>]]]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PMO = 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en-US" sz="2600" spc="-1" strike="noStrike">
                <a:solidFill>
                  <a:srgbClr val="99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en-US" sz="2600" spc="-1" strike="noStrike">
                <a:solidFill>
                  <a:srgbClr val="990000"/>
                </a:solidFill>
                <a:latin typeface="Arial"/>
              </a:rPr>
              <a:t>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Primátor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990000"/>
                </a:solidFill>
                <a:latin typeface="Arial"/>
              </a:rPr>
              <a:t>Ostrava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Intenzionální postoj </a:t>
            </a: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de 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chť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Kajn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V obou případech </a:t>
            </a:r>
            <a:r>
              <a:rPr b="0" i="1" lang="cs-CZ" sz="2600" spc="-1" strike="noStrike">
                <a:solidFill>
                  <a:srgbClr val="28571f"/>
                </a:solidFill>
                <a:latin typeface="Arial"/>
              </a:rPr>
              <a:t>plyn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že Tom si o Kajnarovi myslí, že je moudr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28571f"/>
                </a:solidFill>
                <a:latin typeface="Arial"/>
              </a:rPr>
              <a:t>Plyn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že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MO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xistuje, je to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resupoz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ále plyne, ž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existuje někdo, o kom si Tom myslí, že je moudr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Myslí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om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Sub 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r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PMO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]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on </a:t>
            </a:r>
            <a:br>
              <a:rPr sz="2600"/>
            </a:b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w’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’ 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Moudrý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’t’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on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]]]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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Myslí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t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om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Sub 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r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x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] 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on </a:t>
            </a:r>
            <a:br>
              <a:rPr sz="2600"/>
            </a:b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w’</a:t>
            </a:r>
            <a:r>
              <a:rPr b="0" lang="cs-CZ" sz="26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t’ 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cs-CZ" sz="26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Moudrý</a:t>
            </a:r>
            <a:r>
              <a:rPr b="0" i="1" lang="cs-CZ" sz="2600" spc="-1" strike="noStrike" baseline="-25000">
                <a:solidFill>
                  <a:srgbClr val="990000"/>
                </a:solidFill>
                <a:latin typeface="Arial"/>
              </a:rPr>
              <a:t>w’t’</a:t>
            </a: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 on</a:t>
            </a:r>
            <a:r>
              <a:rPr b="0" lang="cs-CZ" sz="2600" spc="-1" strike="noStrike">
                <a:solidFill>
                  <a:srgbClr val="990000"/>
                </a:solidFill>
                <a:latin typeface="Arial"/>
              </a:rPr>
              <a:t>]]]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Cvičení 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Hyperintenzionální hled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36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Hledat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*</a:t>
            </a:r>
            <a:r>
              <a:rPr b="0" i="1" lang="en-US" sz="21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Tom </a:t>
            </a:r>
            <a:r>
              <a:rPr b="1" lang="en-US" sz="21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Snezny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Muz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= 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Snezny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Muz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Yetti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---------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Hledat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*</a:t>
            </a:r>
            <a:r>
              <a:rPr b="0" i="1" lang="en-US" sz="21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Tom </a:t>
            </a:r>
            <a:r>
              <a:rPr b="1" lang="en-US" sz="21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Yetti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je identita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last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le Tom má vztah ke konstrukci té vlastnosti. Nemůžeme použít Leibnizův zákon substituce ident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dek j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tn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by byl platný, musela by druhá premisa stanovit identitu (nebo procedurální isomorfii) konstruk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=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Snezny 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Muz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Yetti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=*/(</a:t>
            </a: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</a:t>
            </a:r>
            <a:r>
              <a:rPr b="0" i="1" lang="cs-CZ" sz="2000" spc="-1" strike="noStrike" baseline="-25000">
                <a:solidFill>
                  <a:srgbClr val="006633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</a:t>
            </a:r>
            <a:r>
              <a:rPr b="0" i="1" lang="cs-CZ" sz="2000" spc="-1" strike="noStrike" baseline="-25000">
                <a:solidFill>
                  <a:srgbClr val="006633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j. výrazy „sněžný muž“ a „yetti“ by musely být </a:t>
            </a:r>
            <a:r>
              <a:rPr b="0" i="1" lang="cs-CZ" sz="2000" spc="-1" strike="noStrike">
                <a:solidFill>
                  <a:srgbClr val="990000"/>
                </a:solidFill>
                <a:latin typeface="Arial"/>
              </a:rPr>
              <a:t>striktně synonymn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Ale to nejsou, jsou pouze </a:t>
            </a:r>
            <a:r>
              <a:rPr b="0" i="1" lang="cs-CZ" sz="2000" spc="-1" strike="noStrike">
                <a:solidFill>
                  <a:srgbClr val="990000"/>
                </a:solidFill>
                <a:latin typeface="Arial"/>
              </a:rPr>
              <a:t>ekvivalent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Logika </a:t>
            </a: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propozičních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postoj</a:t>
            </a: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ů - shrnut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495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um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tt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věří, ví, myslí si), že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At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</a:t>
            </a:r>
            <a:r>
              <a:rPr b="0" lang="cs-CZ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: vztah individua k 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propozic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Att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</a:t>
            </a:r>
            <a:r>
              <a:rPr b="0" i="1" lang="cs-CZ" sz="1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: vztah individua k 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hyperpropozic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12640" indent="-495000">
              <a:lnSpc>
                <a:spcPct val="80000"/>
              </a:lnSpc>
              <a:spcBef>
                <a:spcPts val="24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vě logicky nezávislé varianty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de dicto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de 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2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Intensionální postoj De dicto (vztah k propozici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Att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]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Hyperi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ntensionální postoj De dicto (vztah k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e konstrukci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 propozic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At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]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Intensionální postoj De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Att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r 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]]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Hyperi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ntensionální postoj De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At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r 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]]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,b,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Příklady ze cvičení 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324000" y="1195560"/>
            <a:ext cx="83628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hyperintensionální kontex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915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Celá konstrukce C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je objektem predikace (argumentem), tedy její výstup – funkce, kterou konstruuje, pokud vůbec něco, je irelevant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konstrukce C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není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užita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v módu provádění, ale její výskyt je pouze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zmíněn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displayed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) Trivializ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Všechny podkonstrukce C (včetně proměnných) jsou pouze zmíněny hyperintensionálně, nejsou v módu provádě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ak tedy pracovat s konstrukcí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jejíž výskyt je hyperintensionální? Jak budeme operovat na hyperintensionálním kontextu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990000"/>
                </a:solidFill>
                <a:latin typeface="Arial"/>
              </a:rPr>
              <a:t>Substituční metoda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Příklady ze cvičení 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628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kažte platnost úsudku, a to pro obojí případ, tj. jak intensionální tak hyperintensionální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om hledá sněžného muž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–––––––––––––––––––––––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om hledá něco sněžné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2251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Hyperintenzionální hled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Hledat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*</a:t>
            </a:r>
            <a:r>
              <a:rPr b="0" i="1" lang="en-US" sz="20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Tom 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Snezny 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Muz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-------------------------------------------------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--------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6633"/>
                </a:solidFill>
                <a:latin typeface="Symbol"/>
                <a:ea typeface="Symbol"/>
              </a:rPr>
              <a:t>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Hledat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*</a:t>
            </a:r>
            <a:r>
              <a:rPr b="0" i="1" lang="en-US" sz="20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Tom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Sub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Tr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Snezny q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]]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lnSpc>
                <a:spcPct val="80000"/>
              </a:lnSpc>
              <a:spcBef>
                <a:spcPts val="2024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ledat*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m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ezny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dpo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ledat*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m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Sub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Snezny q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]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abst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t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ledat*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m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Sub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Snezny q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]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]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o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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ledat*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m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Sub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Snezny q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]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istenční 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Sub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Snezny q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]] =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v(Muz/p) 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Snezny </a:t>
            </a:r>
            <a:r>
              <a:rPr b="0" lang="en-US" sz="18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Muz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]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Příklady ze cvičení 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nalyzujte a dokažte platnost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om řeší rovnici Sin(x)=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–––––––––––––––––––––––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om něco řeší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990000"/>
                </a:solidFill>
                <a:latin typeface="Arial"/>
              </a:rPr>
              <a:t>Resit/(</a:t>
            </a:r>
            <a:r>
              <a:rPr b="0" lang="cs-CZ" sz="2200" spc="-1" strike="noStrike">
                <a:solidFill>
                  <a:srgbClr val="990000"/>
                </a:solidFill>
                <a:latin typeface="Symbol"/>
                <a:ea typeface="Symbol"/>
              </a:rPr>
              <a:t></a:t>
            </a:r>
            <a:r>
              <a:rPr b="0" lang="cs-CZ" sz="2200" spc="-1" strike="noStrike" baseline="-25000">
                <a:solidFill>
                  <a:srgbClr val="990000"/>
                </a:solidFill>
                <a:latin typeface="Arial"/>
              </a:rPr>
              <a:t>1</a:t>
            </a:r>
            <a:r>
              <a:rPr b="0" i="1" lang="cs-CZ" sz="22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0" lang="cs-CZ" sz="22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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tah individua (zde Tom) ke konstrukci, o které chce zjistit, co konstruu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0" lang="en-US" sz="2200" spc="-1" strike="noStrike">
                <a:solidFill>
                  <a:srgbClr val="990000"/>
                </a:solidFill>
                <a:latin typeface="Symbol"/>
                <a:ea typeface="Symbol"/>
              </a:rPr>
              <a:t></a:t>
            </a:r>
            <a:r>
              <a:rPr b="0" lang="en-US" sz="22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i="1" lang="en-US" sz="2200" spc="-1" strike="noStrike" baseline="-25000">
                <a:solidFill>
                  <a:srgbClr val="990000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0000"/>
                </a:solidFill>
                <a:latin typeface="Symbol"/>
                <a:ea typeface="Symbol"/>
              </a:rPr>
              <a:t></a:t>
            </a:r>
            <a:r>
              <a:rPr b="0" lang="cs-CZ" sz="2200" spc="-1" strike="noStrike" baseline="-25000">
                <a:solidFill>
                  <a:srgbClr val="99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; </a:t>
            </a:r>
            <a:r>
              <a:rPr b="0" lang="en-US" sz="22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990000"/>
                </a:solidFill>
                <a:latin typeface="Arial"/>
              </a:rPr>
              <a:t>x </a:t>
            </a:r>
            <a:r>
              <a:rPr b="0" lang="da-DK" sz="2200" spc="-1" strike="noStrike">
                <a:solidFill>
                  <a:srgbClr val="990000"/>
                </a:solidFill>
                <a:latin typeface="Arial"/>
              </a:rPr>
              <a:t>[[</a:t>
            </a:r>
            <a:r>
              <a:rPr b="0" lang="da-DK" sz="22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0" i="1" lang="da-DK" sz="2200" spc="-1" strike="noStrike">
                <a:solidFill>
                  <a:srgbClr val="990000"/>
                </a:solidFill>
                <a:latin typeface="Arial"/>
              </a:rPr>
              <a:t>Sin x</a:t>
            </a:r>
            <a:r>
              <a:rPr b="0" lang="da-DK" sz="2200" spc="-1" strike="noStrike">
                <a:solidFill>
                  <a:srgbClr val="990000"/>
                </a:solidFill>
                <a:latin typeface="Arial"/>
              </a:rPr>
              <a:t>]</a:t>
            </a:r>
            <a:r>
              <a:rPr b="0" i="1" lang="da-DK" sz="2200" spc="-1" strike="noStrike">
                <a:solidFill>
                  <a:srgbClr val="990000"/>
                </a:solidFill>
                <a:latin typeface="Arial"/>
              </a:rPr>
              <a:t> = </a:t>
            </a:r>
            <a:r>
              <a:rPr b="0" lang="da-DK" sz="2200" spc="-1" strike="noStrike">
                <a:solidFill>
                  <a:srgbClr val="990000"/>
                </a:solidFill>
                <a:latin typeface="Arial"/>
              </a:rPr>
              <a:t>0]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] /</a:t>
            </a:r>
            <a:r>
              <a:rPr b="0" lang="en-US" sz="2200" spc="-1" strike="noStrike">
                <a:solidFill>
                  <a:srgbClr val="990000"/>
                </a:solidFill>
                <a:latin typeface="Symbol"/>
                <a:ea typeface="Symbol"/>
              </a:rPr>
              <a:t></a:t>
            </a:r>
            <a:r>
              <a:rPr b="0" lang="en-US" sz="22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i="1" lang="en-US" sz="2200" spc="-1" strike="noStrike" baseline="-25000">
                <a:solidFill>
                  <a:srgbClr val="990000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0000"/>
                </a:solidFill>
                <a:latin typeface="Symbol"/>
                <a:ea typeface="Symbol"/>
              </a:rPr>
              <a:t></a:t>
            </a:r>
            <a:r>
              <a:rPr b="0" lang="cs-CZ" sz="2200" spc="-1" strike="noStrike" baseline="-25000">
                <a:solidFill>
                  <a:srgbClr val="99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[[</a:t>
            </a:r>
            <a:r>
              <a:rPr b="0" lang="da-DK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a-DK" sz="2200" spc="-1" strike="noStrike">
                <a:solidFill>
                  <a:srgbClr val="000000"/>
                </a:solidFill>
                <a:latin typeface="Arial"/>
              </a:rPr>
              <a:t>Sin x</a:t>
            </a: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da-DK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0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 /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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24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Resit</a:t>
            </a:r>
            <a:r>
              <a:rPr b="0" i="1" lang="en-US" sz="22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lang="en-US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Tom </a:t>
            </a:r>
            <a:r>
              <a:rPr b="0" lang="en-US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x </a:t>
            </a:r>
            <a:r>
              <a:rPr b="0" lang="da-DK" sz="2200" spc="-1" strike="noStrike">
                <a:solidFill>
                  <a:srgbClr val="006633"/>
                </a:solidFill>
                <a:latin typeface="Arial"/>
              </a:rPr>
              <a:t>[[</a:t>
            </a:r>
            <a:r>
              <a:rPr b="0" lang="da-DK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da-DK" sz="2200" spc="-1" strike="noStrike">
                <a:solidFill>
                  <a:srgbClr val="006633"/>
                </a:solidFill>
                <a:latin typeface="Arial"/>
              </a:rPr>
              <a:t>Sin x</a:t>
            </a:r>
            <a:r>
              <a:rPr b="0" lang="da-DK" sz="22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i="1" lang="da-DK" sz="2200" spc="-1" strike="noStrike">
                <a:solidFill>
                  <a:srgbClr val="006633"/>
                </a:solidFill>
                <a:latin typeface="Arial"/>
              </a:rPr>
              <a:t> = </a:t>
            </a:r>
            <a:r>
              <a:rPr b="0" lang="da-DK" sz="2200" spc="-1" strike="noStrike">
                <a:solidFill>
                  <a:srgbClr val="006633"/>
                </a:solidFill>
                <a:latin typeface="Arial"/>
              </a:rPr>
              <a:t>0]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]]</a:t>
            </a:r>
            <a:r>
              <a:rPr b="0" i="1" lang="en-US" sz="2200" spc="-1" strike="noStrike" baseline="-25000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 </a:t>
            </a:r>
            <a:br>
              <a:rPr sz="2200"/>
            </a:b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---------------------------------------------------</a:t>
            </a:r>
            <a:br>
              <a:rPr sz="2200"/>
            </a:br>
            <a:r>
              <a:rPr b="0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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c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Resit</a:t>
            </a:r>
            <a:r>
              <a:rPr b="0" i="1" lang="en-US" sz="22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lang="en-US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Tom c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Tři druhy kontextu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chť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 podkonstrukce konstrukce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996600"/>
                </a:solidFill>
                <a:latin typeface="Arial"/>
              </a:rPr>
              <a:t>Výskyt </a:t>
            </a:r>
            <a:r>
              <a:rPr b="0" i="1" lang="cs-CZ" sz="2100" spc="-1" strike="noStrike">
                <a:solidFill>
                  <a:srgbClr val="996600"/>
                </a:solidFill>
                <a:latin typeface="Arial"/>
              </a:rPr>
              <a:t>C </a:t>
            </a:r>
            <a:r>
              <a:rPr b="0" lang="cs-CZ" sz="2100" spc="-1" strike="noStrike">
                <a:solidFill>
                  <a:srgbClr val="996600"/>
                </a:solidFill>
                <a:latin typeface="Arial"/>
              </a:rPr>
              <a:t>v </a:t>
            </a:r>
            <a:r>
              <a:rPr b="0" i="1" lang="cs-CZ" sz="2100" spc="-1" strike="noStrike">
                <a:solidFill>
                  <a:srgbClr val="996600"/>
                </a:solidFill>
                <a:latin typeface="Arial"/>
              </a:rPr>
              <a:t>D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i="1" lang="cs-CZ" sz="2400" spc="-1" strike="noStrike">
                <a:solidFill>
                  <a:srgbClr val="990000"/>
                </a:solidFill>
                <a:latin typeface="Arial"/>
              </a:rPr>
              <a:t>hyperintensionální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jestliže je celá konstrukce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jektem predikace v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(argumentem). Řekneme, že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výskyt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C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je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zmíněn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v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D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ako argument. Pak všechny podkonstrukce tohoto výskytu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mají rovněž hyperintensionální výsky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37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: Tom počítá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Sin(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Po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čítá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om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Sin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6633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hyperint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čítá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1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cs-CZ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Trivializace konstrukce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(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) zvedá kontext nahoru na hyperintensionální úroveň (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C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a její podkonstrukce – hyperint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Dvojí Provedení snižuje kontext dolů na úroveň intensionální nebo extensionální: 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2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C = 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 rot="5400000">
            <a:off x="3887280" y="317628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6T19:08:29Z</dcterms:created>
  <dc:creator>Marie Duži</dc:creator>
  <dc:description/>
  <dc:language>en-US</dc:language>
  <cp:lastModifiedBy>Marie Duží</cp:lastModifiedBy>
  <dcterms:modified xsi:type="dcterms:W3CDTF">2017-11-13T16:05:12Z</dcterms:modified>
  <cp:revision>70</cp:revision>
  <dc:subject/>
  <dc:title>TIL</dc:title>
</cp:coreProperties>
</file>