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4FE-466E-4CA5-A3A8-499FD705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4D3-6984-45C1-96E7-CFF6E5B5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E84-7CEF-4E95-8999-D4AEB751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3C68-E0BE-46EF-9097-484EB616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DF3D-0DC2-4914-9F10-2649492A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8104-5A58-49B4-89A3-5F3CF61E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5032-D6A8-4AE7-9734-4BAB8DB3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7C88-089E-483D-863A-B2124649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4ACD-66F2-4003-B9B3-5BBDC69F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2AB2-4F4D-4D69-9C89-BBD5304A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C2C2-7B7C-4292-B8F8-3204F664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CCB-6B77-458B-95DF-C33A72C3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48A5-E9B6-4E86-91EC-0A45F106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920C-15A7-41D5-95D0-9A69CE2D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20CB-6F1F-46A2-9A65-BF6BB79F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293A-B9A9-4C3E-8267-01790443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80AA-77E1-4424-B489-4C4EA0D9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F852C-8D3F-44EB-BECC-316C1C63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28D8E-050B-457F-AEAF-76E0C21F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3181-5A6C-4D1B-9A73-587FA335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1E0CF-6B35-4796-A240-68CFFC4D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EF15-5694-48AF-8B59-D355EF14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4CF-86FE-46A9-989A-4D38013F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B8F1D-70F2-4190-8C01-2D31E5DE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346A7-F966-4F85-B5ED-C164D053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C81A-B969-4EA8-AF2F-C132FCBF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4C25-F70D-4D4A-B13A-513D2CB6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4659F-921A-496B-BAA3-FC1BEB01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D2CF-610B-4775-AC39-F4D70300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2575-DA58-482A-887D-10FF226F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A0A1-E2CD-4C48-B217-64571FBF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36853-F91E-4176-B737-9031F664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720B6-BF4E-4E08-B101-E5F1E1DF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52B-C4BF-449B-AEB9-9153FD7E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25E19-B16A-4CC1-9AC2-BE89B47D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4964F-34B7-48DD-9FA2-43D04229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9D616-1B43-42B2-8E50-966CF23A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114A2-70BE-4EFC-ACB9-CF63FC7F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0D902-DBDD-4E41-928C-BCC0ADB0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569F4-CA9D-4C5D-A3DB-36BEA3F9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33ED1-EFD5-4915-B848-B41D09E1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E35E5-151E-418A-9817-864FCBE3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C05AC-5134-465B-91F8-0E6E9BCB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21B-A045-402C-B56A-7F65A8E4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824-1E86-4029-9658-96720B76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9F7D-307F-4E61-9650-10C51F78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36F-B675-4FEE-8E36-80377D4B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4CC-6B35-4DED-BE52-1584F216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765A-B989-46E6-9F70-7D4DEB0B9E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42B3-579D-4665-9BE5-1EED61915E0C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9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BB81-97B0-48D2-A58B-787302F067D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2ABF-47C8-48F9-B2AC-BA87308A42DA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66"/>
                </a:solidFill>
                <a:latin typeface="Arial"/>
              </a:rPr>
              <a:t>Transparentní intensionální logika (TIL)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arie Duž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http://www.cs.vsb.cz/duzi/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aradox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4064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počítá 2 + 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2 + 5 = 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počítá 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Logiky postojů, … (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idipus hledá vrah svého ot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idipus je vrah svého ot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–––––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idipus hledá Oidip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aradox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esident ČR je manžel Ivan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an Sokol se chtěl stát presidentem Č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3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an Sokol se chtěl stát manželem Ivan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om si myslí, že francouzský král je moudr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––––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Francouzský král existu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Extenzionální vs. intenzionální kontex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711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dy je kontext extenzionální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ontext je extenzionální, když v něm platí pravidla </a:t>
            </a:r>
            <a:r>
              <a:rPr b="0" i="1" lang="cs-CZ" sz="2900" spc="-1" strike="noStrike">
                <a:solidFill>
                  <a:srgbClr val="006666"/>
                </a:solidFill>
                <a:latin typeface="Verdana"/>
              </a:rPr>
              <a:t>substituce identit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2900" spc="-1" strike="noStrike">
                <a:solidFill>
                  <a:srgbClr val="006666"/>
                </a:solidFill>
                <a:latin typeface="Verdana"/>
              </a:rPr>
              <a:t>existenční generaliz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 kdy tato pravidla platí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 extenzionálním kontex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hmm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TI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ohatý strom různých logi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Extenzionálních, intenzionálních, 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rostl zdol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Je to OK? Jedna univerzální logik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263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6666"/>
                </a:solidFill>
                <a:latin typeface="Verdana"/>
              </a:rPr>
              <a:t>TIL – universální logický ráme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„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top down“ přístu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rocedur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l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 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manti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s of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 TI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se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roced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0" i="1" lang="cs-CZ" sz="2800" spc="-1" strike="noStrike">
                <a:solidFill>
                  <a:srgbClr val="006633"/>
                </a:solidFill>
                <a:latin typeface="Arial"/>
              </a:rPr>
              <a:t>onstruc</a:t>
            </a:r>
            <a:r>
              <a:rPr b="0" i="1" lang="en-US" sz="2800" spc="-1" strike="noStrike">
                <a:solidFill>
                  <a:srgbClr val="006633"/>
                </a:solidFill>
                <a:latin typeface="Arial"/>
              </a:rPr>
              <a:t>ti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e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Ontolog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y of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 TIL: 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mified hierarchy of 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6D94-C478-40BA-955E-0D4CF410E86F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05" name="Přímá spojovací šipka 5"/>
          <p:cNvCxnSpPr/>
          <p:nvPr/>
        </p:nvCxnSpPr>
        <p:spPr>
          <a:xfrm>
            <a:off x="3779640" y="1844640"/>
            <a:ext cx="1080" cy="1153440"/>
          </a:xfrm>
          <a:prstGeom prst="straightConnector1">
            <a:avLst/>
          </a:prstGeom>
          <a:ln w="3168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206" name="Přímá spojovací šipka 7"/>
          <p:cNvCxnSpPr/>
          <p:nvPr/>
        </p:nvCxnSpPr>
        <p:spPr>
          <a:xfrm>
            <a:off x="3779640" y="3429000"/>
            <a:ext cx="1080" cy="1224720"/>
          </a:xfrm>
          <a:prstGeom prst="straightConnector1">
            <a:avLst/>
          </a:prstGeom>
          <a:ln w="25560">
            <a:solidFill>
              <a:srgbClr val="cc9800"/>
            </a:solidFill>
            <a:prstDash val="dash"/>
            <a:miter/>
            <a:tailEnd len="med" type="triangle" w="med"/>
          </a:ln>
        </p:spPr>
      </p:cxnSp>
      <p:sp>
        <p:nvSpPr>
          <p:cNvPr id="207" name="Přímá spojovací čára 9"/>
          <p:cNvSpPr/>
          <p:nvPr/>
        </p:nvSpPr>
        <p:spPr>
          <a:xfrm flipH="1">
            <a:off x="2484360" y="1557360"/>
            <a:ext cx="719280" cy="0"/>
          </a:xfrm>
          <a:prstGeom prst="line">
            <a:avLst/>
          </a:prstGeom>
          <a:ln w="25560">
            <a:solidFill>
              <a:srgbClr val="cc98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římá spojovací čára 11"/>
          <p:cNvSpPr/>
          <p:nvPr/>
        </p:nvSpPr>
        <p:spPr>
          <a:xfrm>
            <a:off x="2484360" y="1557360"/>
            <a:ext cx="0" cy="3311640"/>
          </a:xfrm>
          <a:prstGeom prst="line">
            <a:avLst/>
          </a:prstGeom>
          <a:ln w="25560">
            <a:solidFill>
              <a:srgbClr val="cc98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09" name="Přímá spojovací šipka 14"/>
          <p:cNvCxnSpPr/>
          <p:nvPr/>
        </p:nvCxnSpPr>
        <p:spPr>
          <a:xfrm>
            <a:off x="2484360" y="4868640"/>
            <a:ext cx="720000" cy="1080"/>
          </a:xfrm>
          <a:prstGeom prst="straightConnector1">
            <a:avLst/>
          </a:prstGeom>
          <a:ln w="25560">
            <a:solidFill>
              <a:srgbClr val="cc98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3) 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L: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three kinds of contex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915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63560" indent="-419040">
              <a:lnSpc>
                <a:spcPct val="95000"/>
              </a:lnSpc>
              <a:spcBef>
                <a:spcPts val="1749"/>
              </a:spcBef>
              <a:buClr>
                <a:srgbClr val="3b8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6600"/>
                </a:solidFill>
                <a:latin typeface="Arial"/>
              </a:rPr>
              <a:t>Hyperintension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constru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denoted function is an object of pred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om comput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om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elieves tha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op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is wis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ut does no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elieve tha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the Bishop of Rom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is 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5000"/>
              </a:lnSpc>
              <a:spcBef>
                <a:spcPts val="1749"/>
              </a:spcBef>
              <a:buClr>
                <a:srgbClr val="3b8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6600"/>
                </a:solidFill>
                <a:latin typeface="Arial"/>
              </a:rPr>
              <a:t>Intension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the denoted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function it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n object of pr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is a periodic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om wants to become 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o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5000"/>
              </a:lnSpc>
              <a:spcBef>
                <a:spcPts val="1749"/>
              </a:spcBef>
              <a:buClr>
                <a:srgbClr val="3b8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6600"/>
                </a:solidFill>
                <a:latin typeface="Arial"/>
              </a:rPr>
              <a:t>Extension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valu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denoted function is an object of pr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p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is wi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Zástupný symbol pro číslo snímku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7269-D3CE-4225-896F-6D02BEC8A585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6633"/>
                </a:solidFill>
                <a:latin typeface="Garamond"/>
              </a:rPr>
              <a:t>TIL </a:t>
            </a:r>
            <a:r>
              <a:rPr b="0" i="1" lang="cs-CZ" sz="3100" spc="-1" strike="noStrike">
                <a:solidFill>
                  <a:srgbClr val="006633"/>
                </a:solidFill>
                <a:latin typeface="Garamond"/>
              </a:rPr>
              <a:t>Ontolog</a:t>
            </a:r>
            <a:r>
              <a:rPr b="0" i="1" lang="en-US" sz="3100" spc="-1" strike="noStrike">
                <a:solidFill>
                  <a:srgbClr val="006633"/>
                </a:solidFill>
                <a:latin typeface="Garamond"/>
              </a:rPr>
              <a:t>y (types of order 1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33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3300" spc="-1" strike="noStrike">
                <a:solidFill>
                  <a:srgbClr val="000000"/>
                </a:solidFill>
                <a:latin typeface="Arial"/>
              </a:rPr>
              <a:t>procedural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objects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6633"/>
                </a:solidFill>
                <a:latin typeface="Times New Roman"/>
              </a:rPr>
              <a:t>Basic typ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ruth-values {T, F} 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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universe of discourse {individuals} 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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imes or real numbers 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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ossible worlds 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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6633"/>
                </a:solidFill>
                <a:latin typeface="Times New Roman"/>
              </a:rPr>
              <a:t>Functional types</a:t>
            </a:r>
            <a:r>
              <a:rPr b="0" i="1" lang="en-GB" sz="30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30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GB" sz="30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partial functions (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PWS Intensions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 – entities of type 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((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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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 baseline="-25000">
                <a:solidFill>
                  <a:srgbClr val="993300"/>
                </a:solidFill>
                <a:latin typeface="Symbol"/>
                <a:ea typeface="Symbol"/>
              </a:rPr>
              <a:t>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Zástupný symbol pro číslo snímku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2906-9D04-48A0-B549-9F9DE5B352AB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6633"/>
                </a:solidFill>
                <a:latin typeface="Garamond"/>
              </a:rPr>
              <a:t>Construction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92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Variables</a:t>
            </a:r>
            <a:r>
              <a:rPr b="0" i="1" lang="cs-CZ" sz="3500" spc="-1" strike="noStrike">
                <a:solidFill>
                  <a:srgbClr val="000000"/>
                </a:solidFill>
                <a:latin typeface="Times New Roman"/>
              </a:rPr>
              <a:t> x, y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, p, w, t, … v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-construc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500" spc="-1" strike="noStrike">
                <a:solidFill>
                  <a:srgbClr val="006633"/>
                </a:solidFill>
                <a:latin typeface="Times New Roman"/>
              </a:rPr>
              <a:t>Trivializa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tion</a:t>
            </a:r>
            <a:r>
              <a:rPr b="0" i="1" lang="cs-CZ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5f5f5f"/>
                </a:solidFill>
                <a:latin typeface="Times New Roman"/>
              </a:rPr>
              <a:t>0</a:t>
            </a:r>
            <a:r>
              <a:rPr b="0" i="1" lang="en-GB" sz="2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C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f any ty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fixed point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derefere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the poin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order to operate 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needs to be grabbed, or ‘called’, first. Trivialization is such a grabbing mechanis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Closure 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[</a:t>
            </a:r>
            <a:r>
              <a:rPr b="0" lang="en-US" sz="35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0" lang="en-US" sz="3500" spc="-1" strike="noStrike" baseline="-25000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…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0" i="1" lang="en-US" sz="3500" spc="-1" strike="noStrike" baseline="-25000">
                <a:solidFill>
                  <a:srgbClr val="006633"/>
                </a:solidFill>
                <a:latin typeface="Times New Roman"/>
              </a:rPr>
              <a:t>n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] </a:t>
            </a:r>
            <a:r>
              <a:rPr b="0" i="1" lang="cs-CZ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GB" sz="26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US" sz="21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en-US" sz="21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US" sz="21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n-US" sz="21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Composition 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[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F     X</a:t>
            </a:r>
            <a:r>
              <a:rPr b="0" lang="en-US" sz="3500" spc="-1" strike="noStrike" baseline="-25000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 … 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0" i="1" lang="en-US" sz="3500" spc="-1" strike="noStrike" baseline="-25000">
                <a:solidFill>
                  <a:srgbClr val="006633"/>
                </a:solidFill>
                <a:latin typeface="Times New Roman"/>
              </a:rPr>
              <a:t>n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]</a:t>
            </a:r>
            <a:r>
              <a:rPr b="0" lang="en-US" sz="35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GB" sz="26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 baseline="-25000">
                <a:solidFill>
                  <a:srgbClr val="993300"/>
                </a:solidFill>
                <a:latin typeface="Times New Roman"/>
              </a:rPr>
              <a:t>1             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GB" sz="26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6633"/>
                </a:solidFill>
                <a:latin typeface="Times New Roman"/>
              </a:rPr>
              <a:t>Execution </a:t>
            </a:r>
            <a:r>
              <a:rPr b="1" lang="en-US" sz="3400" spc="-1" strike="noStrike" baseline="30000">
                <a:solidFill>
                  <a:srgbClr val="006633"/>
                </a:solidFill>
                <a:latin typeface="Times New Roman"/>
              </a:rPr>
              <a:t>1</a:t>
            </a:r>
            <a:r>
              <a:rPr b="1" i="1" lang="en-US" sz="34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0" i="1" lang="en-US" sz="3400" spc="-1" strike="noStrike">
                <a:solidFill>
                  <a:srgbClr val="006633"/>
                </a:solidFill>
                <a:latin typeface="Times New Roman"/>
              </a:rPr>
              <a:t>, Double Execution </a:t>
            </a:r>
            <a:r>
              <a:rPr b="1" lang="en-US" sz="3400" spc="-1" strike="noStrike" baseline="30000">
                <a:solidFill>
                  <a:srgbClr val="006633"/>
                </a:solidFill>
                <a:latin typeface="Times New Roman"/>
              </a:rPr>
              <a:t>2</a:t>
            </a:r>
            <a:r>
              <a:rPr b="1" i="1" lang="en-US" sz="3400" spc="-1" strike="noStrike">
                <a:solidFill>
                  <a:srgbClr val="006633"/>
                </a:solidFill>
                <a:latin typeface="Times New Roman"/>
              </a:rPr>
              <a:t>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Zástupný symbol pro číslo snímku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7DD1-6143-4E2A-94BE-7AF15D297F10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6633"/>
                </a:solidFill>
                <a:latin typeface="Garamond"/>
              </a:rPr>
              <a:t>TIL Ontology (</a:t>
            </a:r>
            <a:r>
              <a:rPr b="0" i="1" lang="en-US" sz="2900" spc="-1" strike="noStrike">
                <a:solidFill>
                  <a:srgbClr val="006633"/>
                </a:solidFill>
                <a:latin typeface="Garamond"/>
              </a:rPr>
              <a:t>higher-order types)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55280" y="1268280"/>
            <a:ext cx="7931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388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Constructions of order 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lang="en-US" sz="21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entities belonging to a type of ord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66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belong to </a:t>
            </a:r>
            <a:r>
              <a:rPr b="1" lang="en-US" sz="20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lang="en-US" sz="20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type of order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26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Constructions of order 2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lang="en-US" sz="21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entities belonging to a type of order 2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66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belong to </a:t>
            </a:r>
            <a:r>
              <a:rPr b="1" lang="en-US" sz="20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lang="en-US" sz="20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type of order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61"/>
              </a:spcBef>
              <a:spcAft>
                <a:spcPts val="388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Constructions of order n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i="1" lang="en-US" sz="2100" spc="-1" strike="noStrike" baseline="-25000">
                <a:solidFill>
                  <a:srgbClr val="9933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entities belonging to a type of or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66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belong to </a:t>
            </a:r>
            <a:r>
              <a:rPr b="1" lang="en-US" sz="20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i="1" lang="en-US" sz="2000" spc="-1" strike="noStrike" baseline="-25000">
                <a:solidFill>
                  <a:srgbClr val="9933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type of order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n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37"/>
              </a:spcBef>
              <a:spcAft>
                <a:spcPts val="388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6633"/>
                </a:solidFill>
                <a:latin typeface="Times New Roman"/>
              </a:rPr>
              <a:t>Functional entities</a:t>
            </a:r>
            <a:r>
              <a:rPr b="0" lang="en-GB" sz="2100" spc="-1" strike="noStrike">
                <a:solidFill>
                  <a:srgbClr val="5f5f5f"/>
                </a:solidFill>
                <a:latin typeface="Times New Roman"/>
              </a:rPr>
              <a:t>:</a:t>
            </a:r>
            <a:r>
              <a:rPr b="0" i="1" lang="en-GB" sz="21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21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1" lang="en-GB" sz="21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21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en-GB" sz="21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en-GB" sz="21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GB" sz="21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n-GB" sz="2100" spc="-1" strike="noStrike">
                <a:solidFill>
                  <a:srgbClr val="993300"/>
                </a:solidFill>
                <a:latin typeface="Times New Roman"/>
              </a:rPr>
              <a:t>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 belong to 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i="1" lang="en-US" sz="2100" spc="-1" strike="noStrike" baseline="-25000">
                <a:solidFill>
                  <a:srgbClr val="993300"/>
                </a:solidFill>
                <a:latin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38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highest of the types to which </a:t>
            </a:r>
            <a:r>
              <a:rPr b="0" lang="en-GB" sz="1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GB" sz="1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belong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d so on,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ad infinit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33"/>
                </a:solidFill>
                <a:latin typeface="Garamond"/>
              </a:rPr>
              <a:t>explicit intensionalization and temporalization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tructions of possible-world intensions directly encoded in the logical syntax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996600"/>
                </a:solidFill>
                <a:latin typeface="Arial"/>
              </a:rPr>
              <a:t>w </a:t>
            </a:r>
            <a:r>
              <a:rPr b="1" lang="en-GB" sz="29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996600"/>
                </a:solidFill>
                <a:latin typeface="Arial"/>
              </a:rPr>
              <a:t>t</a:t>
            </a:r>
            <a:r>
              <a:rPr b="1" lang="en-GB" sz="2900" spc="-1" strike="noStrike">
                <a:solidFill>
                  <a:srgbClr val="996600"/>
                </a:solidFill>
                <a:latin typeface="Arial"/>
              </a:rPr>
              <a:t> […</a:t>
            </a:r>
            <a:r>
              <a:rPr b="1" i="1" lang="en-GB" sz="2900" spc="-1" strike="noStrike">
                <a:solidFill>
                  <a:srgbClr val="996600"/>
                </a:solidFill>
                <a:latin typeface="Arial"/>
              </a:rPr>
              <a:t>w</a:t>
            </a:r>
            <a:r>
              <a:rPr b="1" lang="en-GB" sz="2900" spc="-1" strike="noStrike">
                <a:solidFill>
                  <a:srgbClr val="996600"/>
                </a:solidFill>
                <a:latin typeface="Arial"/>
              </a:rPr>
              <a:t>….</a:t>
            </a:r>
            <a:r>
              <a:rPr b="1" i="1" lang="en-GB" sz="2900" spc="-1" strike="noStrike">
                <a:solidFill>
                  <a:srgbClr val="996600"/>
                </a:solidFill>
                <a:latin typeface="Arial"/>
              </a:rPr>
              <a:t>t</a:t>
            </a:r>
            <a:r>
              <a:rPr b="1" lang="en-GB" sz="2900" spc="-1" strike="noStrike">
                <a:solidFill>
                  <a:srgbClr val="996600"/>
                </a:solidFill>
                <a:latin typeface="Arial"/>
              </a:rPr>
              <a:t>…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Happy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Pop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w </a:t>
            </a:r>
            <a:r>
              <a:rPr b="1" lang="en-GB" sz="2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lang="en-GB" sz="29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1" lang="en-GB" sz="2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Happy</a:t>
            </a:r>
            <a:r>
              <a:rPr b="1" i="1" lang="en-GB" sz="29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GB" sz="2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Pope</a:t>
            </a:r>
            <a:r>
              <a:rPr b="1" i="1" lang="en-GB" sz="29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lang="en-GB" sz="29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 any possible world (</a:t>
            </a:r>
            <a:r>
              <a:rPr b="1" lang="en-GB" sz="2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) at any time (</a:t>
            </a:r>
            <a:r>
              <a:rPr b="1" lang="en-GB" sz="2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the property of being happy (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Happy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the papal office (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Pope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tensoinalize both of them (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Happy</a:t>
            </a:r>
            <a:r>
              <a:rPr b="1" i="1" lang="en-GB" sz="25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Pope</a:t>
            </a:r>
            <a:r>
              <a:rPr b="1" i="1" lang="en-GB" sz="25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heck whether the holder of the Papal office is happy at that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of evaluation (</a:t>
            </a:r>
            <a:r>
              <a:rPr b="1" lang="en-GB" sz="25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Happy</a:t>
            </a:r>
            <a:r>
              <a:rPr b="1" i="1" lang="en-GB" sz="25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Pope</a:t>
            </a:r>
            <a:r>
              <a:rPr b="1" i="1" lang="en-GB" sz="25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lang="en-GB" sz="25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TIL Studijní podklady najdete na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119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http://www.cs.vsb.cz/duzi/TIL.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ejména monografi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http://www.cs.vsb.cz/duzi/aleph.pdf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uží M., Jespersen B., Materna P.: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Procedural Semantics for Hyperintensional Logi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 (2010) 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(Anglická monograf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Metoda analýz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řadíme </a:t>
            </a:r>
            <a:r>
              <a:rPr b="0" i="1" lang="cs-CZ" sz="3000" spc="-1" strike="noStrike">
                <a:solidFill>
                  <a:srgbClr val="0070c0"/>
                </a:solidFill>
                <a:latin typeface="Arial"/>
              </a:rPr>
              <a:t>typ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bjektům, o kterých výraz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luví, tj. objektům označeným podvýrazy výrazu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četně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amotnéh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70c0"/>
                </a:solidFill>
                <a:latin typeface="Arial"/>
              </a:rPr>
              <a:t>Spojujeme konstrukce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jektů ad 1) tak, abychom zkonstruovali objekt označený výrazem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tom sémanticky jednoduchým výrazům přiřadíme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rivializaci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značeného ob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vedeme </a:t>
            </a:r>
            <a:r>
              <a:rPr b="0" i="1" lang="cs-CZ" sz="3000" spc="-1" strike="noStrike">
                <a:solidFill>
                  <a:srgbClr val="0070c0"/>
                </a:solidFill>
                <a:latin typeface="Arial"/>
              </a:rPr>
              <a:t>typovou kontrolu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Garamond"/>
              </a:rPr>
              <a:t>Příklad</a:t>
            </a: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:</a:t>
            </a: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 „</a:t>
            </a:r>
            <a:r>
              <a:rPr b="0" lang="cs-CZ" sz="4000" spc="-1" strike="noStrike">
                <a:solidFill>
                  <a:srgbClr val="3b812f"/>
                </a:solidFill>
                <a:latin typeface="Garamond"/>
              </a:rPr>
              <a:t>Primátor Ostravy</a:t>
            </a: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“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6600"/>
                </a:solidFill>
                <a:latin typeface="Arial"/>
              </a:rPr>
              <a:t>Typ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rimátor(něčeho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/((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 – zkr. 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rimátor_Ostrav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/(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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 – zkr.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6600"/>
                </a:solidFill>
                <a:latin typeface="Arial"/>
              </a:rPr>
              <a:t>Syntéz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m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6600"/>
                </a:solidFill>
                <a:latin typeface="Arial"/>
              </a:rPr>
              <a:t>Typová kontrol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[[[</a:t>
            </a:r>
            <a:r>
              <a:rPr b="0" lang="pl-PL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Primator     w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((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    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      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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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kráceně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200" spc="-1" strike="noStrike">
                <a:solidFill>
                  <a:srgbClr val="00b050"/>
                </a:solidFill>
                <a:latin typeface="Arial"/>
              </a:rPr>
              <a:t>individuový úřad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ravá složená závorka 6" descr=""/>
          <p:cNvPicPr/>
          <p:nvPr/>
        </p:nvPicPr>
        <p:blipFill>
          <a:blip r:embed="rId1"/>
          <a:stretch/>
        </p:blipFill>
        <p:spPr>
          <a:xfrm>
            <a:off x="2786040" y="4022640"/>
            <a:ext cx="1407960" cy="177840"/>
          </a:xfrm>
          <a:prstGeom prst="rect">
            <a:avLst/>
          </a:prstGeom>
          <a:ln w="0">
            <a:noFill/>
          </a:ln>
        </p:spPr>
      </p:pic>
      <p:pic>
        <p:nvPicPr>
          <p:cNvPr id="228" name="Pravá složená závorka 7" descr=""/>
          <p:cNvPicPr/>
          <p:nvPr/>
        </p:nvPicPr>
        <p:blipFill>
          <a:blip r:embed="rId2"/>
          <a:stretch/>
        </p:blipFill>
        <p:spPr>
          <a:xfrm>
            <a:off x="3365640" y="4522680"/>
            <a:ext cx="1620720" cy="250920"/>
          </a:xfrm>
          <a:prstGeom prst="rect">
            <a:avLst/>
          </a:prstGeom>
          <a:ln w="0">
            <a:noFill/>
          </a:ln>
        </p:spPr>
      </p:pic>
      <p:pic>
        <p:nvPicPr>
          <p:cNvPr id="229" name="Pravá složená závorka 8" descr=""/>
          <p:cNvPicPr/>
          <p:nvPr/>
        </p:nvPicPr>
        <p:blipFill>
          <a:blip r:embed="rId3"/>
          <a:stretch/>
        </p:blipFill>
        <p:spPr>
          <a:xfrm>
            <a:off x="2206800" y="3511440"/>
            <a:ext cx="1622160" cy="249480"/>
          </a:xfrm>
          <a:prstGeom prst="rect">
            <a:avLst/>
          </a:prstGeom>
          <a:ln w="0">
            <a:noFill/>
          </a:ln>
        </p:spPr>
      </p:pic>
      <p:cxnSp>
        <p:nvCxnSpPr>
          <p:cNvPr id="230" name="Přímá spojovací šipka 10"/>
          <p:cNvCxnSpPr/>
          <p:nvPr/>
        </p:nvCxnSpPr>
        <p:spPr>
          <a:xfrm>
            <a:off x="4140000" y="3068280"/>
            <a:ext cx="1080" cy="6483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231" name="Přímá spojovací šipka 12"/>
          <p:cNvCxnSpPr/>
          <p:nvPr/>
        </p:nvCxnSpPr>
        <p:spPr>
          <a:xfrm>
            <a:off x="4932000" y="3068280"/>
            <a:ext cx="1080" cy="1152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232" name="Přímá spojovací šipka 16"/>
          <p:cNvCxnSpPr/>
          <p:nvPr/>
        </p:nvCxnSpPr>
        <p:spPr>
          <a:xfrm>
            <a:off x="3779640" y="3068640"/>
            <a:ext cx="1080" cy="216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233" name="Přímá spojovací šipka 18"/>
          <p:cNvCxnSpPr/>
          <p:nvPr/>
        </p:nvCxnSpPr>
        <p:spPr>
          <a:xfrm>
            <a:off x="2700000" y="2997360"/>
            <a:ext cx="1080" cy="28800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234" name="Přímá spojovací šipka 20"/>
          <p:cNvCxnSpPr/>
          <p:nvPr/>
        </p:nvCxnSpPr>
        <p:spPr>
          <a:xfrm>
            <a:off x="1692000" y="3068640"/>
            <a:ext cx="1080" cy="216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35" name="Přímá spojovací čára 22"/>
          <p:cNvSpPr/>
          <p:nvPr/>
        </p:nvSpPr>
        <p:spPr>
          <a:xfrm>
            <a:off x="1692360" y="4869000"/>
            <a:ext cx="2374920" cy="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6" name="Přímá spojovací šipka 24"/>
          <p:cNvCxnSpPr/>
          <p:nvPr/>
        </p:nvCxnSpPr>
        <p:spPr>
          <a:xfrm>
            <a:off x="1331640" y="3068640"/>
            <a:ext cx="1080" cy="2664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37" name="Přímá spojovací čára 26"/>
          <p:cNvSpPr/>
          <p:nvPr/>
        </p:nvSpPr>
        <p:spPr>
          <a:xfrm flipV="1">
            <a:off x="1332000" y="5516280"/>
            <a:ext cx="287280" cy="14436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„</a:t>
            </a:r>
            <a:r>
              <a:rPr b="0" lang="cs-CZ" sz="4400" spc="-1" strike="noStrike">
                <a:solidFill>
                  <a:srgbClr val="3b812f"/>
                </a:solidFill>
                <a:latin typeface="Garamond"/>
              </a:rPr>
              <a:t>Primátor Ostravy je bohatý</a:t>
            </a: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“</a:t>
            </a: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37120" indent="-53712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996600"/>
                </a:solidFill>
                <a:latin typeface="Arial"/>
              </a:rPr>
              <a:t>Typ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Primátor(něčeho)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Primátor_Ostrav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Být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Bohatý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996600"/>
                </a:solidFill>
                <a:latin typeface="Arial"/>
              </a:rPr>
              <a:t>Syntéza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700"/>
            </a:b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Bohat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Arial"/>
              </a:rPr>
              <a:t>wt 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Prim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]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996600"/>
                </a:solidFill>
                <a:latin typeface="Arial"/>
              </a:rPr>
              <a:t>Typová kontrola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(zkráceně):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[[[</a:t>
            </a:r>
            <a:r>
              <a:rPr b="0" lang="pl-PL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l-PL" sz="2700" spc="-1" strike="noStrike">
                <a:solidFill>
                  <a:srgbClr val="000000"/>
                </a:solidFill>
                <a:latin typeface="Arial"/>
              </a:rPr>
              <a:t>Bohatý</a:t>
            </a:r>
            <a:r>
              <a:rPr b="0" i="1" lang="pl-PL" sz="27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pl-PL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Prim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]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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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zkráceně 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cs-CZ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7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700" spc="-1" strike="noStrike">
                <a:solidFill>
                  <a:srgbClr val="00b050"/>
                </a:solidFill>
                <a:latin typeface="Arial"/>
              </a:rPr>
              <a:t>propozice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L vs. Montague’s I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6518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 is an extensional logic, since the axiom of extensionality is vali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x = B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= 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a good thing. However, the price exacted for the simplification of the language (due to ghost variables) is too high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law of universal instantiation, lambda conversion and Leibniz’s Law do not generally hold, all of which is rather unattractiv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se, IL does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6633"/>
                </a:solidFill>
                <a:latin typeface="Arial"/>
              </a:rPr>
              <a:t>validate the Church-Rosser ‘diamond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It is a well-known fact that an ordinary typed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calculus will have this property. Given a term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de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, we can simplify the term to the form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order in which we reduce particular red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s does not mat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sulting term is uniquely determined up to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renaming variables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TIL does not have this defect; it validates the Church-Rosser property though it works with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n-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ary partial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unctions of TY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restricted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ary tot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hönfink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L: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logical co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33"/>
                </a:solidFill>
                <a:latin typeface="Arial"/>
              </a:rPr>
              <a:t>construc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GB" sz="2800" spc="-1" strike="noStrike">
                <a:solidFill>
                  <a:srgbClr val="006633"/>
                </a:solidFill>
                <a:latin typeface="Arial"/>
              </a:rPr>
              <a:t>type hierarchy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simple and ramifi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ramified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ype hierarchy organizes all higher-order objects: 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constructions (types </a:t>
            </a:r>
            <a:r>
              <a:rPr b="0" lang="en-GB" sz="2600" spc="-1" strike="noStrike">
                <a:solidFill>
                  <a:srgbClr val="006633"/>
                </a:solidFill>
                <a:latin typeface="Symbol"/>
                <a:ea typeface="Symbol"/>
              </a:rPr>
              <a:t></a:t>
            </a:r>
            <a:r>
              <a:rPr b="0" i="1" lang="en-GB" sz="2600" spc="-1" strike="noStrike" baseline="-25000">
                <a:solidFill>
                  <a:srgbClr val="006633"/>
                </a:solidFill>
                <a:latin typeface="Arial"/>
              </a:rPr>
              <a:t>n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)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s well as functions with domain or range in constru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simpl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ype hierarchy organizes first-order objects: 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non-construction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like extensions (individuals, numbers, sets, etc.), possible-world intensions (functions from possible worlds) and their arguments and valu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Arial"/>
              </a:rPr>
              <a:t>Hyperintensionality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11280" y="112500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as born out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ed, to block invalid inferenc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rnap (1947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§§13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there are contexts that are neither extensional nor intensio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ttitu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sswell; any context in which substitution of necessary equivalent terms fails is hyperinten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t, which inferences are valid in hyperintensional con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yper are hyperinten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Which contexts are </a:t>
            </a:r>
            <a:r>
              <a:rPr b="1" lang="cs-CZ" sz="2800" spc="-1" strike="noStrike">
                <a:solidFill>
                  <a:srgbClr val="996600"/>
                </a:solidFill>
                <a:latin typeface="Arial"/>
              </a:rPr>
              <a:t>intensional / 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hyperintens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6633"/>
                </a:solidFill>
                <a:latin typeface="Arial"/>
              </a:rPr>
              <a:t>TIL defini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tion is positi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ex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erintens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very mean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bject of predica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62FD-2331-4465-B793-9660553296B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Three kinds of contex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hyperintensional context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a meaning construction occurs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displaye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the very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constructio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is an object of pr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ugh a construction at least one order higher need to be executed in order to produce the displayed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intensional context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a meaning construction occurs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execute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n order to produce a function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whole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functio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f is an object of pr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over, the executed construction does not occur within another displayed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extensional context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the meaning construction is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execute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n order to produce a particular value of the so-constructed function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at its argu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valu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of the function f is an object of pr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over, the executed construction does not occur within another intensional or hyperintensional context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Hyperintensiona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ensional log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hyperint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ransparen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no context is opa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ame (extensional) logical rules are valid in all kinds of contex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ibniz’s substitution of identicals, existential quantification even into hyperintensional context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the types of objects these rules are applied at differ according to a con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i-contextualism: constructions are assigned to expressions as their context-invariant mean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Logická sémanti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ogika je věda o správném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usuzování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 umění správné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argument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ak ovlivňuje logická sémantika usuzování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stliže usuzujeme, argumentujeme, používáme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jazyk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.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Abychom mohli správně usuzovat a argumentovat, musíme </a:t>
            </a:r>
            <a:r>
              <a:rPr b="0" i="1" lang="cs-CZ" sz="2500" spc="-1" strike="noStrike">
                <a:solidFill>
                  <a:srgbClr val="006666"/>
                </a:solidFill>
                <a:latin typeface="Verdana"/>
              </a:rPr>
              <a:t>rozumět</a:t>
            </a:r>
            <a:r>
              <a:rPr b="0" i="1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dnotlivým výrazům a větám, tj. znát jejich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význam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o, jak přesně zachytíme význam v jazyce logiky, ovlivní podstatně, nakolik jsme schopni platné úsudky formalizovat a dokazovat, nakolik jsme schopni usuzování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automatizova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Logická sémanti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roková logi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mezena na přiřazení 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atomickým výrokům a skládání – algebra pravdivostních hodno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edikátová logi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avíc – struktura atomických výroků – vlastnosti a vztahy mezi individu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ěsnopis </a:t>
            </a:r>
            <a:r>
              <a:rPr b="0" i="1" lang="cs-CZ" sz="2500" spc="-1" strike="noStrike">
                <a:solidFill>
                  <a:srgbClr val="000000"/>
                </a:solidFill>
                <a:latin typeface="Verdana"/>
              </a:rPr>
              <a:t>matematiky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zvládne mnohé, ale ne vše, zejména problémy s přirozeným jazyk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Logická sémanti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ěkterá prvočísla jsou sudá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ěkterá lichá čísla jsou sudá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ěkteří chytří lidé jsou lí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Formalizace v PL1:   </a:t>
            </a:r>
            <a:r>
              <a:rPr b="1" lang="cs-CZ" sz="2100" spc="-1" strike="noStrike">
                <a:solidFill>
                  <a:srgbClr val="006666"/>
                </a:solidFill>
                <a:latin typeface="Symbol"/>
                <a:ea typeface="Symbol"/>
              </a:rPr>
              <a:t></a:t>
            </a:r>
            <a:r>
              <a:rPr b="1" i="1" lang="cs-CZ" sz="21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 [</a:t>
            </a:r>
            <a:r>
              <a:rPr b="1" i="1" lang="cs-CZ" sz="21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1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) </a:t>
            </a:r>
            <a:r>
              <a:rPr b="1" lang="en-US" sz="2100" spc="-1" strike="noStrike">
                <a:solidFill>
                  <a:srgbClr val="006666"/>
                </a:solidFill>
                <a:latin typeface="Symbol"/>
                <a:ea typeface="Symbol"/>
              </a:rPr>
              <a:t>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cs-CZ" sz="21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1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)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Verdana"/>
              </a:rPr>
              <a:t>Otázky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č mají věty (1), (2), (3) stejnou analýzu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Jak je to možné, že výsledná formule má interpretace, ve kterých je pravdivá (modely) a interpretace, ve kterých je nepravdivá, když je to analýza vět (1) a (2)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Jak přispívá „překlad“ do formule PL1 k objasnění významu vět 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Logická sémanti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Žádný starý mládenec není ženat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2188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Žádný starý mládenec není bohat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L1:   </a:t>
            </a:r>
            <a:r>
              <a:rPr b="1" lang="cs-CZ" sz="2500" spc="-1" strike="noStrike">
                <a:solidFill>
                  <a:srgbClr val="006666"/>
                </a:solidFill>
                <a:latin typeface="Symbol"/>
                <a:ea typeface="Symbol"/>
              </a:rPr>
              <a:t>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 [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) </a:t>
            </a:r>
            <a:r>
              <a:rPr b="1" lang="en-US" sz="2500" spc="-1" strike="noStrike">
                <a:solidFill>
                  <a:srgbClr val="006666"/>
                </a:solidFill>
                <a:latin typeface="Symbol"/>
                <a:ea typeface="Symbol"/>
              </a:rPr>
              <a:t></a:t>
            </a:r>
            <a:r>
              <a:rPr b="1" lang="en-US" sz="25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500" spc="-1" strike="noStrike">
                <a:solidFill>
                  <a:srgbClr val="006666"/>
                </a:solidFill>
                <a:latin typeface="Symbol"/>
                <a:ea typeface="Symbol"/>
              </a:rPr>
              <a:t>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)]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ebo  </a:t>
            </a:r>
            <a:br>
              <a:rPr sz="2500"/>
            </a:br>
            <a:r>
              <a:rPr b="0" lang="cs-CZ" sz="2500" spc="-1" strike="noStrike">
                <a:solidFill>
                  <a:srgbClr val="006666"/>
                </a:solidFill>
                <a:latin typeface="Verdana"/>
              </a:rPr>
              <a:t>        </a:t>
            </a:r>
            <a:r>
              <a:rPr b="1" lang="en-US" sz="2500" spc="-1" strike="noStrike">
                <a:solidFill>
                  <a:srgbClr val="006666"/>
                </a:solidFill>
                <a:latin typeface="Symbol"/>
                <a:ea typeface="Symbol"/>
              </a:rPr>
              <a:t>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 [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) </a:t>
            </a:r>
            <a:r>
              <a:rPr b="1" lang="en-US" sz="2500" spc="-1" strike="noStrike">
                <a:solidFill>
                  <a:srgbClr val="006666"/>
                </a:solidFill>
                <a:latin typeface="Symbol"/>
                <a:ea typeface="Symbol"/>
              </a:rPr>
              <a:t>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)]</a:t>
            </a:r>
            <a:r>
              <a:rPr b="0" lang="cs-CZ" sz="25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Verdana"/>
              </a:rPr>
              <a:t>Otázky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č mají obě věty stejné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dvě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formalizace a která z nich je ta „správná“ ?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ždyť (1) je </a:t>
            </a:r>
            <a:r>
              <a:rPr b="0" i="1" lang="cs-CZ" sz="2100" spc="-1" strike="noStrike">
                <a:solidFill>
                  <a:srgbClr val="006666"/>
                </a:solidFill>
                <a:latin typeface="Verdana"/>
              </a:rPr>
              <a:t>analyticky pravdivá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, zatímco (2) je </a:t>
            </a:r>
            <a:r>
              <a:rPr b="0" i="1" lang="cs-CZ" sz="2100" spc="-1" strike="noStrike">
                <a:solidFill>
                  <a:srgbClr val="006666"/>
                </a:solidFill>
                <a:latin typeface="Verdana"/>
              </a:rPr>
              <a:t>empirické tvrzení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, které je za jistých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okolností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pravdivé či ne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Nedokonalá analýza předpoklad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adí to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kud bychom na základě dané formalizace vždy platně odvodili relevantní důsledky, byla by analýza v pořádk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ůžeme vždy provádět korektní inference, korektní usuzování na základě analýzy premis v predikátové logice (např. PL1 )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aradox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4064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utně, 8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čet planet je 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utně, počet planet je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Modální logika, operátor </a:t>
            </a:r>
            <a:r>
              <a:rPr b="1" lang="cs-CZ" sz="2100" spc="-1" strike="noStrike">
                <a:solidFill>
                  <a:srgbClr val="006666"/>
                </a:solidFill>
                <a:latin typeface="Lucida Sans Unicode"/>
                <a:ea typeface="Lucida Sans Unicode"/>
              </a:rPr>
              <a:t>□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 přikázáno doručit dop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stliže je dopis doručen, pak je doručen nebo spál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––––––––––––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 přikázáno dopis doručit nebo spál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Deontické logiky, operátor </a:t>
            </a:r>
            <a:r>
              <a:rPr b="0" i="1" lang="cs-CZ" sz="2100" spc="-1" strike="noStrike">
                <a:solidFill>
                  <a:srgbClr val="006666"/>
                </a:solidFill>
                <a:latin typeface="Verdana"/>
              </a:rPr>
              <a:t>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aradox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4064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věří, že Praha má 1.048.576 obyvat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1.048.576 = 100 000(1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––––––––––––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věří, že Praha má 100 000(16) obyvat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Doxastické a Epistémické logiky, operátory </a:t>
            </a:r>
            <a:r>
              <a:rPr b="0" i="1" lang="cs-CZ" sz="2100" spc="-1" strike="noStrike">
                <a:solidFill>
                  <a:srgbClr val="006666"/>
                </a:solidFill>
                <a:latin typeface="Verdana"/>
              </a:rPr>
              <a:t>B</a:t>
            </a: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, 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ví, že 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+1=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+1=2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Sin(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––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ví, že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Sin(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Paradox logicko</a:t>
            </a: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-matematické vševědoucnos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3T20:49:56Z</dcterms:created>
  <dc:creator>Marie Duži</dc:creator>
  <dc:description/>
  <dc:language>en-US</dc:language>
  <cp:lastModifiedBy>Marie Duži</cp:lastModifiedBy>
  <dcterms:modified xsi:type="dcterms:W3CDTF">2015-09-29T13:44:15Z</dcterms:modified>
  <cp:revision>12</cp:revision>
  <dc:subject/>
  <dc:title>Transparentní intensionální logika (TIL)</dc:title>
</cp:coreProperties>
</file>