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B47-9616-4EF2-9762-CAD5264C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496-EB66-468E-B3F5-D9A06FB2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773-F6B1-4A2D-B7F8-9A05826F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FDF-BDBE-41EE-B777-CBEF532D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24A5-9F83-400A-A718-EB2943D3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AB85-D4D0-46FF-994C-3588327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D00-8640-4A04-B386-864CB2A4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D8A0-74D9-4DA4-85A8-E72B323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902-E945-4DD8-8CB3-AD858AA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C942-6A26-4C92-8FAA-BAEF6E73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3C2B-1237-4CA3-96BE-4C5BC2E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D4B-1827-493A-9104-F28F235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463-8633-4BEF-A6D4-B4F04FB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5CFF-D3C6-48D5-A05B-3369C25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212A-6219-44A4-B4E6-9987241B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9D4-0885-4F13-A7C0-FED26BC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C76-D787-4B79-AF21-5726DD1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FCDD-00D3-4BFC-A94F-582A46A2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DD48-05CE-4343-A4D4-303193E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5348-54B9-462E-A094-50C8B65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1C16-6FC8-478C-B799-3BA8188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0783-2ED3-430C-B8DE-47B5BC88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5C0-6AA2-4AC5-8709-A939F37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6799-D57C-4B58-9D25-4D2F744F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8794-C7FB-4036-A885-A495585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E35B-D32D-4F5B-BF1C-415B795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A613-01AD-4CE1-8C72-45CF52D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D92B-B2E0-44D0-B8B0-54EBA71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229F-05F6-46E5-9E7A-C7AA07B4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CC32-BF4A-4201-93CD-5A26A022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377D-B16D-41C7-8652-40853F6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2B9B-D981-44F9-96F5-266C884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A935-F81A-4673-802D-EEA6090B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E16-E9FC-42B4-8DD7-EEF98B9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AF1C-4A05-40CB-B167-42C84050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76C4-D05D-4999-AA98-7EA603E4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6BD6-EC71-4ECB-865A-054D82A7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746A-5575-4362-B1C3-C8453B2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3299-F1AB-4B9F-873D-FA4C6ED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A456-E453-4A38-B38F-EF6B86C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81F9-1863-4593-911F-E3AA91F4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76CF-112D-467E-8E04-971901AE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BFAF-DFE3-4499-95E8-4AAD66AE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027-BDDC-4FDE-9899-5562115F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FD4-9770-4B09-8D00-2FCA1CFB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1FB-3ABF-47C8-8398-43177C9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6A4-BB6A-4E3C-978B-A4E0AD3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24E-5E24-496F-BF12-C0BF530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6C8-1D57-4D03-9BF2-EAEF7E1A47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072-DB8A-4DF6-BDC9-53D50A4464A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3FA3-FF59-4950-8A05-A67075464E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A6BD-FF5C-4CBE-A975-BC294714B0E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vsb.cz/duzi/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vsb.cz/duzi/TIL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Transparentní intensionální logika (TIL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rie Duž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cs.vsb.cz/duzi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.048.576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1.048.576 = 100 000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</a:rPr>
              <a:t>(1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00 000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</a:rPr>
              <a:t>(16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oxastické a Epistémické logiky, operátory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B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, 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1=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+1=2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Paradox logicko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-matematické vševědouc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406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2 +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 + 5 =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Logiky postojů, … (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vraha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je vrah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Oidip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esident ČR je manžel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presidentem Č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manželem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m si myslí, že francouzský král je moudr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rancouzský král existu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Extenzionální vs. intenzionální kontex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11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y je kontext extenzionáln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text je extenzionální, když v něm platí pravidl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substituce identi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existenční generaliz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 kdy tato pravidla plat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extenzionálním kontex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hm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ohatý strom různých log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tenzionálních, intenzionálních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rostl zdo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 to OK? Jedna univerzální logik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263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6666"/>
                </a:solidFill>
                <a:latin typeface="Verdana"/>
              </a:rPr>
              <a:t>TIL – universální logický rám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„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top down“ přístu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rocedu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manti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s of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T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oced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onstruc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Ontolog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y of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TIL: 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mified hierarchy of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2E4-EF15-4D80-B2B0-17DB1B07700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7" name="Přímá spojovací šipka 5"/>
          <p:cNvCxnSpPr/>
          <p:nvPr/>
        </p:nvCxnSpPr>
        <p:spPr>
          <a:xfrm>
            <a:off x="3779640" y="1844640"/>
            <a:ext cx="1080" cy="1153440"/>
          </a:xfrm>
          <a:prstGeom prst="straightConnector1">
            <a:avLst/>
          </a:prstGeom>
          <a:ln w="316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208" name="Přímá spojovací šipka 7"/>
          <p:cNvCxnSpPr/>
          <p:nvPr/>
        </p:nvCxnSpPr>
        <p:spPr>
          <a:xfrm>
            <a:off x="3779640" y="3429000"/>
            <a:ext cx="1080" cy="122472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  <p:sp>
        <p:nvSpPr>
          <p:cNvPr id="209" name="Přímá spojovací čára 9"/>
          <p:cNvSpPr/>
          <p:nvPr/>
        </p:nvSpPr>
        <p:spPr>
          <a:xfrm flipH="1">
            <a:off x="2484360" y="1557360"/>
            <a:ext cx="719280" cy="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římá spojovací čára 11"/>
          <p:cNvSpPr/>
          <p:nvPr/>
        </p:nvSpPr>
        <p:spPr>
          <a:xfrm>
            <a:off x="2484360" y="1557360"/>
            <a:ext cx="0" cy="331164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Přímá spojovací šipka 14"/>
          <p:cNvCxnSpPr/>
          <p:nvPr/>
        </p:nvCxnSpPr>
        <p:spPr>
          <a:xfrm>
            <a:off x="2484360" y="4868640"/>
            <a:ext cx="720000" cy="108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3)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denoted function is an object of pre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comput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s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s wi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t does no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Bishop of Rom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the denoted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 period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wants to become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Ex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denoted function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02B-66FF-4389-9453-3C5B1588C5C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TIL </a:t>
            </a:r>
            <a:r>
              <a:rPr b="0" i="1" lang="cs-CZ" sz="3100" spc="-1" strike="noStrike">
                <a:solidFill>
                  <a:srgbClr val="006633"/>
                </a:solidFill>
                <a:latin typeface="Garamond"/>
              </a:rPr>
              <a:t>Ontolog</a:t>
            </a: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y (types of order 1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procedural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objects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Basic typ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ruth-values {T, F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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iverse of discourse {individuals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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imes or real number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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ossible world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Functional types</a:t>
            </a:r>
            <a:r>
              <a:rPr b="0" i="1" lang="en-GB" sz="3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artial functions (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WS Intensions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 – entities of type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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Symbol"/>
                <a:ea typeface="Symbol"/>
              </a:rPr>
              <a:t>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47D-4599-4D88-9D17-7FDAC4F275C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6633"/>
                </a:solidFill>
                <a:latin typeface="Garamond"/>
              </a:rPr>
              <a:t>Construc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Variables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x, y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, p, w, t, … v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constru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500" spc="-1" strike="noStrike">
                <a:solidFill>
                  <a:srgbClr val="006633"/>
                </a:solidFill>
                <a:latin typeface="Times New Roman"/>
              </a:rPr>
              <a:t>Trivializa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tion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5f5f5f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f any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ixed pointer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 referenc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order to operate 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eeds to be grabbed, or ‘called’, first. Trivialization is such a grabbing mechanis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losure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lang="en-US" sz="3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…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 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omposition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F     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…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</a:t>
            </a:r>
            <a:r>
              <a:rPr b="0" lang="en-US" sz="35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            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1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, Double 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2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0EC-7310-4F01-95D6-AF7572C582E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6633"/>
                </a:solidFill>
                <a:latin typeface="Garamond"/>
              </a:rPr>
              <a:t>TIL Ontology (</a:t>
            </a:r>
            <a:r>
              <a:rPr b="0" i="1" lang="en-US" sz="2900" spc="-1" strike="noStrike">
                <a:solidFill>
                  <a:srgbClr val="006633"/>
                </a:solidFill>
                <a:latin typeface="Garamond"/>
              </a:rPr>
              <a:t>higher-order types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2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2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2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61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n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0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37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6633"/>
                </a:solidFill>
                <a:latin typeface="Times New Roman"/>
              </a:rPr>
              <a:t>Functional entities</a:t>
            </a:r>
            <a:r>
              <a:rPr b="0" lang="en-GB" sz="2100" spc="-1" strike="noStrike">
                <a:solidFill>
                  <a:srgbClr val="5f5f5f"/>
                </a:solidFill>
                <a:latin typeface="Times New Roman"/>
              </a:rPr>
              <a:t>:</a:t>
            </a:r>
            <a:r>
              <a:rPr b="0" i="1" lang="en-GB" sz="21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38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highest of the types to which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long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so on,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ad infini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 Studijní podklady najdete n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11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cs.vsb.cz/duzi/TIL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ejména monografi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cs.vsb.cz/duzi/aleph.pd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uží M., Jespersen B., Materna P.: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Procedural Semantics for Hyperintensional Logi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(2010) 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(Anglická monograf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explicit intensionalization and temporalization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tructions of possible-world intensions directly encoded in the logical syntax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 […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.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 any possible world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 at any time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roperty of being happy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apal office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tensoinalize both of them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heck whether the holder of the Papal offi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if any)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happy at that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f evaluation (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Metoda analýz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řadí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bjektům, o kterých výraz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luví, tj. objektům označeným podvýrazy výrazu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četně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amotné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Spojujeme konstrukc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ktů ad 1) tak, abychom zkonstruovali objekt označený výrazem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tom sémanticky jednoduchým výrazům přiřadím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rivializac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značeného ob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vede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ovou kontrol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tj. sestrojíme derivační strom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Garamond"/>
              </a:rPr>
              <a:t>Příklad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 „</a:t>
            </a:r>
            <a:r>
              <a:rPr b="0" lang="cs-CZ" sz="4000" spc="-1" strike="noStrike">
                <a:solidFill>
                  <a:srgbClr val="3b812f"/>
                </a:solidFill>
                <a:latin typeface="Garamond"/>
              </a:rPr>
              <a:t>Primátor Ostravy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“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ová kontrol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Primator     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>
                <a:solidFill>
                  <a:srgbClr val="00b050"/>
                </a:solidFill>
                <a:latin typeface="Arial"/>
              </a:rPr>
              <a:t>individuový úř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ravá složená závorka 6" descr=""/>
          <p:cNvPicPr/>
          <p:nvPr/>
        </p:nvPicPr>
        <p:blipFill>
          <a:blip r:embed="rId1"/>
          <a:stretch/>
        </p:blipFill>
        <p:spPr>
          <a:xfrm>
            <a:off x="2792520" y="4022640"/>
            <a:ext cx="1407960" cy="177840"/>
          </a:xfrm>
          <a:prstGeom prst="rect">
            <a:avLst/>
          </a:prstGeom>
          <a:ln w="0">
            <a:noFill/>
          </a:ln>
        </p:spPr>
      </p:pic>
      <p:pic>
        <p:nvPicPr>
          <p:cNvPr id="230" name="Pravá složená závorka 7" descr=""/>
          <p:cNvPicPr/>
          <p:nvPr/>
        </p:nvPicPr>
        <p:blipFill>
          <a:blip r:embed="rId2"/>
          <a:stretch/>
        </p:blipFill>
        <p:spPr>
          <a:xfrm>
            <a:off x="3365640" y="4529160"/>
            <a:ext cx="1627200" cy="250920"/>
          </a:xfrm>
          <a:prstGeom prst="rect">
            <a:avLst/>
          </a:prstGeom>
          <a:ln w="0">
            <a:noFill/>
          </a:ln>
        </p:spPr>
      </p:pic>
      <p:pic>
        <p:nvPicPr>
          <p:cNvPr id="231" name="Pravá složená závorka 8" descr=""/>
          <p:cNvPicPr/>
          <p:nvPr/>
        </p:nvPicPr>
        <p:blipFill>
          <a:blip r:embed="rId3"/>
          <a:stretch/>
        </p:blipFill>
        <p:spPr>
          <a:xfrm>
            <a:off x="2206800" y="3511440"/>
            <a:ext cx="1626840" cy="255600"/>
          </a:xfrm>
          <a:prstGeom prst="rect">
            <a:avLst/>
          </a:prstGeom>
          <a:ln w="0">
            <a:noFill/>
          </a:ln>
        </p:spPr>
      </p:pic>
      <p:cxnSp>
        <p:nvCxnSpPr>
          <p:cNvPr id="232" name="Přímá spojovací šipka 10"/>
          <p:cNvCxnSpPr/>
          <p:nvPr/>
        </p:nvCxnSpPr>
        <p:spPr>
          <a:xfrm>
            <a:off x="4140000" y="3068280"/>
            <a:ext cx="1080" cy="6483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3" name="Přímá spojovací šipka 12"/>
          <p:cNvCxnSpPr/>
          <p:nvPr/>
        </p:nvCxnSpPr>
        <p:spPr>
          <a:xfrm>
            <a:off x="4932000" y="3068280"/>
            <a:ext cx="1080" cy="1152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4" name="Přímá spojovací šipka 16"/>
          <p:cNvCxnSpPr/>
          <p:nvPr/>
        </p:nvCxnSpPr>
        <p:spPr>
          <a:xfrm>
            <a:off x="3779640" y="3068640"/>
            <a:ext cx="1080" cy="216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5" name="Přímá spojovací šipka 18"/>
          <p:cNvCxnSpPr/>
          <p:nvPr/>
        </p:nvCxnSpPr>
        <p:spPr>
          <a:xfrm>
            <a:off x="2700000" y="2997360"/>
            <a:ext cx="1080" cy="28800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6" name="Přímá spojovací šipka 20"/>
          <p:cNvCxnSpPr/>
          <p:nvPr/>
        </p:nvCxnSpPr>
        <p:spPr>
          <a:xfrm>
            <a:off x="1692000" y="3068640"/>
            <a:ext cx="1080" cy="216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7" name="Přímá spojovací čára 22"/>
          <p:cNvSpPr/>
          <p:nvPr/>
        </p:nvSpPr>
        <p:spPr>
          <a:xfrm>
            <a:off x="1692360" y="4869000"/>
            <a:ext cx="2374920" cy="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Přímá spojovací šipka 24"/>
          <p:cNvCxnSpPr/>
          <p:nvPr/>
        </p:nvCxnSpPr>
        <p:spPr>
          <a:xfrm>
            <a:off x="1331640" y="3068640"/>
            <a:ext cx="1080" cy="2664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9" name="Přímá spojovací čára 26"/>
          <p:cNvSpPr/>
          <p:nvPr/>
        </p:nvSpPr>
        <p:spPr>
          <a:xfrm flipV="1">
            <a:off x="1332000" y="5516280"/>
            <a:ext cx="287280" cy="14436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„</a:t>
            </a:r>
            <a:r>
              <a:rPr b="0" lang="cs-CZ" sz="4400" spc="-1" strike="noStrike">
                <a:solidFill>
                  <a:srgbClr val="3b812f"/>
                </a:solidFill>
                <a:latin typeface="Garamond"/>
              </a:rPr>
              <a:t>Primátor Ostravy je bohatý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“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ý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ohat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ová kontrola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zkráceně):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i="1" lang="pl-PL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700" spc="-1" strike="noStrike">
                <a:solidFill>
                  <a:srgbClr val="00b050"/>
                </a:solidFill>
                <a:latin typeface="Arial"/>
              </a:rPr>
              <a:t>propozice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 vs. Montague’s 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65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is an extensional logic, since the axiom of extensionality is vali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x = B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= 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good thing. However, the price exacted for the simplification of the language (due to ghost variables) is too high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law of universal instantiation, lambda conversion and Leibniz’s Law do not generally hold, all of which is rather unattractiv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e, IL doe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6633"/>
                </a:solidFill>
                <a:latin typeface="Arial"/>
              </a:rPr>
              <a:t>validate the Church-Rosser ‘diamond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t is a well-known fact that an ordinary type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calculus will have this property. Given a term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we can simplify the term to the form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order in which we reduce particular re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s does not mat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ing term is uniquely determined up t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enaming variables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IL does not have this defect; it validates the Church-Rosser property though it works with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n-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ry partial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nctions of TY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restrict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ary tot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önfink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cal co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constru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type hierarch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simple and ramif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ramifie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all higher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constructions (types </a:t>
            </a:r>
            <a:r>
              <a:rPr b="0" lang="en-GB" sz="2600" spc="-1" strike="noStrike">
                <a:solidFill>
                  <a:srgbClr val="006633"/>
                </a:solidFill>
                <a:latin typeface="Symbol"/>
                <a:ea typeface="Symbol"/>
              </a:rPr>
              <a:t></a:t>
            </a:r>
            <a:r>
              <a:rPr b="0" i="1" lang="en-GB" sz="26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 well as functions with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ain or range in co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simp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first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non-construct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like extensions (individuals, numbers, sets, etc.), possible-world intensions (functions from possible worlds) and their arguments and valu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Arial"/>
              </a:rPr>
              <a:t>Hyperintensionality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11280" y="112500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s born ou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, to block invalid inferenc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rnap (1947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§§13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here are contexts that are neither extensional nor intens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titu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sswell; any context in which substitution of necessary equivalent terms fails is hyperint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, which inferences are valid in hyperintensional con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yper are hyperint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Which contexts are </a:t>
            </a:r>
            <a:r>
              <a:rPr b="1" lang="cs-CZ" sz="2800" spc="-1" strike="noStrike">
                <a:solidFill>
                  <a:srgbClr val="996600"/>
                </a:solidFill>
                <a:latin typeface="Arial"/>
              </a:rPr>
              <a:t>intensional /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33"/>
                </a:solidFill>
                <a:latin typeface="Arial"/>
              </a:rPr>
              <a:t>TIL defini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ion is positi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x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intens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very mea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953A-9E29-4AF9-8FA8-46FC4E5CCF8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hyper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display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the very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ugh a construction at least one order higher need to be executed in order to produce the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hol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ex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the meaning construction i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particular value of the so-constructed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t its arg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of the function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intensional or hyperintensional context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Hyperintensiona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ens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hyperin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no context is opa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e (extensional) logical rules are valid in all kinds of contex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ibniz’s substitution of identicals, existential quantification even into hyperintensional context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he types of objects these rules are applied at differ according to a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-contextualism: constructions are assigned to expressions as their context-invariant mean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ika je věda o správném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usuzování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 umění správné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rgument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k ovlivňuje logická sémantika usuzování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usuzujeme, argumentujeme, používáme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jazyk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bychom mohli správně usuzovat a argumentovat, musíme </a:t>
            </a:r>
            <a:r>
              <a:rPr b="0" i="1" lang="cs-CZ" sz="2500" spc="-1" strike="noStrike">
                <a:solidFill>
                  <a:srgbClr val="006666"/>
                </a:solidFill>
                <a:latin typeface="Verdana"/>
              </a:rPr>
              <a:t>rozumět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dnotlivým výrazům a větám, tj. znát jejich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význam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, jak přesně zachytíme význam v jazyce logiky, ovlivní podstatně, nakolik jsme schopni platné úsudky formalizovat a dokazovat, nakolik jsme schopni usuzování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utomatizova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k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mezena na přiřazení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tomickým výrokům a skládání těchto atomických výroků pomocí logických spojek – algebra pravdivostních hodno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edikát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víc – struktura atomických výroků – vlastnosti a vztahy mezi individ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ěsnopis 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matemati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zvládne mnohé, ale ne vše, zejména problémy s přirozeným jazyk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prvočísla jsou sud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lichá čísla jsou sudá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ří chytří lidé jsou lí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Formalizace v PL1:   </a:t>
            </a:r>
            <a:r>
              <a:rPr b="1" lang="cs-CZ" sz="2100" spc="-1" strike="noStrike">
                <a:solidFill>
                  <a:srgbClr val="006666"/>
                </a:solidFill>
                <a:latin typeface="Symbol"/>
                <a:ea typeface="Symbol"/>
              </a:rPr>
              <a:t>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1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věty (1), (2), (3) stejnou analýzu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je to možné, že výsledná formule má interpretace, ve kterých je pravdivá (modely) a interpretace, ve kterých je nepravdivá, když je to analýza vět (1) a (2)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přispívá „překlad“ do formule PL1 k objasnění významu vět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žen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2188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boh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1:   </a:t>
            </a:r>
            <a:r>
              <a:rPr b="1" lang="cs-CZ" sz="2500" spc="-1" strike="noStrike">
                <a:solidFill>
                  <a:srgbClr val="006666"/>
                </a:solidFill>
                <a:latin typeface="Symbol"/>
                <a:ea typeface="Symbol"/>
              </a:rPr>
              <a:t>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</a:t>
            </a: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bo  </a:t>
            </a:r>
            <a:br>
              <a:rPr sz="2500"/>
            </a:b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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obě věty stejné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dvě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formalizace a která z nich je ta „správná“ 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ždyť (1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analyticky pravdivá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zatímco (2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empirické tvrzen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které je za jistých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okolnost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ravdivé či ne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Nedokonalá analýza předpoklad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adí to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kud bychom na základě dané formalizace vždy platně odvodili relevantní důsledky, byla by analýza v pořád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ůžeme vždy provádět korektní inference, korektní usuzování na základě analýzy premis v predikátové logice (např. PL1 )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406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8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čet planet je 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počet planet je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Modální logika, operátor </a:t>
            </a: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Nesmíme substituovat v dosahu operátoru. </a:t>
            </a:r>
            <a:br>
              <a:rPr sz="2100"/>
            </a:b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OK, ale </a:t>
            </a:r>
            <a:r>
              <a:rPr b="1" i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proč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4064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ručit dop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je dopis doručen, pak je doručen nebo spál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pis doručit nebo spál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eontické logiky, operátor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Nesmíme substituovat v dosahu operátoru, OK, ale </a:t>
            </a:r>
            <a:r>
              <a:rPr b="1" i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proč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20:49:56Z</dcterms:created>
  <dc:creator>Marie Duži</dc:creator>
  <dc:description/>
  <dc:language>en-US</dc:language>
  <cp:lastModifiedBy>Marie Duží</cp:lastModifiedBy>
  <dcterms:modified xsi:type="dcterms:W3CDTF">2017-09-19T12:37:45Z</dcterms:modified>
  <cp:revision>16</cp:revision>
  <dc:subject/>
  <dc:title>Transparentní intensionální logika (TIL)</dc:title>
</cp:coreProperties>
</file>