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B0D-BB97-4508-ABF5-42022805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3D8-3AD8-4042-8CBD-DC357458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537-361D-481F-ABF0-96917250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A79-B279-4887-9A35-794ECBBB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8835-CED4-4AFA-961F-83A557A2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ABF8-2EBD-45AA-838D-BD5AA841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366B-5188-4B93-99E3-1522DC5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B473-0B19-4B85-BE88-6A99DB81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A9D2-5BAD-4D34-80FD-391B91BB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8D1E-F12A-46DD-B87F-12CEDB13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9EFC-2C76-402F-8B5D-BCCC022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DA4-E622-4E30-9790-ED5FB16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2585-2623-489D-A7FF-192C0C1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5B5F-BDF1-41FC-9837-BBF645F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DB57-1231-4324-BD36-3A70CE0C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9E53-A9D2-4FBA-9AD0-7A92ED6C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5A1F-2D6A-41A4-99E3-60CE26EF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B9E3-4E48-43D5-8AD6-39A2DC25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2C2B-D086-47FC-88CF-0A3D7AB8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765D-D829-4273-9B5E-F86D58DA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2FDC-920C-4A3D-9D41-0CBFEE0A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D358-7190-4121-91AB-D9E8370F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ED8-F7AB-4B9B-9159-FF8E35F6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5BFA-C083-446A-A5A9-D18634FB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9E80-4253-495D-8320-4F1A8CD8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3345-3C1F-4281-A2FF-AB27A0E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AC98-3DE0-47F7-9D38-7157AA7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F149-99A6-4468-BC2C-AA03725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8D33-220B-4DC5-B23E-C4B7DA9F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F410-E129-4DEB-9937-74D77CFB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994D-0A2C-47FA-9EFC-C3F7A6CC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85CF1-3F36-4FAC-8EB2-B1551EC1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3FE1-B26B-45D6-B0B4-1082C20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0A2-31BF-4E94-AB23-E6007F87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013D-AD9F-46DF-AE07-FB8FD95E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FF41-18FF-4507-B8CB-96B45460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9E439-E9EA-47A3-B903-97318473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F540-0F7F-42D8-A11A-8230C58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D96D-DD0D-441C-B48E-8A42554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A009-2D55-44FB-BFD2-B21ACFA5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D654C-5B28-45D9-B9CF-2796837A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CE54-E8A5-46B8-B28E-D4C958FC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38B8D-165C-4139-BC90-6014EF35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165-BA8B-4B01-9109-0E958CD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D59-AF7D-4997-A5BE-36E10B2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E69-65EE-4948-A962-A6371A4A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CB8-F324-4172-837E-CFB665B7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C5D-B396-47D9-B1A7-D2698B85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AF52-0228-4664-82DD-F4CF3A8119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E707-2C5B-42C1-8FCD-8298CC23101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395C-2E12-4BDD-9587-5A405BD14F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E8C2-250E-4A88-B7E3-C3148026D9F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vsb.cz/duzi/" TargetMode="External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vsb.cz/duzi/TIL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Transparentní intensionální logika (TIL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arie Duž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cs.vsb.cz/duzi/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6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ěří, že Praha má 1.048.576 obyvat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1.048.576 = 100 000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</a:rPr>
              <a:t>(1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ěří, že Praha má 100 000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</a:rPr>
              <a:t>(16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obyvat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Doxastické a Epistémické logiky, operátory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B</a:t>
            </a: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, 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í, že 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1=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+1=2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Sin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ví, že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Sin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Paradox logicko</a:t>
            </a: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-matematické vševědoucno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406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počítá 2 +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2 + 5 = 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rel počítá 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Logiky postojů, … (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hledá vraha svého ot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je vrah svého ot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idipus hledá Oidip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esident ČR je manžel Ivan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n Sokol se chtěl stát presidentem Č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n Sokol se chtěl stát manželem Ivan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om si myslí, že francouzský král je moudr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rancouzský král existu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Extenzionální vs. intenzionální kontex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11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y je kontext extenzionální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text je extenzionální, když v něm platí pravidla </a:t>
            </a:r>
            <a:r>
              <a:rPr b="0" i="1" lang="cs-CZ" sz="2900" spc="-1" strike="noStrike">
                <a:solidFill>
                  <a:srgbClr val="006666"/>
                </a:solidFill>
                <a:latin typeface="Verdana"/>
              </a:rPr>
              <a:t>substituce identi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900" spc="-1" strike="noStrike">
                <a:solidFill>
                  <a:srgbClr val="006666"/>
                </a:solidFill>
                <a:latin typeface="Verdana"/>
              </a:rPr>
              <a:t>existenční generaliz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 kdy tato pravidla platí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 extenzionálním kontex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hmm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I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ohatý strom různých logi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xtenzionálních, intenzionálních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rostl zdo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 to OK? Jedna univerzální logik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263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6666"/>
                </a:solidFill>
                <a:latin typeface="Verdana"/>
              </a:rPr>
              <a:t>TIL – universální logický ráme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„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top down“ přístu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rocedur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 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manti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s of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 T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roced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i="1" lang="cs-CZ" sz="2800" spc="-1" strike="noStrike">
                <a:solidFill>
                  <a:srgbClr val="006633"/>
                </a:solidFill>
                <a:latin typeface="Arial"/>
              </a:rPr>
              <a:t>onstruc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t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Ontolog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y of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TIL: 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mified hierarchy of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ADEE-20CD-49D2-BD49-3DDA5DF71A2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7" name="Přímá spojovací šipka 5"/>
          <p:cNvCxnSpPr/>
          <p:nvPr/>
        </p:nvCxnSpPr>
        <p:spPr>
          <a:xfrm>
            <a:off x="3779640" y="1844640"/>
            <a:ext cx="1080" cy="1153440"/>
          </a:xfrm>
          <a:prstGeom prst="straightConnector1">
            <a:avLst/>
          </a:prstGeom>
          <a:ln w="316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208" name="Přímá spojovací šipka 7"/>
          <p:cNvCxnSpPr/>
          <p:nvPr/>
        </p:nvCxnSpPr>
        <p:spPr>
          <a:xfrm>
            <a:off x="3779640" y="3429000"/>
            <a:ext cx="1080" cy="1224720"/>
          </a:xfrm>
          <a:prstGeom prst="straightConnector1">
            <a:avLst/>
          </a:prstGeom>
          <a:ln w="25560">
            <a:solidFill>
              <a:srgbClr val="cc9800"/>
            </a:solidFill>
            <a:prstDash val="dash"/>
            <a:miter/>
            <a:tailEnd len="med" type="triangle" w="med"/>
          </a:ln>
        </p:spPr>
      </p:cxnSp>
      <p:sp>
        <p:nvSpPr>
          <p:cNvPr id="209" name="Přímá spojovací čára 9"/>
          <p:cNvSpPr/>
          <p:nvPr/>
        </p:nvSpPr>
        <p:spPr>
          <a:xfrm flipH="1">
            <a:off x="2484360" y="1557360"/>
            <a:ext cx="719280" cy="0"/>
          </a:xfrm>
          <a:prstGeom prst="line">
            <a:avLst/>
          </a:prstGeom>
          <a:ln w="25560">
            <a:solidFill>
              <a:srgbClr val="cc9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římá spojovací čára 11"/>
          <p:cNvSpPr/>
          <p:nvPr/>
        </p:nvSpPr>
        <p:spPr>
          <a:xfrm>
            <a:off x="2484360" y="1557360"/>
            <a:ext cx="0" cy="3311640"/>
          </a:xfrm>
          <a:prstGeom prst="line">
            <a:avLst/>
          </a:prstGeom>
          <a:ln w="25560">
            <a:solidFill>
              <a:srgbClr val="cc9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1" name="Přímá spojovací šipka 14"/>
          <p:cNvCxnSpPr/>
          <p:nvPr/>
        </p:nvCxnSpPr>
        <p:spPr>
          <a:xfrm>
            <a:off x="2484360" y="4868640"/>
            <a:ext cx="720000" cy="1080"/>
          </a:xfrm>
          <a:prstGeom prst="straightConnector1">
            <a:avLst/>
          </a:prstGeom>
          <a:ln w="25560">
            <a:solidFill>
              <a:srgbClr val="cc98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3)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: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three kinds of contex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Hyperin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constru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denoted function is an object of pred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comput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elieves tha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s wis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t does no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elieve tha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the Bishop of Rom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is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In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the denoted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function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a period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m wants to become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5000"/>
              </a:lnSpc>
              <a:spcBef>
                <a:spcPts val="1749"/>
              </a:spcBef>
              <a:buClr>
                <a:srgbClr val="3b8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6600"/>
                </a:solidFill>
                <a:latin typeface="Arial"/>
              </a:rPr>
              <a:t>Extension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valu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denoted function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p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wi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pro číslo snímku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5305-8B4D-4953-BB1B-54E0CDAD7EB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6633"/>
                </a:solidFill>
                <a:latin typeface="Garamond"/>
              </a:rPr>
              <a:t>TIL </a:t>
            </a:r>
            <a:r>
              <a:rPr b="0" i="1" lang="cs-CZ" sz="3100" spc="-1" strike="noStrike">
                <a:solidFill>
                  <a:srgbClr val="006633"/>
                </a:solidFill>
                <a:latin typeface="Garamond"/>
              </a:rPr>
              <a:t>Ontolog</a:t>
            </a:r>
            <a:r>
              <a:rPr b="0" i="1" lang="en-US" sz="3100" spc="-1" strike="noStrike">
                <a:solidFill>
                  <a:srgbClr val="006633"/>
                </a:solidFill>
                <a:latin typeface="Garamond"/>
              </a:rPr>
              <a:t>y (types of order 1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procedural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objects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6633"/>
                </a:solidFill>
                <a:latin typeface="Times New Roman"/>
              </a:rPr>
              <a:t>Basic typ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ruth-values {T, F}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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niverse of discourse {individuals}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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imes or real numbers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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ossible worlds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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6633"/>
                </a:solidFill>
                <a:latin typeface="Times New Roman"/>
              </a:rPr>
              <a:t>Functional types</a:t>
            </a:r>
            <a:r>
              <a:rPr b="0" i="1" lang="en-GB" sz="3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30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30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partial functions (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PWS Intensions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 – entities of type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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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Symbol"/>
                <a:ea typeface="Symbol"/>
              </a:rPr>
              <a:t>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Zástupný symbol pro číslo snímku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9EF8-7468-4E02-938B-0517E579A10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6633"/>
                </a:solidFill>
                <a:latin typeface="Garamond"/>
              </a:rPr>
              <a:t>Construct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92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Variables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 x, y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, p, w, t, … v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-constru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500" spc="-1" strike="noStrike">
                <a:solidFill>
                  <a:srgbClr val="006633"/>
                </a:solidFill>
                <a:latin typeface="Times New Roman"/>
              </a:rPr>
              <a:t>Trivializa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tion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5f5f5f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f any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ixed pointer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 referenc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order to operate 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eeds to be grabbed, or ‘called’, first. Trivialization is such a grabbing mechanis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Closure 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[</a:t>
            </a:r>
            <a:r>
              <a:rPr b="0" lang="en-US" sz="35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lang="en-US" sz="3500" spc="-1" strike="noStrike" baseline="-25000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…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500" spc="-1" strike="noStrike" baseline="-25000">
                <a:solidFill>
                  <a:srgbClr val="006633"/>
                </a:solidFill>
                <a:latin typeface="Times New Roman"/>
              </a:rPr>
              <a:t>n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] </a:t>
            </a:r>
            <a:r>
              <a:rPr b="0" i="1" lang="cs-CZ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US" sz="21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US" sz="21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Composition 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[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F     X</a:t>
            </a:r>
            <a:r>
              <a:rPr b="0" lang="en-US" sz="3500" spc="-1" strike="noStrike" baseline="-25000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 … </a:t>
            </a:r>
            <a:r>
              <a:rPr b="0" i="1" lang="en-US" sz="35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500" spc="-1" strike="noStrike" baseline="-25000">
                <a:solidFill>
                  <a:srgbClr val="006633"/>
                </a:solidFill>
                <a:latin typeface="Times New Roman"/>
              </a:rPr>
              <a:t>n</a:t>
            </a:r>
            <a:r>
              <a:rPr b="0" lang="en-US" sz="3500" spc="-1" strike="noStrike">
                <a:solidFill>
                  <a:srgbClr val="006633"/>
                </a:solidFill>
                <a:latin typeface="Times New Roman"/>
              </a:rPr>
              <a:t>]</a:t>
            </a:r>
            <a:r>
              <a:rPr b="0" lang="en-US" sz="35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6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 baseline="-25000">
                <a:solidFill>
                  <a:srgbClr val="993300"/>
                </a:solidFill>
                <a:latin typeface="Times New Roman"/>
              </a:rPr>
              <a:t>1             </a:t>
            </a:r>
            <a:r>
              <a:rPr b="1" lang="en-GB" sz="26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6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6633"/>
                </a:solidFill>
                <a:latin typeface="Times New Roman"/>
              </a:rPr>
              <a:t>Execution </a:t>
            </a:r>
            <a:r>
              <a:rPr b="1" lang="en-US" sz="3400" spc="-1" strike="noStrike" baseline="30000">
                <a:solidFill>
                  <a:srgbClr val="006633"/>
                </a:solidFill>
                <a:latin typeface="Times New Roman"/>
              </a:rPr>
              <a:t>1</a:t>
            </a:r>
            <a:r>
              <a:rPr b="1" i="1" lang="en-US" sz="34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0" i="1" lang="en-US" sz="3400" spc="-1" strike="noStrike">
                <a:solidFill>
                  <a:srgbClr val="006633"/>
                </a:solidFill>
                <a:latin typeface="Times New Roman"/>
              </a:rPr>
              <a:t>, Double Execution </a:t>
            </a:r>
            <a:r>
              <a:rPr b="1" lang="en-US" sz="3400" spc="-1" strike="noStrike" baseline="30000">
                <a:solidFill>
                  <a:srgbClr val="006633"/>
                </a:solidFill>
                <a:latin typeface="Times New Roman"/>
              </a:rPr>
              <a:t>2</a:t>
            </a:r>
            <a:r>
              <a:rPr b="1" i="1" lang="en-US" sz="3400" spc="-1" strike="noStrike">
                <a:solidFill>
                  <a:srgbClr val="006633"/>
                </a:solidFill>
                <a:latin typeface="Times New Roman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Zástupný symbol pro číslo snímku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2DF8-A6EA-4AB1-B0AF-E7D9B798D268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6633"/>
                </a:solidFill>
                <a:latin typeface="Garamond"/>
              </a:rPr>
              <a:t>TIL Ontology (</a:t>
            </a:r>
            <a:r>
              <a:rPr b="0" i="1" lang="en-US" sz="2900" spc="-1" strike="noStrike">
                <a:solidFill>
                  <a:srgbClr val="006633"/>
                </a:solidFill>
                <a:latin typeface="Garamond"/>
              </a:rPr>
              <a:t>higher-order types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7931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26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2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1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2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61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Constructions of order n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entities belonging to a type of or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66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0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0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type of order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37"/>
              </a:spcBef>
              <a:spcAft>
                <a:spcPts val="388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6633"/>
                </a:solidFill>
                <a:latin typeface="Times New Roman"/>
              </a:rPr>
              <a:t>Functional entities</a:t>
            </a:r>
            <a:r>
              <a:rPr b="0" lang="en-GB" sz="2100" spc="-1" strike="noStrike">
                <a:solidFill>
                  <a:srgbClr val="5f5f5f"/>
                </a:solidFill>
                <a:latin typeface="Times New Roman"/>
              </a:rPr>
              <a:t>:</a:t>
            </a:r>
            <a:r>
              <a:rPr b="0" i="1" lang="en-GB" sz="21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lang="en-GB" sz="21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en-GB" sz="2100" spc="-1" strike="noStrike">
                <a:solidFill>
                  <a:srgbClr val="993300"/>
                </a:solidFill>
                <a:latin typeface="Symbol"/>
                <a:ea typeface="Symbol"/>
              </a:rPr>
              <a:t></a:t>
            </a:r>
            <a:r>
              <a:rPr b="1" i="1" lang="en-GB" sz="2100" spc="-1" strike="noStrike" baseline="-25000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n-GB" sz="2100" spc="-1" strike="noStrike">
                <a:solidFill>
                  <a:srgbClr val="993300"/>
                </a:solidFill>
                <a:latin typeface="Times New Roman"/>
              </a:rPr>
              <a:t>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belong to </a:t>
            </a:r>
            <a:r>
              <a:rPr b="1" lang="en-US" sz="2100" spc="-1" strike="noStrike">
                <a:solidFill>
                  <a:srgbClr val="993300"/>
                </a:solidFill>
                <a:latin typeface="Symbol"/>
                <a:ea typeface="Symbol"/>
              </a:rPr>
              <a:t></a:t>
            </a:r>
            <a:r>
              <a:rPr b="1" i="1" lang="en-US" sz="2100" spc="-1" strike="noStrike" baseline="-25000">
                <a:solidFill>
                  <a:srgbClr val="9933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38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highest of the types to which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long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 so on,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ad infini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IL Studijní podklady najdete n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11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cs.vsb.cz/duzi/TIL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ejména monografi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www.cs.vsb.cz/duzi/aleph.pdf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uží M., Jespersen B., Materna P.: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Procedural Semantics for Hyperintensional Logi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(2010) 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(Anglická monograf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Garamond"/>
              </a:rPr>
              <a:t>explicit intensionalization and temporalization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tructions of possible-world intensions directly encoded in the logical syntax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w </a:t>
            </a:r>
            <a:r>
              <a:rPr b="1" lang="en-GB" sz="29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 […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w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….</a:t>
            </a:r>
            <a:r>
              <a:rPr b="1" i="1" lang="en-GB" sz="2900" spc="-1" strike="noStrike">
                <a:solidFill>
                  <a:srgbClr val="996600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996600"/>
                </a:solidFill>
                <a:latin typeface="Arial"/>
              </a:rPr>
              <a:t>…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Happy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Pop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cs-CZ" sz="2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w 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lang="en-GB" sz="2900" spc="-1" strike="noStrike">
                <a:solidFill>
                  <a:srgbClr val="006633"/>
                </a:solidFill>
                <a:latin typeface="Arial"/>
              </a:rPr>
              <a:t> [</a:t>
            </a:r>
            <a:r>
              <a:rPr b="1" lang="en-GB" sz="2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9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9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GB" sz="29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 any possible world (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 at any time (</a:t>
            </a:r>
            <a:r>
              <a:rPr b="1" lang="en-GB" sz="29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GB" sz="29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the property of being happy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the papal office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tensoinalize both of them (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heck whether the holder of the Papal offi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if any)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s happy at that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f evaluation (</a:t>
            </a:r>
            <a:r>
              <a:rPr b="1" lang="en-GB" sz="25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Happy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GB" sz="2500" spc="-1" strike="noStrike" baseline="30000">
                <a:solidFill>
                  <a:srgbClr val="006633"/>
                </a:solidFill>
                <a:latin typeface="Arial"/>
              </a:rPr>
              <a:t>0</a:t>
            </a:r>
            <a:r>
              <a:rPr b="1" i="1" lang="en-GB" sz="2500" spc="-1" strike="noStrike">
                <a:solidFill>
                  <a:srgbClr val="006633"/>
                </a:solidFill>
                <a:latin typeface="Arial"/>
              </a:rPr>
              <a:t>Pope</a:t>
            </a:r>
            <a:r>
              <a:rPr b="1" i="1" lang="en-GB" sz="2500" spc="-1" strike="noStrike" baseline="-25000">
                <a:solidFill>
                  <a:srgbClr val="006633"/>
                </a:solidFill>
                <a:latin typeface="Arial"/>
              </a:rPr>
              <a:t>wt</a:t>
            </a:r>
            <a:r>
              <a:rPr b="1" lang="en-GB" sz="2500" spc="-1" strike="noStrike">
                <a:solidFill>
                  <a:srgbClr val="006633"/>
                </a:solidFill>
                <a:latin typeface="Arial"/>
              </a:rPr>
              <a:t>]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Metoda analýz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řadíme </a:t>
            </a: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typ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bjektům, o kterých výraz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luví, tj. objektům označeným podvýrazy výrazu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četně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amotnéh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Spojujeme konstrukce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ktů ad 1) tak, abychom zkonstruovali objekt označený výrazem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tom sémanticky jednoduchým výrazům přiřadím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Trivializaci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značeného ob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vedeme </a:t>
            </a: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typovou kontrol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tj. sestrojíme derivační strom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Garamond"/>
              </a:rPr>
              <a:t>Příklad</a:t>
            </a: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 „</a:t>
            </a:r>
            <a:r>
              <a:rPr b="0" lang="cs-CZ" sz="4000" spc="-1" strike="noStrike">
                <a:solidFill>
                  <a:srgbClr val="3b812f"/>
                </a:solidFill>
                <a:latin typeface="Garamond"/>
              </a:rPr>
              <a:t>Primátor Ostravy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“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Typ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rimátor(něčeho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((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– zkr. 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rimátor_Ostrav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(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– zkr.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Syntéz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6600"/>
                </a:solidFill>
                <a:latin typeface="Arial"/>
              </a:rPr>
              <a:t>Typová kontrol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[[[</a:t>
            </a:r>
            <a:r>
              <a:rPr b="0" lang="pl-PL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Primator     w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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ráceně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>
                <a:solidFill>
                  <a:srgbClr val="00b050"/>
                </a:solidFill>
                <a:latin typeface="Arial"/>
              </a:rPr>
              <a:t>individuový úřa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ravá složená závorka 6" descr=""/>
          <p:cNvPicPr/>
          <p:nvPr/>
        </p:nvPicPr>
        <p:blipFill>
          <a:blip r:embed="rId1"/>
          <a:stretch/>
        </p:blipFill>
        <p:spPr>
          <a:xfrm>
            <a:off x="2792520" y="4022640"/>
            <a:ext cx="1407960" cy="177840"/>
          </a:xfrm>
          <a:prstGeom prst="rect">
            <a:avLst/>
          </a:prstGeom>
          <a:ln w="0">
            <a:noFill/>
          </a:ln>
        </p:spPr>
      </p:pic>
      <p:pic>
        <p:nvPicPr>
          <p:cNvPr id="230" name="Pravá složená závorka 7" descr=""/>
          <p:cNvPicPr/>
          <p:nvPr/>
        </p:nvPicPr>
        <p:blipFill>
          <a:blip r:embed="rId2"/>
          <a:stretch/>
        </p:blipFill>
        <p:spPr>
          <a:xfrm>
            <a:off x="3365640" y="4529160"/>
            <a:ext cx="1627200" cy="250920"/>
          </a:xfrm>
          <a:prstGeom prst="rect">
            <a:avLst/>
          </a:prstGeom>
          <a:ln w="0">
            <a:noFill/>
          </a:ln>
        </p:spPr>
      </p:pic>
      <p:pic>
        <p:nvPicPr>
          <p:cNvPr id="231" name="Pravá složená závorka 8" descr=""/>
          <p:cNvPicPr/>
          <p:nvPr/>
        </p:nvPicPr>
        <p:blipFill>
          <a:blip r:embed="rId3"/>
          <a:stretch/>
        </p:blipFill>
        <p:spPr>
          <a:xfrm>
            <a:off x="2206800" y="3511440"/>
            <a:ext cx="1626840" cy="255600"/>
          </a:xfrm>
          <a:prstGeom prst="rect">
            <a:avLst/>
          </a:prstGeom>
          <a:ln w="0">
            <a:noFill/>
          </a:ln>
        </p:spPr>
      </p:pic>
      <p:cxnSp>
        <p:nvCxnSpPr>
          <p:cNvPr id="232" name="Přímá spojovací šipka 10"/>
          <p:cNvCxnSpPr/>
          <p:nvPr/>
        </p:nvCxnSpPr>
        <p:spPr>
          <a:xfrm>
            <a:off x="4140000" y="3068280"/>
            <a:ext cx="1080" cy="6483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3" name="Přímá spojovací šipka 12"/>
          <p:cNvCxnSpPr/>
          <p:nvPr/>
        </p:nvCxnSpPr>
        <p:spPr>
          <a:xfrm>
            <a:off x="4932000" y="3068280"/>
            <a:ext cx="1080" cy="1152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4" name="Přímá spojovací šipka 16"/>
          <p:cNvCxnSpPr/>
          <p:nvPr/>
        </p:nvCxnSpPr>
        <p:spPr>
          <a:xfrm>
            <a:off x="3779640" y="3068640"/>
            <a:ext cx="1080" cy="216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5" name="Přímá spojovací šipka 18"/>
          <p:cNvCxnSpPr/>
          <p:nvPr/>
        </p:nvCxnSpPr>
        <p:spPr>
          <a:xfrm>
            <a:off x="2700000" y="2997360"/>
            <a:ext cx="1080" cy="28800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236" name="Přímá spojovací šipka 20"/>
          <p:cNvCxnSpPr/>
          <p:nvPr/>
        </p:nvCxnSpPr>
        <p:spPr>
          <a:xfrm>
            <a:off x="1692000" y="3068640"/>
            <a:ext cx="1080" cy="216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37" name="Přímá spojovací čára 22"/>
          <p:cNvSpPr/>
          <p:nvPr/>
        </p:nvSpPr>
        <p:spPr>
          <a:xfrm>
            <a:off x="1692360" y="4869000"/>
            <a:ext cx="2374920" cy="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Přímá spojovací šipka 24"/>
          <p:cNvCxnSpPr/>
          <p:nvPr/>
        </p:nvCxnSpPr>
        <p:spPr>
          <a:xfrm>
            <a:off x="1331640" y="3068640"/>
            <a:ext cx="1080" cy="2664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39" name="Přímá spojovací čára 26"/>
          <p:cNvSpPr/>
          <p:nvPr/>
        </p:nvSpPr>
        <p:spPr>
          <a:xfrm flipV="1">
            <a:off x="1332000" y="5516280"/>
            <a:ext cx="287280" cy="14436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„</a:t>
            </a:r>
            <a:r>
              <a:rPr b="0" lang="cs-CZ" sz="4400" spc="-1" strike="noStrike">
                <a:solidFill>
                  <a:srgbClr val="3b812f"/>
                </a:solidFill>
                <a:latin typeface="Garamond"/>
              </a:rPr>
              <a:t>Primátor Ostravy je bohatý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“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Typ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Primátor(něčeho)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Primátor_Ostrav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Bý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Bohatý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Syntéza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ohat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 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6600"/>
                </a:solidFill>
                <a:latin typeface="Arial"/>
              </a:rPr>
              <a:t>Typová kontrola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(zkráceně):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[[[</a:t>
            </a:r>
            <a:r>
              <a:rPr b="0" lang="pl-PL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2700" spc="-1" strike="noStrike">
                <a:solidFill>
                  <a:srgbClr val="000000"/>
                </a:solidFill>
                <a:latin typeface="Arial"/>
              </a:rPr>
              <a:t>Bohatý</a:t>
            </a:r>
            <a:r>
              <a:rPr b="0" i="1" lang="pl-PL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pl-PL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im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strav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Arial"/>
              </a:rPr>
              <a:t>wt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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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zkráceně </a:t>
            </a:r>
            <a:r>
              <a:rPr b="0" lang="pl-PL" sz="2700" spc="-1" strike="noStrike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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700" spc="-1" strike="noStrike">
                <a:solidFill>
                  <a:srgbClr val="00b050"/>
                </a:solidFill>
                <a:latin typeface="Arial"/>
              </a:rPr>
              <a:t>propozice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 vs. Montague’s 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65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 is an extensional logic, since the axiom of extensionality is vali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x = B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= 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good thing. However, the price exacted for the simplification of the language (due to ghost variables) is too high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law of universal instantiation, lambda conversion and Leibniz’s Law do not generally hold, all of which is rather unattractiv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se, IL doe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6633"/>
                </a:solidFill>
                <a:latin typeface="Arial"/>
              </a:rPr>
              <a:t>validate the Church-Rosser ‘diamond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t is a well-known fact that an ordinary typed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calculus will have this property. Given a term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de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we can simplify the term to the form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order in which we reduce particular red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s does not mat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ing term is uniquely determined up to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renaming variables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IL does not have this defect; it validates the Church-Rosser property though it works with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n-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ry partial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nctions of TY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restricte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ary tot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önfink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L: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logical co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construc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800" spc="-1" strike="noStrike">
                <a:solidFill>
                  <a:srgbClr val="006633"/>
                </a:solidFill>
                <a:latin typeface="Arial"/>
              </a:rPr>
              <a:t>type hierarch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simple and ramifi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ramifie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ype hierarchy organizes all higher-order objects: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constructions (types </a:t>
            </a:r>
            <a:r>
              <a:rPr b="0" lang="en-GB" sz="2600" spc="-1" strike="noStrike">
                <a:solidFill>
                  <a:srgbClr val="006633"/>
                </a:solidFill>
                <a:latin typeface="Symbol"/>
                <a:ea typeface="Symbol"/>
              </a:rPr>
              <a:t></a:t>
            </a:r>
            <a:r>
              <a:rPr b="0" i="1" lang="en-GB" sz="26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s well as functions with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ain or range in co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simp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ype hierarchy organizes first-order objects: 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non-construction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like extensions (individuals, numbers, sets, etc.), possible-world intensions (functions from possible worlds) and their arguments and valu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Arial"/>
              </a:rPr>
              <a:t>Hyperintensionality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11280" y="112500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as born out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, to block invalid inferenc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rnap (1947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§§13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here are contexts that are neither extensional nor intens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titu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sswell; any context in which substitution of necessary equivalent terms fails is hyperint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, which inferences are valid in hyperintensional con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yper are hyperinten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Which contexts are </a:t>
            </a:r>
            <a:r>
              <a:rPr b="1" lang="cs-CZ" sz="2800" spc="-1" strike="noStrike">
                <a:solidFill>
                  <a:srgbClr val="996600"/>
                </a:solidFill>
                <a:latin typeface="Arial"/>
              </a:rPr>
              <a:t>intensional /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hyperintens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6633"/>
                </a:solidFill>
                <a:latin typeface="Arial"/>
              </a:rPr>
              <a:t>TIL defini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ion is positi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x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intens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very mean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C5B-7D94-4C84-A445-AC99D2CF002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6633"/>
                </a:solidFill>
                <a:latin typeface="Garamond"/>
              </a:rPr>
              <a:t>Three kinds of contex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hyperin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a meaning construction occur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display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the very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constructio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ugh a construction at least one order higher need to be executed in order to produce the displayed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in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a meaning construction occur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execut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n order to produce a function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hole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functio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f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over, the executed construction does not occur within another displayed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633"/>
                </a:solidFill>
                <a:latin typeface="Arial"/>
              </a:rPr>
              <a:t>extensional contex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the meaning construction is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execute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n order to produce a particular value of the so-constructed function 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at its argu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6633"/>
                </a:solidFill>
                <a:latin typeface="Arial"/>
              </a:rPr>
              <a:t>valu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of the function f is an object of pr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over, the executed construction does not occur within another intensional or hyperintensional context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Hyperintensiona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ensional log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hyperin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no context is opa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ame (extensional) logical rules are valid in all kinds of contex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ibniz’s substitution of identicals, existential quantification even into hyperintensional context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he types of objects these rules are applied at differ according to a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-contextualism: constructions are assigned to expressions as their context-invariant mean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ika je věda o správném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usuzování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 umění správné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argument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k ovlivňuje logická sémantika usuzování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stliže usuzujeme, argumentujeme, používáme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jazyk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.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bychom mohli správně usuzovat a argumentovat, musíme </a:t>
            </a:r>
            <a:r>
              <a:rPr b="0" i="1" lang="cs-CZ" sz="2500" spc="-1" strike="noStrike">
                <a:solidFill>
                  <a:srgbClr val="006666"/>
                </a:solidFill>
                <a:latin typeface="Verdana"/>
              </a:rPr>
              <a:t>rozumět</a:t>
            </a: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dnotlivým výrazům a větám, tj. znát jejich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význam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o, jak přesně zachytíme význam v jazyce logiky, ovlivní podstatně, nakolik jsme schopni platné úsudky formalizovat a dokazovat, nakolik jsme schopni usuzování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automatizova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roková log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mezena na přiřazení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tomickým výrokům a skládání těchto atomických výroků pomocí logických spojek – algebra pravdivostních hodno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edikátová log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víc – struktura atomických výroků – vlastnosti a vztahy mezi individ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ěsnopis </a:t>
            </a: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matemati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zvládne mnohé, ale ne vše, zejména problémy s přirozeným jazyk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rá prvočísla jsou sud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rá lichá čísla jsou sudá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ěkteří chytří lidé jsou lí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Formalizace v PL1:   </a:t>
            </a:r>
            <a:r>
              <a:rPr b="1" lang="cs-CZ" sz="2100" spc="-1" strike="noStrike">
                <a:solidFill>
                  <a:srgbClr val="006666"/>
                </a:solidFill>
                <a:latin typeface="Symbol"/>
                <a:ea typeface="Symbol"/>
              </a:rPr>
              <a:t>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100" spc="-1" strike="noStrike">
                <a:solidFill>
                  <a:srgbClr val="006666"/>
                </a:solidFill>
                <a:latin typeface="Symbol"/>
                <a:ea typeface="Symbol"/>
              </a:rPr>
              <a:t>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1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100" spc="-1" strike="noStrike">
                <a:solidFill>
                  <a:srgbClr val="006666"/>
                </a:solidFill>
                <a:latin typeface="Verdana"/>
              </a:rPr>
              <a:t>)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Otáz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č mají věty (1), (2), (3) stejnou analýzu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Jak je to možné, že výsledná formule má interpretace, ve kterých je pravdivá (modely) a interpretace, ve kterých je nepravdivá, když je to analýza vět (1) a (2)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Jak přispívá „překlad“ do formule PL1 k objasnění významu vět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Logická sémant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ádný starý mládenec není ženat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2188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ádný starý mládenec není bohat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1:   </a:t>
            </a:r>
            <a:r>
              <a:rPr b="1" lang="cs-CZ" sz="2500" spc="-1" strike="noStrike">
                <a:solidFill>
                  <a:srgbClr val="006666"/>
                </a:solidFill>
                <a:latin typeface="Symbol"/>
                <a:ea typeface="Symbol"/>
              </a:rPr>
              <a:t>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</a:t>
            </a:r>
            <a:r>
              <a:rPr b="1" lang="en-US" sz="25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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]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bo  </a:t>
            </a:r>
            <a:br>
              <a:rPr sz="2500"/>
            </a:br>
            <a:r>
              <a:rPr b="0" lang="cs-CZ" sz="25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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[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 </a:t>
            </a:r>
            <a:r>
              <a:rPr b="1" lang="en-US" sz="2500" spc="-1" strike="noStrike">
                <a:solidFill>
                  <a:srgbClr val="006666"/>
                </a:solidFill>
                <a:latin typeface="Symbol"/>
                <a:ea typeface="Symbol"/>
              </a:rPr>
              <a:t>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i="1" lang="cs-CZ" sz="2500" spc="-1" strike="noStrike">
                <a:solidFill>
                  <a:srgbClr val="006666"/>
                </a:solidFill>
                <a:latin typeface="Verdana"/>
              </a:rPr>
              <a:t>x</a:t>
            </a:r>
            <a:r>
              <a:rPr b="1" lang="cs-CZ" sz="2500" spc="-1" strike="noStrike">
                <a:solidFill>
                  <a:srgbClr val="006666"/>
                </a:solidFill>
                <a:latin typeface="Verdana"/>
              </a:rPr>
              <a:t>)]</a:t>
            </a:r>
            <a:r>
              <a:rPr b="0" lang="cs-CZ" sz="25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Verdana"/>
              </a:rPr>
              <a:t>Otázk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č mají obě věty stejné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dvě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formalizace a která z nich je ta „správná“ 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ždyť (1) je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analyticky pravdivá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zatímco (2) je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empirické tvrzení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které je za jistých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okolností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pravdivé či ne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Nedokonalá analýza předpoklad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adí to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kud bychom na základě dané formalizace vždy platně odvodili relevantní důsledky, byla by analýza v pořád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ůžeme vždy provádět korektní inference, korektní usuzování na základě analýzy premis v predikátové logice (např. PL1 )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406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utně, 8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čet planet je 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utně, počet planet je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Modální logika, operátor </a:t>
            </a: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Nesmíme substituovat v dosahu operátoru. </a:t>
            </a:r>
            <a:br>
              <a:rPr sz="2100"/>
            </a:b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OK, ale </a:t>
            </a:r>
            <a:r>
              <a:rPr b="1" i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proč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aradox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64064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8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 přikázáno doručit dop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stliže je dopis doručen, pak je doručen nebo spál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––––––––––––––––––––––––––––––––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 přikázáno dopis doručit nebo spál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66"/>
                </a:solidFill>
                <a:latin typeface="Verdana"/>
              </a:rPr>
              <a:t>Deontické logiky, operátor </a:t>
            </a:r>
            <a:r>
              <a:rPr b="0" i="1" lang="cs-CZ" sz="2100" spc="-1" strike="noStrike">
                <a:solidFill>
                  <a:srgbClr val="006666"/>
                </a:solidFill>
                <a:latin typeface="Verdana"/>
              </a:rPr>
              <a:t>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Nesmíme substituovat v dosahu operátoru, OK, ale </a:t>
            </a:r>
            <a:r>
              <a:rPr b="1" i="1" lang="cs-CZ" sz="2100" spc="-1" strike="noStrike">
                <a:solidFill>
                  <a:srgbClr val="006666"/>
                </a:solidFill>
                <a:latin typeface="Lucida Sans Unicode"/>
                <a:ea typeface="Lucida Sans Unicode"/>
              </a:rPr>
              <a:t>proč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20:49:56Z</dcterms:created>
  <dc:creator>Marie Duži</dc:creator>
  <dc:description/>
  <dc:language>en-US</dc:language>
  <cp:lastModifiedBy>Marie Duží</cp:lastModifiedBy>
  <dcterms:modified xsi:type="dcterms:W3CDTF">2017-09-18T15:03:07Z</dcterms:modified>
  <cp:revision>16</cp:revision>
  <dc:subject/>
  <dc:title>Transparentní intensionální logika (TIL)</dc:title>
</cp:coreProperties>
</file>