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C94-2958-4E04-AD4E-EDBE6E5A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8F9-D1B4-4F2D-B66D-4A334806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C7C-0DB4-483D-955F-9637E5FD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BEB-7C40-446B-A10D-5561295A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F9B3-73E5-4C5A-AEB2-8B8189C1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7BB1-7AE5-4FB4-BDAF-DB5AE653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3DFD-2B9C-4EC4-A760-67D535FE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9FE9-E2A9-4DB1-A38A-71176CB1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A16D-926A-4EB5-9008-E1C5B071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427D-A2C7-4482-9D31-3CE9E8D1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30D4-37E8-4EBD-851A-05054003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6E9-6DF9-42FE-BBE0-D24A430D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7A8C-3171-44A7-9743-EF91954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C9C7-26B2-4003-83CC-C46CCDC3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746D-E7D7-46C6-A780-3CFEEBA0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A4C3-C48D-402D-8BCE-4C465882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BBCF-93BF-41AA-A040-B4D05FDC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D53-D4AE-446A-B0A3-02AE3B9A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DAE-B4EC-4AAD-BEFD-6ACEBB2C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308-E7CF-44A7-B422-A2A2F397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F9C-E1A8-43F8-BF7F-04B0EBEB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FDA-B132-4B3D-9F87-910B6F02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F23-DB8E-409C-9E33-C0813E68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6E0-33FF-49AE-9CFC-5C05F0F3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5C08-1CE5-44DB-8EC7-15C6C45E866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A54A-E7DE-420B-AC77-511C483EE4A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.NET Security</a:t>
            </a:r>
            <a:br>
              <a:rPr sz="4800"/>
            </a:br>
            <a:r>
              <a:rPr b="1" lang="cs-CZ" sz="3000" spc="-1" strike="noStrike">
                <a:solidFill>
                  <a:srgbClr val="330066"/>
                </a:solidFill>
                <a:latin typeface="Arial"/>
              </a:rPr>
              <a:t>Ochrana 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Assembly</a:t>
            </a:r>
            <a:r>
              <a:rPr b="1" lang="cs-CZ" sz="3000" spc="-1" strike="noStrike">
                <a:solidFill>
                  <a:srgbClr val="330066"/>
                </a:solidFill>
                <a:latin typeface="Arial"/>
              </a:rPr>
              <a:t> před útokem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ír Náv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trong na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7729560" cy="2622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92360" y="4581360"/>
            <a:ext cx="4680000" cy="719280"/>
          </a:xfrm>
          <a:prstGeom prst="wedgeRoundRectCallout">
            <a:avLst>
              <a:gd name="adj1" fmla="val -46745"/>
              <a:gd name="adj2" fmla="val -179800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ledních 8B hash hodnoty z veřejného klí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203-E5FE-4E1D-8B21-3C355B4AEB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chrana - Algoritm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rongNameSignatureGener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čítá se hash hodnota hlavičky DOS včetně příslušné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čítá se hash hodnota IMAGE_DATA_HEADERS, ale vynechává se čtvrtá položka „adresáře dat“, která obsahuje tabulku certifikátu autenticity a kontrolní součet soubo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čítá se hash hodnota hlaviček sek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lavičky sekcí se použijí k vyhledání jednotlivých sekcí a pak je pro každou sekci spočítaná hash hodnota. Pokud je zde sekce obsahující signaturu silného jména, pak se tato sekce nepoužije v signatuře hash hodno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18E-639A-4C01-84E0-676FE3D88D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ícesouborové assembl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oduly s kódem nedílná součást assemb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volána výjimk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ileLoadExceptio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při kontrole hash během načít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xterní – paramet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link p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i sestav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mbeded – součást Assemb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čítání pomocí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Assembly.GetManifestResourceStrea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rací hodnotu nu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EA0-71F9-4987-8AAD-0AD97F2B60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ícesouborová assembl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62960" cy="4152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516720" y="3141720"/>
            <a:ext cx="2087640" cy="431640"/>
          </a:xfrm>
          <a:prstGeom prst="wedgeRoundRectCallout">
            <a:avLst>
              <a:gd name="adj1" fmla="val -94032"/>
              <a:gd name="adj2" fmla="val -112134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řejný klí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4581360"/>
            <a:ext cx="2087640" cy="432000"/>
          </a:xfrm>
          <a:prstGeom prst="wedgeRoundRectCallout">
            <a:avLst>
              <a:gd name="adj1" fmla="val -107416"/>
              <a:gd name="adj2" fmla="val -195222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B6E-AB59-4AE6-9D2B-5F6E54C3D2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telitní assembl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utrální jazyková assembly + satelity s jazykově závislými zdro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nenalezení nebo chybném podpisu není vyvolána výjimka a assembly není nahrá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all-back proc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 nenalezení např. české verze načte anglickou, a pokud není ani tato načte neutrál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A2A-E67D-4937-AD20-4FD2133282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Závě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duchý postup ochrany, za použití dostupných prostřed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Existence více verzí DLL knihoven vedle sebe díky silnému jménu. (Politika verzí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azník nedostane podvrženou naší aplika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7C5-6D96-4938-B177-DE903260A6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dkaz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Grimas Richard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Making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 .NET Assemblies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Tamper Resistant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Dr. Dobb’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Journal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; 7/2004; str. S6-S9; červenec 20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ačmář Dalibor;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Programujeme .NET aplikace ve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Visual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 Studiu .NET</a:t>
            </a:r>
            <a:r>
              <a:rPr b="0" lang="nb-NO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omputer Press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; Praha; 200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SD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July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C91-E7FF-4F1F-A040-4AAF0E5323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26920" y="3357360"/>
            <a:ext cx="353844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1BF-F87E-48D6-964B-ADB70B6B50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sa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í binární struk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ed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chr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inc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ícenásobná assemb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atelitní assemb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510-53E8-4E56-AFBF-744C0D6474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er-to-peer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ítě a ware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šíření aplikací skrz sítě typu GNUTella, Kazaa, Direct Connect a různými warez serv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L H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škození DLL souborů při instalaci P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1DE-CD5A-4DF2-9AEF-BAB0ABEED6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sembl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mbl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je logická kolekce jednoho či více .EXE, .DLL  nebo .module souborů a zdrojů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), které jsou doplněny manifestem obsahující meta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 ty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oduch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ícesouborov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atelit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D29-9D21-495D-8364-3A09A3D101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sembl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1067040" cy="1390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284720" y="2205000"/>
            <a:ext cx="2924280" cy="1666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68360" y="4724280"/>
            <a:ext cx="3313440" cy="432000"/>
          </a:xfrm>
          <a:prstGeom prst="wedgeRoundRectCallout">
            <a:avLst>
              <a:gd name="adj1" fmla="val -52347"/>
              <a:gd name="adj2" fmla="val -423527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duchá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4724280"/>
            <a:ext cx="3313080" cy="432000"/>
          </a:xfrm>
          <a:prstGeom prst="wedgeRoundRectCallout">
            <a:avLst>
              <a:gd name="adj1" fmla="val -50476"/>
              <a:gd name="adj2" fmla="val -370587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souborová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FA7-2EE5-43D8-A860-D8AD187075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í struk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916000" y="1719360"/>
            <a:ext cx="5770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E sou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9x a W2K nutno použít při načítání pomocnou knihovnu mscoree.d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WXP znají formát PE pro 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68360" y="1700280"/>
            <a:ext cx="2286000" cy="3657600"/>
            <a:chOff x="468360" y="1700280"/>
            <a:chExt cx="2286000" cy="3657600"/>
          </a:xfrm>
        </p:grpSpPr>
        <p:sp>
          <p:nvSpPr>
            <p:cNvPr id="165" name=""/>
            <p:cNvSpPr/>
            <p:nvPr/>
          </p:nvSpPr>
          <p:spPr>
            <a:xfrm>
              <a:off x="468360" y="1700280"/>
              <a:ext cx="2286000" cy="36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82480" y="1814400"/>
              <a:ext cx="2057400" cy="3428640"/>
              <a:chOff x="582480" y="1814400"/>
              <a:chExt cx="2057400" cy="3428640"/>
            </a:xfrm>
          </p:grpSpPr>
          <p:sp>
            <p:nvSpPr>
              <p:cNvPr id="167" name=""/>
              <p:cNvSpPr/>
              <p:nvPr/>
            </p:nvSpPr>
            <p:spPr>
              <a:xfrm>
                <a:off x="582480" y="1814400"/>
                <a:ext cx="2057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MAGE_DOS_HEAD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2480" y="2043000"/>
                <a:ext cx="2057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S-DOS Stub Messag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2480" y="2385720"/>
                <a:ext cx="2057400" cy="28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2480" y="2385720"/>
                <a:ext cx="2057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MAGE_NT_HEADE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6600" y="2728800"/>
                <a:ext cx="18288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tu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96600" y="3071520"/>
                <a:ext cx="18288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MAGE_FILE_HEAD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96600" y="3414600"/>
                <a:ext cx="18288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6600" y="3414600"/>
                <a:ext cx="1828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MAGE_OPTIONAL_HEAD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11080" y="3757320"/>
                <a:ext cx="1600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ata director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6600" y="4214520"/>
                <a:ext cx="18288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ection heade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96600" y="4557600"/>
                <a:ext cx="1828800" cy="57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ec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2916360" y="1700280"/>
            <a:ext cx="4321080" cy="1081080"/>
          </a:xfrm>
          <a:prstGeom prst="wedgeRoundRectCallout">
            <a:avLst>
              <a:gd name="adj1" fmla="val -61060"/>
              <a:gd name="adj2" fmla="val 142365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_DATA_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položka hlavička CLR struktura IMAGE_COR20_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45C-B19D-4BD8-830F-66BE1640F4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igned has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mespace Systém.Security.Crypto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přístupňuje Windows CryptoAPI, algoritmus SHA1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mplementuje hlídané algoritmy SHA256, SHA384, SHA5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blém distribuce hash hodno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ešení: asymetrická šifra představovaná algoritmem R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98E-C251-446C-9DB7-3F0E33C4AE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trong na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jmenování pro podepsanou assemb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znamný bezpečnostní prv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n assembly s podepsaným jménem mohou být v GA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litika verz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tilita sn.e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F13-F68F-49D9-8F22-1063881DCF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trong na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mocí 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ssembly: AssemblyKeyFile(&l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sta k souboru s podpis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ssembly: AssemblyKeyName(&l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 klíče v úložišti klíč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ssembly: AssemblyDelaySign(&lt;true|false&gt;)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azovou řádk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4149720"/>
            <a:ext cx="7128000" cy="1584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csc.exe /out:TestSignedAssembly.mod /t:module /r:TestSignedLibrary.dl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TestSignedAssembly.cs AnotherClass.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al.exe /out:TestSignedAssembly.exe /t:exe /win32icon:App.ic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/main:TestSignedAssembly.TestSignedAssembly.Ma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/keyf:LNavratCert.sn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/link:obrazek.bmp TestSignedAssembly.mo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E61-E8C3-4F8B-9864-3681F81C3C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20:25:44Z</dcterms:created>
  <dc:creator>Lumir Navrat</dc:creator>
  <dc:description/>
  <dc:language>en-US</dc:language>
  <cp:lastModifiedBy>Lumír Návrat</cp:lastModifiedBy>
  <dcterms:modified xsi:type="dcterms:W3CDTF">2004-08-29T19:09:40Z</dcterms:modified>
  <cp:revision>37</cp:revision>
  <dc:subject/>
  <dc:title>UML 2.0 Superstructure Class Diagram</dc:title>
</cp:coreProperties>
</file>