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823-7761-496E-999C-549801A5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D3E-C861-4742-B82B-7FBE888F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AECD-F4C9-4C3F-8513-4E7DF5CC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31A-32E9-4F71-8B07-2B9F0D52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2DAE-5E22-4C03-9BEF-40ADA9A7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CC3B-51FC-4ECB-8035-838E4A7A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E3C6-FD1A-40F2-8093-7ACB0AC0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6ECE-80FA-4639-86F2-89763703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6D9F-CA3F-4D31-BEC4-BE428C3F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AC2B-5B6A-4A17-8099-AF82FBC1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27AA-0900-467E-ADBF-18B7729E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E91F-2327-4892-B6C7-A45ECF70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DBCD-6CF7-449A-B420-E38B3E3D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BAC9-B79B-42A8-A069-2BDAB3D5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E196-BBB2-4EB7-B159-5B1893B2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CBB0-D500-4D5D-AD48-C321D0D9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D554-D85A-41D8-B411-33116FB0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0AA-9F83-408A-B347-57649804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DE1-7E84-4590-A755-6CB782F1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0784-A959-407F-8F24-446A31CD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9B8-7605-46AF-AAF6-BCA8B74E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1FC-1D33-48D0-8C50-0D0FE879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DC0-1BAD-4300-A2FE-9B516C83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2933-E575-4D37-8444-D8B0E809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4E88-CD10-4CDE-877F-DC7579A33722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91B9-0F4D-41BD-8336-DEC12D8D4D4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.NET Security</a:t>
            </a:r>
            <a:br>
              <a:rPr sz="4800"/>
            </a:br>
            <a:r>
              <a:rPr b="1" lang="cs-CZ" sz="3000" spc="-1" strike="noStrike">
                <a:solidFill>
                  <a:srgbClr val="330066"/>
                </a:solidFill>
                <a:latin typeface="Arial"/>
              </a:rPr>
              <a:t>Ochrana 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Assembly</a:t>
            </a:r>
            <a:r>
              <a:rPr b="1" lang="cs-CZ" sz="3000" spc="-1" strike="noStrike">
                <a:solidFill>
                  <a:srgbClr val="330066"/>
                </a:solidFill>
                <a:latin typeface="Arial"/>
              </a:rPr>
              <a:t> před útokem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ír Náv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Strong na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7729560" cy="2622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92360" y="4581360"/>
            <a:ext cx="4680000" cy="719280"/>
          </a:xfrm>
          <a:prstGeom prst="wedgeRoundRectCallout">
            <a:avLst>
              <a:gd name="adj1" fmla="val -46745"/>
              <a:gd name="adj2" fmla="val -179800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ledních 8B hash hodnoty z veřejného klí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3A2A-D9CE-4FEA-9C66-24CD4FB1A1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chrana - Algoritm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unkc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rongNameSignatureGener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čítá se hash hodnota hlavičky DOS včetně příslušné zprá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čítá se hash hodnota IMAGE_DATA_HEADERS, ale vynechává se čtvrtá položka „adresáře dat“, která obsahuje tabulku certifikátu autenticity a kontrolní součet soubo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čítá se hash hodnota hlaviček sekc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lavičky sekcí se použijí k vyhledání jednotlivých sekcí a pak je pro každou sekci spočítaná hash hodnota. Pokud je zde sekce obsahující signaturu silného jména, pak se tato sekce nepoužije v signatuře hash hodno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0D5D-49E5-4BD3-AD4B-6E6874D63D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ícesouborové assembl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oduly s kódem nedílná součást assemb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volána výjimk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ileLoadExceptio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při kontrole hash během načít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Externí – paramet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link p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i sestav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Embeded – součást Assemb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ačítání pomocí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Assembly.GetManifestResourceStrea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rací hodnotu nu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C8D8-A5D9-48F7-B208-BF029477B3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ícesouborová assembl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562960" cy="4152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516720" y="3141720"/>
            <a:ext cx="2087640" cy="431640"/>
          </a:xfrm>
          <a:prstGeom prst="wedgeRoundRectCallout">
            <a:avLst>
              <a:gd name="adj1" fmla="val -94032"/>
              <a:gd name="adj2" fmla="val -112134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řejný klí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92720" y="4581360"/>
            <a:ext cx="2087640" cy="432000"/>
          </a:xfrm>
          <a:prstGeom prst="wedgeRoundRectCallout">
            <a:avLst>
              <a:gd name="adj1" fmla="val -107416"/>
              <a:gd name="adj2" fmla="val -195222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ED6-968F-4FF1-9DCF-D435541A84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telitní assembl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utrální jazyková assembly + satelity s jazykově závislými zdro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 nenalezení nebo chybném podpisu není vyvolána výjimka a assembly není nahrá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all-back proc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i nenalezení např. české verze načte anglickou, a pokud není ani tato načte neutrál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79BA-0608-4910-8E22-A71983F2DB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Závě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dnoduchý postup ochrany, za použití dostupných prostředk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Existence více verzí DLL knihoven vedle sebe díky silnému jménu. (Politika verzí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kazník nedostane podvrženou naší aplika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98B-2272-4FE9-8447-6F637A7665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dkaz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Grimas Richard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Making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 .NET Assemblies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Tamper Resistant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Dr. Dobb’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Journal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; 7/2004; str. S6-S9; červenec 200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ačmář Dalibor; 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Programujeme .NET aplikace ve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Visual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 Studiu .NET</a:t>
            </a:r>
            <a:r>
              <a:rPr b="0" lang="nb-NO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Computer Press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; Praha; 200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MSD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July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6E6A-6511-48CF-8306-02A82C42B1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626920" y="3357360"/>
            <a:ext cx="353844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C41F-8F0F-4990-80AA-D456D55706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sa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í binární struk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ed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chr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inc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ícenásobná assemb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atelitní assemb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316-3193-468D-8768-9893B501A0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tiva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er-to-peer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ítě a ware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šíření aplikací skrz sítě typu GNUTella, Kazaa, Direct Connect a různými warez serve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L H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škození DLL souborů při instalaci P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4A2E-51DC-4C8B-8AD9-A9CB132131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ssembl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embl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je logická kolekce jednoho či více .EXE, .DLL  nebo .module souborů a zdrojů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ource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), které jsou doplněny manifestem obsahující metada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 typ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ednoduch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ícesouborov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atelit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9CF0-8EA5-4B9F-9502-8654073CC8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ssembl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1067040" cy="1390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284720" y="2205000"/>
            <a:ext cx="2924280" cy="1666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268360" y="4724280"/>
            <a:ext cx="3313440" cy="432000"/>
          </a:xfrm>
          <a:prstGeom prst="wedgeRoundRectCallout">
            <a:avLst>
              <a:gd name="adj1" fmla="val -52347"/>
              <a:gd name="adj2" fmla="val -423527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oduchá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4724280"/>
            <a:ext cx="3313080" cy="432000"/>
          </a:xfrm>
          <a:prstGeom prst="wedgeRoundRectCallout">
            <a:avLst>
              <a:gd name="adj1" fmla="val -50476"/>
              <a:gd name="adj2" fmla="val -370587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ícesouborová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E0F-C363-46B3-B40B-99547353B8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ní struk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916000" y="1719360"/>
            <a:ext cx="5770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E sou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9x a W2K nutno použít při načítání pomocnou knihovnu mscoree.d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WXP znají formát PE pro .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68360" y="1700280"/>
            <a:ext cx="2286000" cy="3657600"/>
            <a:chOff x="468360" y="1700280"/>
            <a:chExt cx="2286000" cy="3657600"/>
          </a:xfrm>
        </p:grpSpPr>
        <p:sp>
          <p:nvSpPr>
            <p:cNvPr id="165" name=""/>
            <p:cNvSpPr/>
            <p:nvPr/>
          </p:nvSpPr>
          <p:spPr>
            <a:xfrm>
              <a:off x="468360" y="1700280"/>
              <a:ext cx="2286000" cy="365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82480" y="1814400"/>
              <a:ext cx="2057400" cy="3428640"/>
              <a:chOff x="582480" y="1814400"/>
              <a:chExt cx="2057400" cy="3428640"/>
            </a:xfrm>
          </p:grpSpPr>
          <p:sp>
            <p:nvSpPr>
              <p:cNvPr id="167" name=""/>
              <p:cNvSpPr/>
              <p:nvPr/>
            </p:nvSpPr>
            <p:spPr>
              <a:xfrm>
                <a:off x="582480" y="1814400"/>
                <a:ext cx="20574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MAGE_DOS_HEAD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2480" y="2043000"/>
                <a:ext cx="20574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S-DOS Stub Messag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2480" y="2385720"/>
                <a:ext cx="2057400" cy="28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2480" y="2385720"/>
                <a:ext cx="2057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MAGE_NT_HEADER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6600" y="2728800"/>
                <a:ext cx="18288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tu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96600" y="3071520"/>
                <a:ext cx="18288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MAGE_FILE_HEAD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96600" y="3414600"/>
                <a:ext cx="182880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96600" y="3414600"/>
                <a:ext cx="1828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MAGE_OPTIONAL_HEAD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11080" y="3757320"/>
                <a:ext cx="16002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ata director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96600" y="4214520"/>
                <a:ext cx="18288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ection header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96600" y="4557600"/>
                <a:ext cx="1828800" cy="57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ection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"/>
          <p:cNvSpPr/>
          <p:nvPr/>
        </p:nvSpPr>
        <p:spPr>
          <a:xfrm>
            <a:off x="2916360" y="1700280"/>
            <a:ext cx="4321080" cy="1081080"/>
          </a:xfrm>
          <a:prstGeom prst="wedgeRoundRectCallout">
            <a:avLst>
              <a:gd name="adj1" fmla="val -61060"/>
              <a:gd name="adj2" fmla="val 142365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_DATA_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položka hlavička CLR struktura IMAGE_COR20_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687-A200-419D-ABE4-D87AC244B0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Signed has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mespace Systém.Security.Crypto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přístupňuje Windows CryptoAPI, algoritmus SHA12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mplementuje hlídané algoritmy SHA256, SHA384, SHA5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blém distribuce hash hodno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ešení: asymetrická šifra představovaná algoritmem R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5922-4725-43AA-AC52-989D256E4B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Strong na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jmenování pro podepsanou assemb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znamný bezpečnostní prv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n assembly s podepsaným jménem mohou být v GA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litika verz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tilita sn.ex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152-C2B0-4E33-99A6-2AD5A7E831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Strong na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mocí 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ssembly: AssemblyKeyFile(&l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sta k souboru s podpis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ssembly: AssemblyKeyName(&l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zev klíče v úložišti klíč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ssembly: AssemblyDelaySign(&lt;true|false&gt;)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azovou řádk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4149720"/>
            <a:ext cx="7128000" cy="1584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csc.exe /out:TestSignedAssembly.mod /t:module /r:TestSignedLibrary.dl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TestSignedAssembly.cs AnotherClass.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al.exe /out:TestSignedAssembly.exe /t:exe /win32icon:App.ic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/main:TestSignedAssembly.TestSignedAssembly.Ma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/keyf:LNavratCert.sn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/link:obrazek.bmp TestSignedAssembly.mo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.NET security - ochrana assemb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319-1E58-41EF-9373-5CADC4E754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20:25:44Z</dcterms:created>
  <dc:creator>Lumir Navrat</dc:creator>
  <dc:description/>
  <dc:language>en-US</dc:language>
  <cp:lastModifiedBy>Lumír Návrat</cp:lastModifiedBy>
  <dcterms:modified xsi:type="dcterms:W3CDTF">2004-08-29T19:09:40Z</dcterms:modified>
  <cp:revision>37</cp:revision>
  <dc:subject/>
  <dc:title>UML 2.0 Superstructure Class Diagram</dc:title>
</cp:coreProperties>
</file>