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C21-F2B9-415E-8ED8-D3649642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F1E-8E57-4261-8BD5-E3AC0FA6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A8AC-3E70-4EE8-9D25-59C6E13A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96C-BC3A-4F7C-85B9-67CEDBC5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2A19-2F76-4CEB-A8DE-FDE61A73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FA34-44ED-42E9-BF59-C1110C77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E209-2FC6-43D0-8C7C-432DD355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ECF7-C54B-4CCC-9202-22DAA3E6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2339-2B60-43EA-A3B0-3FD3BF8F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5798-DF3A-4567-A0CD-33F0B241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F019-2DA4-48F2-BD5E-7BEBBA72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6B0-45C2-490B-89D8-9F3752BD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96EC-867F-4389-ABBF-A622A50D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CB79-7D6C-44FF-95D9-D46A59BE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90A3-8E3B-4CD3-9BC3-23082CBB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2AFB-31A5-4352-BB8E-83E61F70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12CD-FEB4-48B8-8176-69BE70D8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F7C-CD65-4192-9756-322942CB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3E6-33ED-4299-B4C5-DD007434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882-B492-42F5-BCF4-C35CE61D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E93F-48CA-4EB1-8F61-F4C5F3FF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3F4C-42E5-4B0C-9681-AD0159E1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55B3-2463-490E-A509-B9DA5FED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A251-C30A-4E86-A16A-880D110A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3146-70E0-4E2B-AD66-6B3EF0F623F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BC91-4B02-47A9-8AA0-E9140152ABF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UML 2.0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 Structure</a:t>
            </a:r>
            <a:r>
              <a:rPr b="1" lang="cs-CZ" sz="4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Diagram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ír Náv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agram kompon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obrazuje vztahy a závislost mezi komponentami. Ve verzi UML 2.0 přibližuje se k modelování životního cyklu místo implementačního pohledu v UML 1.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vin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noho implicitních pravidel z UML 1.3 změněno na explicit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a komponenty v pravém rohu může být nahrazena klíčovým slovem &lt;&lt;component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hrazuje spolu s diagramem nasazení implementační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obsahovat strukturované klasifiká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3DB1-0612-41BF-8A71-5E80555659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agram balíčků a nasazení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iagram balíč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obrazuje logické uspořádání prvků modelu a jejich vzájemné závislos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ovin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Žádné jen přesněji popsán mechanismus importu a nový koncept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iagram nasaze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obrazuje konfiguraci procesů při běhu systé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C5B-77F2-48DF-9D80-EA7AA86237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agram architektu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310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ý diagram v UML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obrazuje interní strukturu klasifikátoru a možnosti jeho komunikace s okolí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laborační“ diagra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opisuje jen strukturu spolupracujících entit. Jejich komunikace je zobrazena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nterakční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munikační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iagram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ůvodní kolaborační diagram). Podporuje vázání rolí k částem realizující struktu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BC5-EA84-4DF2-8FF1-DB49B3A1A5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kturované klasifiká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ty často navzájem spolupracují aby zajistily chování systému. Strukturované klasifikátory podpor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is struktury a vztahů účastníků, kteří společně vykonávají úkoly systé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pnost zapouzdřit/izolovat vnitřní strukturu a dosáhnout nahradite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ou to třídy, kolaborace, kompone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kladní konstrukce jsou Part, Port a Kone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562-B492-4C5F-94E9-64C1FB540B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onstruk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rt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prezentuje množinu instancí, které jsou seskupeny v instanci obsahujícího klasifikátoru. Mohou být spojeny konektory a specifikují konfiguraci spojených instan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o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uje spojení (instanci asociace), které umožňuje komunikaci mezi strukturou, nebo okol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t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uje interakční bod mezi klasifikátorem a okolím. Popisuje služby, které klasifikátor nabízí a požaduje od svého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997E-08C2-452A-ABDD-2105400776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onstruk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llaboration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prezentuje strukturu spolupracujících ele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llaboration Occurence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kyt kolaborace, reprezentuje aplikaci vzoru popsaného kolabor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4110-9F3B-48D8-A807-D1CEE748C8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perty</a:t>
            </a: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 – Par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– Connec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finuje metatříd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Connector a Connector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2779560"/>
            <a:ext cx="7745400" cy="2644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276720" y="2492280"/>
            <a:ext cx="1441440" cy="719280"/>
          </a:xfrm>
          <a:prstGeom prst="wedgeRoundRectCallout">
            <a:avLst>
              <a:gd name="adj1" fmla="val 61675"/>
              <a:gd name="adj2" fmla="val 171189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27640" y="2492280"/>
            <a:ext cx="1441440" cy="719280"/>
          </a:xfrm>
          <a:prstGeom prst="wedgeRoundRectCallout">
            <a:avLst>
              <a:gd name="adj1" fmla="val 38435"/>
              <a:gd name="adj2" fmla="val 170972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3280" y="5229360"/>
            <a:ext cx="1441440" cy="718920"/>
          </a:xfrm>
          <a:prstGeom prst="wedgeRoundRectCallout">
            <a:avLst>
              <a:gd name="adj1" fmla="val 75550"/>
              <a:gd name="adj2" fmla="val -169203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0C0A-982C-40BF-A877-AB7165D0C8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perty – </a:t>
            </a: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Par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835280" y="3357720"/>
            <a:ext cx="1375560" cy="720720"/>
            <a:chOff x="1835280" y="3357720"/>
            <a:chExt cx="1375560" cy="720720"/>
          </a:xfrm>
        </p:grpSpPr>
        <p:sp>
          <p:nvSpPr>
            <p:cNvPr id="206" name=""/>
            <p:cNvSpPr/>
            <p:nvPr/>
          </p:nvSpPr>
          <p:spPr>
            <a:xfrm>
              <a:off x="1835280" y="3357720"/>
              <a:ext cx="1368000" cy="72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e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17440" y="3357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859280" y="3357720"/>
            <a:ext cx="1368360" cy="72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w:Whe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1..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03640" y="2565360"/>
            <a:ext cx="1439640" cy="609480"/>
          </a:xfrm>
          <a:prstGeom prst="wedgeRoundRectCallout">
            <a:avLst>
              <a:gd name="adj1" fmla="val -55180"/>
              <a:gd name="adj2" fmla="val 9166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ásob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2492280"/>
            <a:ext cx="1440000" cy="609840"/>
          </a:xfrm>
          <a:prstGeom prst="wedgeRoundRectCallout">
            <a:avLst>
              <a:gd name="adj1" fmla="val -51652"/>
              <a:gd name="adj2" fmla="val 131773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ásob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98920" y="4581360"/>
            <a:ext cx="1944360" cy="609840"/>
          </a:xfrm>
          <a:prstGeom prst="wedgeRoundRectCallout">
            <a:avLst>
              <a:gd name="adj1" fmla="val -88365"/>
              <a:gd name="adj2" fmla="val -129949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nymní tř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efinuje metatříd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06C-51AC-4D41-9485-4B04F39ED0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Part – vzory propojení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mezení definuje metatříd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Class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6920" y="3357720"/>
            <a:ext cx="3267360" cy="2009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267000" cy="1981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126520" y="2492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43240" y="2492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vě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2421720"/>
            <a:ext cx="7993080" cy="397080"/>
          </a:xfrm>
          <a:prstGeom prst="wedgeRoundRectCallout">
            <a:avLst>
              <a:gd name="adj1" fmla="val -39736"/>
              <a:gd name="adj2" fmla="val 434782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name [‘/’rolename] | ‘/’rolename} [‘:’ classifiername [‘,’ clasifiername]*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948-9F8E-439F-AAE1-74347EE8AB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 - příkla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201080" cy="2941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826920" y="2565360"/>
            <a:ext cx="7201080" cy="21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C054-BCD1-4799-BC49-686E61C95C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ML 2.0 - Obsa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isto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incipy a důvody pro UML 2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trukturované diagr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ladní nové prv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aboration Occur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7DFA-A1EB-46C7-B4E5-450B0B7705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 – příklady instancí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327640" cy="2546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6480000" cy="22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5F2-8616-4D42-B8E2-3FF08F4660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rt</a:t>
            </a: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 - kompoz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uje metatřída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ožňuje specifikovat klasifikátor bez znalostí vnějšího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sílá a přijímá skrz něj zp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unikuje pomocí konek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332000" y="4076640"/>
            <a:ext cx="5976720" cy="1130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140360" y="3860640"/>
            <a:ext cx="914400" cy="609840"/>
          </a:xfrm>
          <a:prstGeom prst="wedgeRoundRectCallout">
            <a:avLst>
              <a:gd name="adj1" fmla="val -251912"/>
              <a:gd name="adj2" fmla="val 89324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08000" y="5661000"/>
            <a:ext cx="2808360" cy="609480"/>
          </a:xfrm>
          <a:prstGeom prst="wedgeRoundRectCallout">
            <a:avLst>
              <a:gd name="adj1" fmla="val -53111"/>
              <a:gd name="adj2" fmla="val -205208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kytované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6000" y="5589720"/>
            <a:ext cx="2808360" cy="609480"/>
          </a:xfrm>
          <a:prstGeom prst="wedgeRoundRectCallout">
            <a:avLst>
              <a:gd name="adj1" fmla="val -71819"/>
              <a:gd name="adj2" fmla="val -147916"/>
              <a:gd name="adj3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žadované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B486-6576-489F-A9BB-77C868F8BB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ůže mít komplexní chování (protoko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hování je pak popsáno v diagramech chová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rt - chování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3213000"/>
            <a:ext cx="3907080" cy="2776680"/>
          </a:xfrm>
          <a:prstGeom prst="rect">
            <a:avLst/>
          </a:prstGeom>
          <a:solidFill>
            <a:srgbClr val="f8f8f8"/>
          </a:solidFill>
          <a:ln w="93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98600" y="321948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46240" y="4089240"/>
            <a:ext cx="166680" cy="1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30440" y="4094280"/>
            <a:ext cx="164880" cy="1648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797120" y="417816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75520" y="427680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Údrž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60680" y="5059440"/>
            <a:ext cx="1428840" cy="763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:Monitor[*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206800" y="4179960"/>
            <a:ext cx="24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451240" y="2851200"/>
            <a:ext cx="2270160" cy="895320"/>
          </a:xfrm>
          <a:prstGeom prst="line">
            <a:avLst/>
          </a:prstGeom>
          <a:ln w="9360">
            <a:solidFill>
              <a:srgbClr val="7e9ce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64080" y="254628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e9ce8"/>
                </a:solidFill>
                <a:latin typeface="Arial"/>
              </a:rPr>
              <a:t>Porty ch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324320" y="2851200"/>
            <a:ext cx="565200" cy="1219320"/>
          </a:xfrm>
          <a:prstGeom prst="line">
            <a:avLst/>
          </a:prstGeom>
          <a:ln w="9360">
            <a:solidFill>
              <a:srgbClr val="7e9ce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13360" y="4983120"/>
            <a:ext cx="166680" cy="1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03640" y="4070520"/>
            <a:ext cx="166680" cy="1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264200" y="4160880"/>
            <a:ext cx="244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03720" y="425916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38920" y="5408640"/>
            <a:ext cx="166680" cy="1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491000">
            <a:off x="6339960" y="5624280"/>
            <a:ext cx="84240" cy="182520"/>
          </a:xfrm>
          <a:custGeom>
            <a:avLst/>
            <a:gdLst>
              <a:gd name="textAreaLeft" fmla="*/ 24840 w 84240"/>
              <a:gd name="textAreaRight" fmla="*/ 84600 w 84240"/>
              <a:gd name="textAreaTop" fmla="*/ 45720 h 182520"/>
              <a:gd name="textAreaBottom" fmla="*/ 137160 h 18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26280" y="5261040"/>
            <a:ext cx="164880" cy="16488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05600" y="5486400"/>
            <a:ext cx="23652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105600" y="5375160"/>
            <a:ext cx="21600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83160" y="567072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ff0000"/>
                </a:solidFill>
                <a:latin typeface="Arial"/>
              </a:rPr>
              <a:t>Regul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á</a:t>
            </a:r>
            <a:r>
              <a:rPr b="1" lang="sv-SE" sz="1400" spc="-1" strike="noStrike">
                <a:solidFill>
                  <a:srgbClr val="ff0000"/>
                </a:solidFill>
                <a:latin typeface="Arial"/>
              </a:rPr>
              <a:t>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39680" y="501012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Vs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22800" y="50450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00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51240" y="4070520"/>
            <a:ext cx="482400" cy="206280"/>
          </a:xfrm>
          <a:prstGeom prst="ellipse">
            <a:avLst/>
          </a:prstGeom>
          <a:solidFill>
            <a:srgbClr val="7e9ce8"/>
          </a:solidFill>
          <a:ln w="93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08640" y="4070520"/>
            <a:ext cx="482400" cy="206280"/>
          </a:xfrm>
          <a:prstGeom prst="ellipse">
            <a:avLst/>
          </a:prstGeom>
          <a:solidFill>
            <a:srgbClr val="7e9ce8"/>
          </a:solidFill>
          <a:ln w="93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914720" y="505296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0000"/>
                </a:solidFill>
                <a:latin typeface="Arial"/>
              </a:rPr>
              <a:t>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92680" y="5357880"/>
            <a:ext cx="166680" cy="187200"/>
          </a:xfrm>
          <a:prstGeom prst="rect">
            <a:avLst/>
          </a:prstGeom>
          <a:solidFill>
            <a:srgbClr val="ffffff"/>
          </a:solidFill>
          <a:ln w="9360">
            <a:solidFill>
              <a:srgbClr val="d8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59360" y="5504040"/>
            <a:ext cx="9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03080" y="4680000"/>
            <a:ext cx="185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Inicializace senzo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29840" y="2570040"/>
            <a:ext cx="164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e9ce8"/>
                </a:solidFill>
                <a:latin typeface="Arial"/>
              </a:rPr>
              <a:t>Chování</a:t>
            </a:r>
            <a:r>
              <a:rPr b="0" lang="sv-SE" sz="1400" spc="-1" strike="noStrike">
                <a:solidFill>
                  <a:srgbClr val="7e9ce8"/>
                </a:solidFill>
                <a:latin typeface="Arial"/>
              </a:rPr>
              <a:t> (</a:t>
            </a:r>
            <a:r>
              <a:rPr b="0" lang="cs-CZ" sz="1400" spc="-1" strike="noStrike">
                <a:solidFill>
                  <a:srgbClr val="7e9ce8"/>
                </a:solidFill>
                <a:latin typeface="Arial"/>
              </a:rPr>
              <a:t>senzoru</a:t>
            </a:r>
            <a:r>
              <a:rPr b="0" lang="sv-SE" sz="1400" spc="-1" strike="noStrike">
                <a:solidFill>
                  <a:srgbClr val="7e9ce8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915080" y="2874960"/>
            <a:ext cx="2141280" cy="1195560"/>
          </a:xfrm>
          <a:prstGeom prst="line">
            <a:avLst/>
          </a:prstGeom>
          <a:ln w="9360">
            <a:solidFill>
              <a:srgbClr val="7e9ce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40D-3CB9-4E4E-89DB-92C14262E3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468360" y="2565360"/>
            <a:ext cx="4651200" cy="2233800"/>
            <a:chOff x="468360" y="2565360"/>
            <a:chExt cx="4651200" cy="2233800"/>
          </a:xfrm>
        </p:grpSpPr>
        <p:sp>
          <p:nvSpPr>
            <p:cNvPr id="266" name=""/>
            <p:cNvSpPr/>
            <p:nvPr/>
          </p:nvSpPr>
          <p:spPr>
            <a:xfrm>
              <a:off x="468360" y="2565360"/>
              <a:ext cx="4651200" cy="2233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98560" y="2599560"/>
              <a:ext cx="29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8360" y="2745000"/>
              <a:ext cx="4651200" cy="2053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78040" y="3754800"/>
              <a:ext cx="1294920" cy="424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71520" y="3913200"/>
              <a:ext cx="42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: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Ko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9400" y="3746160"/>
              <a:ext cx="1201320" cy="4093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5600" y="3898800"/>
              <a:ext cx="59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o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1980720" y="3909960"/>
              <a:ext cx="159012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38880" y="3806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06200" y="38034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.*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63200" y="448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2000" y="4285440"/>
              <a:ext cx="1201320" cy="40788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57040" y="4467960"/>
              <a:ext cx="52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un: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Ko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00360" y="4294080"/>
              <a:ext cx="1275840" cy="424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09320" y="4503600"/>
              <a:ext cx="50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w: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Ko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96840" y="4446720"/>
              <a:ext cx="803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993680" y="4446720"/>
              <a:ext cx="802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56800" y="433404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.*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31760" y="43326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.*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2000" y="2823480"/>
              <a:ext cx="1096560" cy="3567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05200" y="2928960"/>
              <a:ext cx="46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: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Mo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65040" y="3460680"/>
              <a:ext cx="1080" cy="27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265040" y="3179880"/>
              <a:ext cx="1080" cy="28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1190520" y="3121560"/>
              <a:ext cx="606600" cy="267480"/>
              <a:chOff x="1190520" y="3121560"/>
              <a:chExt cx="606600" cy="267480"/>
            </a:xfrm>
          </p:grpSpPr>
          <p:sp>
            <p:nvSpPr>
              <p:cNvPr id="290" name=""/>
              <p:cNvSpPr/>
              <p:nvPr/>
            </p:nvSpPr>
            <p:spPr>
              <a:xfrm>
                <a:off x="1190520" y="3121560"/>
                <a:ext cx="136080" cy="12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69800" y="3221280"/>
                <a:ext cx="427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100" spc="-1" strike="noStrike">
                    <a:solidFill>
                      <a:srgbClr val="000000"/>
                    </a:solidFill>
                    <a:latin typeface="Arial"/>
                  </a:rPr>
                  <a:t>poh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468360" y="2565360"/>
            <a:ext cx="4651200" cy="2232000"/>
            <a:chOff x="468360" y="2565360"/>
            <a:chExt cx="4651200" cy="2232000"/>
          </a:xfrm>
        </p:grpSpPr>
        <p:sp>
          <p:nvSpPr>
            <p:cNvPr id="293" name=""/>
            <p:cNvSpPr/>
            <p:nvPr/>
          </p:nvSpPr>
          <p:spPr>
            <a:xfrm>
              <a:off x="468360" y="2565360"/>
              <a:ext cx="4651200" cy="2232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80920" y="260064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Lo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8360" y="2745000"/>
              <a:ext cx="4651200" cy="2052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9400" y="3745080"/>
              <a:ext cx="1201320" cy="40896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44280" y="3940560"/>
              <a:ext cx="889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: 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Lodní šrou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34480" y="38052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.*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2000" y="2823120"/>
              <a:ext cx="1096560" cy="3564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05200" y="2928960"/>
              <a:ext cx="46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: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</a:rPr>
                <a:t>Mo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65040" y="3459960"/>
              <a:ext cx="1080" cy="27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1265040" y="3179160"/>
              <a:ext cx="1080" cy="28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1190520" y="3121200"/>
              <a:ext cx="606600" cy="267480"/>
              <a:chOff x="1190520" y="3121200"/>
              <a:chExt cx="606600" cy="267480"/>
            </a:xfrm>
          </p:grpSpPr>
          <p:sp>
            <p:nvSpPr>
              <p:cNvPr id="304" name=""/>
              <p:cNvSpPr/>
              <p:nvPr/>
            </p:nvSpPr>
            <p:spPr>
              <a:xfrm>
                <a:off x="1190520" y="3121200"/>
                <a:ext cx="136080" cy="1224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369800" y="3220920"/>
                <a:ext cx="427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100" spc="-1" strike="noStrike">
                    <a:solidFill>
                      <a:srgbClr val="000000"/>
                    </a:solidFill>
                    <a:latin typeface="Arial"/>
                  </a:rPr>
                  <a:t>poh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rt - příkl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435640" y="2708280"/>
            <a:ext cx="3144960" cy="2602080"/>
            <a:chOff x="5435640" y="2708280"/>
            <a:chExt cx="3144960" cy="2602080"/>
          </a:xfrm>
        </p:grpSpPr>
        <p:grpSp>
          <p:nvGrpSpPr>
            <p:cNvPr id="308" name=""/>
            <p:cNvGrpSpPr/>
            <p:nvPr/>
          </p:nvGrpSpPr>
          <p:grpSpPr>
            <a:xfrm>
              <a:off x="5435640" y="2708280"/>
              <a:ext cx="3144960" cy="2049480"/>
              <a:chOff x="5435640" y="2708280"/>
              <a:chExt cx="3144960" cy="2049480"/>
            </a:xfrm>
          </p:grpSpPr>
          <p:sp>
            <p:nvSpPr>
              <p:cNvPr id="309" name=""/>
              <p:cNvSpPr/>
              <p:nvPr/>
            </p:nvSpPr>
            <p:spPr>
              <a:xfrm>
                <a:off x="5435640" y="2708280"/>
                <a:ext cx="3144960" cy="2049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800760" y="2749680"/>
                <a:ext cx="390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100" spc="-1" strike="noStrike">
                    <a:solidFill>
                      <a:srgbClr val="000000"/>
                    </a:solidFill>
                    <a:latin typeface="Arial"/>
                  </a:rPr>
                  <a:t>Motor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35640" y="2924280"/>
                <a:ext cx="3144960" cy="1833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012000" y="3038400"/>
                <a:ext cx="811080" cy="41112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110640" y="3068640"/>
                <a:ext cx="633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jdfkklf:X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15280" y="3645000"/>
                <a:ext cx="873000" cy="41256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578280" y="3686040"/>
                <a:ext cx="749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mnvjsfd:Z3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237360" y="3665520"/>
                <a:ext cx="277920" cy="19692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0" y="0"/>
                    </a:moveTo>
                    <a:lnTo>
                      <a:pt x="0" y="19"/>
                    </a:lnTo>
                    <a:lnTo>
                      <a:pt x="27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6237360" y="3449520"/>
                <a:ext cx="1800" cy="216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142400" y="4202280"/>
                <a:ext cx="873000" cy="41112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201800" y="4232160"/>
                <a:ext cx="727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wwedjf:W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358040" y="3130560"/>
                <a:ext cx="873360" cy="411120"/>
              </a:xfrm>
              <a:prstGeom prst="rect">
                <a:avLst/>
              </a:prstGeom>
              <a:solidFill>
                <a:srgbClr val="ffff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13920" y="3171960"/>
                <a:ext cx="64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joioerj:Y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7655040" y="3541680"/>
                <a:ext cx="1440" cy="185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88280" y="3727440"/>
                <a:ext cx="266760" cy="17604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26" y="0"/>
                    </a:moveTo>
                    <a:lnTo>
                      <a:pt x="26" y="17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7820280" y="3541320"/>
                <a:ext cx="1440" cy="330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820280" y="3871800"/>
                <a:ext cx="1440" cy="3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5779080" y="4060800"/>
              <a:ext cx="999360" cy="990000"/>
              <a:chOff x="5779080" y="4060800"/>
              <a:chExt cx="999360" cy="99000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6110280" y="4060800"/>
                <a:ext cx="668160" cy="765360"/>
                <a:chOff x="6110280" y="4060800"/>
                <a:chExt cx="668160" cy="7653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6110280" y="4689360"/>
                  <a:ext cx="136800" cy="136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>
                  <a:off x="6178320" y="4060800"/>
                  <a:ext cx="600120" cy="620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5779080" y="4883040"/>
                <a:ext cx="427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100" spc="-1" strike="noStrike">
                    <a:solidFill>
                      <a:srgbClr val="000000"/>
                    </a:solidFill>
                    <a:latin typeface="Arial"/>
                  </a:rPr>
                  <a:t>poh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873840" y="51228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45280" y="4808520"/>
              <a:ext cx="63828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85160" y="4971960"/>
              <a:ext cx="39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</a:rPr>
                <a:t>Hříde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C56-2E33-4B94-970C-61473C50B0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Collabo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ární účel popsat systém jak pracu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ta a přesné vlastnosti tříd potlače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hled na množinu spolupracujících klasifikáto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55640" y="4005360"/>
            <a:ext cx="7410600" cy="198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165-2738-4B1E-89E6-42CCB1A8C1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Collabo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lze instanciov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hodný prostředek pro popis návrhových vzo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8207280" cy="292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307F-5F0C-407C-8DB0-9203523086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Collaboration Occu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ezentuje jedno konkrétní použití kolabor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348000" y="3141720"/>
            <a:ext cx="5486400" cy="29908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468360" y="2421000"/>
            <a:ext cx="3267000" cy="13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7592-BA22-49E0-A8B4-E1B6913384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Collaboration Occure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7343640" cy="274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EB24-E9DC-40A9-88FB-348D28E0BE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hrnutí nota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48" name="part" descr=""/>
          <p:cNvPicPr/>
          <p:nvPr/>
        </p:nvPicPr>
        <p:blipFill>
          <a:blip r:embed="rId1"/>
          <a:stretch/>
        </p:blipFill>
        <p:spPr>
          <a:xfrm>
            <a:off x="5940360" y="2349360"/>
            <a:ext cx="1354320" cy="712800"/>
          </a:xfrm>
          <a:prstGeom prst="rect">
            <a:avLst/>
          </a:prstGeom>
          <a:ln w="0">
            <a:noFill/>
          </a:ln>
        </p:spPr>
      </p:pic>
      <p:pic>
        <p:nvPicPr>
          <p:cNvPr id="349" name="port" descr=""/>
          <p:cNvPicPr/>
          <p:nvPr/>
        </p:nvPicPr>
        <p:blipFill>
          <a:blip r:embed="rId2"/>
          <a:stretch/>
        </p:blipFill>
        <p:spPr>
          <a:xfrm>
            <a:off x="6093000" y="3286080"/>
            <a:ext cx="1143000" cy="739800"/>
          </a:xfrm>
          <a:prstGeom prst="rect">
            <a:avLst/>
          </a:prstGeom>
          <a:ln w="0">
            <a:noFill/>
          </a:ln>
        </p:spPr>
      </p:pic>
      <p:pic>
        <p:nvPicPr>
          <p:cNvPr id="350" name="kolaborace" descr=""/>
          <p:cNvPicPr/>
          <p:nvPr/>
        </p:nvPicPr>
        <p:blipFill>
          <a:blip r:embed="rId3"/>
          <a:stretch/>
        </p:blipFill>
        <p:spPr>
          <a:xfrm>
            <a:off x="6026040" y="4221000"/>
            <a:ext cx="1209960" cy="627120"/>
          </a:xfrm>
          <a:prstGeom prst="rect">
            <a:avLst/>
          </a:prstGeom>
          <a:ln w="0">
            <a:noFill/>
          </a:ln>
        </p:spPr>
      </p:pic>
      <p:pic>
        <p:nvPicPr>
          <p:cNvPr id="351" name="vyskytkolaborace" descr=""/>
          <p:cNvPicPr/>
          <p:nvPr/>
        </p:nvPicPr>
        <p:blipFill>
          <a:blip r:embed="rId4"/>
          <a:stretch/>
        </p:blipFill>
        <p:spPr>
          <a:xfrm>
            <a:off x="6084720" y="5153040"/>
            <a:ext cx="1224000" cy="66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"/>
          <p:cNvGraphicFramePr/>
          <p:nvPr/>
        </p:nvGraphicFramePr>
        <p:xfrm>
          <a:off x="900000" y="1773360"/>
          <a:ext cx="7632720" cy="410364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Uz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Not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Kolabo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Výskyt kolabo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"/>
          <p:cNvSpPr/>
          <p:nvPr/>
        </p:nvSpPr>
        <p:spPr>
          <a:xfrm>
            <a:off x="0" y="4686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409-402A-48F6-AD3E-45EED909D3C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hrnutí nota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564160" y="3032280"/>
            <a:ext cx="1371600" cy="0"/>
            <a:chOff x="5564160" y="3032280"/>
            <a:chExt cx="1371600" cy="0"/>
          </a:xfrm>
        </p:grpSpPr>
        <p:sp>
          <p:nvSpPr>
            <p:cNvPr id="356" name=""/>
            <p:cNvSpPr/>
            <p:nvPr/>
          </p:nvSpPr>
          <p:spPr>
            <a:xfrm flipH="1">
              <a:off x="5564160" y="30322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564160" y="3967200"/>
            <a:ext cx="1371600" cy="0"/>
            <a:chOff x="5564160" y="3967200"/>
            <a:chExt cx="1371600" cy="0"/>
          </a:xfrm>
        </p:grpSpPr>
        <p:sp>
          <p:nvSpPr>
            <p:cNvPr id="358" name=""/>
            <p:cNvSpPr/>
            <p:nvPr/>
          </p:nvSpPr>
          <p:spPr>
            <a:xfrm flipH="1">
              <a:off x="5564160" y="3967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647720" y="253224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47720" y="253224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332000" y="2133720"/>
          <a:ext cx="6595560" cy="2338200"/>
        </p:xfrm>
        <a:graphic>
          <a:graphicData uri="http://schemas.openxmlformats.org/drawingml/2006/table">
            <a:tbl>
              <a:tblPr/>
              <a:tblGrid>
                <a:gridCol w="3297960"/>
                <a:gridCol w="32976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Hr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Not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Konek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Times New Roman"/>
                        </a:rPr>
                        <a:t>Vázání rol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4868640"/>
            <a:ext cx="8229600" cy="12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šechny konstrukce je možné použít i v jiných diagramech struk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E9D0-E05F-4B29-AFB6-0719BB5533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istor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L je grafický jazyk p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k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zualiz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struk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ument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ástí softwarových systém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OMG jako UML v. 1.1 v roce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vní „velké“ změny ve specifikaci v UML v. 1.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es UML v. 1.5 jako finální specifikace a UML 2.0 ve stavu FT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1D0-EE93-42DD-AFD4-75E66CC2C6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dkaz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2 Partners; UML 2.0 Superstructure Specification; OMG document ptc/04-04-08; dube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omg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eveloppez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jeckle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7AF8-4BAF-4027-A64A-82DD9E7868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2626920" y="3357360"/>
            <a:ext cx="353844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003-8414-4EEC-BEFE-B118A2E9F1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ktura UML 2.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41080" y="1700280"/>
            <a:ext cx="7796520" cy="4321080"/>
            <a:chOff x="541080" y="1700280"/>
            <a:chExt cx="7796520" cy="4321080"/>
          </a:xfrm>
        </p:grpSpPr>
        <p:sp>
          <p:nvSpPr>
            <p:cNvPr id="158" name=""/>
            <p:cNvSpPr/>
            <p:nvPr/>
          </p:nvSpPr>
          <p:spPr>
            <a:xfrm>
              <a:off x="1639800" y="1700280"/>
              <a:ext cx="6697800" cy="432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56160" y="2205000"/>
              <a:ext cx="1800360" cy="865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iagram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terchan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12880" y="2276640"/>
              <a:ext cx="1152720" cy="57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44880" y="3860640"/>
              <a:ext cx="2448000" cy="43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uperstru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00160" y="3284640"/>
              <a:ext cx="3241800" cy="2376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81440" y="3160800"/>
              <a:ext cx="1526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98880" y="4097160"/>
              <a:ext cx="14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tická čá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3400" y="4292640"/>
              <a:ext cx="130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ynamick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čá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4880" y="3284640"/>
              <a:ext cx="3024000" cy="2303280"/>
            </a:xfrm>
            <a:prstGeom prst="ellipse">
              <a:avLst/>
            </a:prstGeom>
            <a:noFill/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80" y="4529160"/>
              <a:ext cx="816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F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43320" y="4292640"/>
              <a:ext cx="1970280" cy="744480"/>
            </a:xfrm>
            <a:custGeom>
              <a:avLst/>
              <a:gdLst/>
              <a:ahLst/>
              <a:rect l="l" t="t" r="r" b="b"/>
              <a:pathLst>
                <a:path w="1241" h="469">
                  <a:moveTo>
                    <a:pt x="1241" y="0"/>
                  </a:moveTo>
                  <a:cubicBezTo>
                    <a:pt x="1178" y="57"/>
                    <a:pt x="1067" y="273"/>
                    <a:pt x="860" y="341"/>
                  </a:cubicBezTo>
                  <a:cubicBezTo>
                    <a:pt x="266" y="469"/>
                    <a:pt x="179" y="392"/>
                    <a:pt x="0" y="4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81080" y="4637160"/>
              <a:ext cx="489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92880" y="3068640"/>
              <a:ext cx="431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87280" y="3197160"/>
              <a:ext cx="831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45960" y="3213000"/>
              <a:ext cx="489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37960" y="2852640"/>
              <a:ext cx="489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92520" y="2701800"/>
              <a:ext cx="1538280" cy="1204920"/>
            </a:xfrm>
            <a:custGeom>
              <a:avLst/>
              <a:gdLst/>
              <a:ahLst/>
              <a:rect l="l" t="t" r="r" b="b"/>
              <a:pathLst>
                <a:path w="969" h="759">
                  <a:moveTo>
                    <a:pt x="969" y="759"/>
                  </a:moveTo>
                  <a:cubicBezTo>
                    <a:pt x="895" y="683"/>
                    <a:pt x="826" y="511"/>
                    <a:pt x="524" y="301"/>
                  </a:cubicBezTo>
                  <a:cubicBezTo>
                    <a:pt x="222" y="91"/>
                    <a:pt x="109" y="6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87600" y="2806560"/>
              <a:ext cx="372960" cy="487440"/>
            </a:xfrm>
            <a:custGeom>
              <a:avLst/>
              <a:gdLst/>
              <a:ahLst/>
              <a:rect l="l" t="t" r="r" b="b"/>
              <a:pathLst>
                <a:path w="235" h="307">
                  <a:moveTo>
                    <a:pt x="72" y="307"/>
                  </a:moveTo>
                  <a:cubicBezTo>
                    <a:pt x="72" y="274"/>
                    <a:pt x="0" y="222"/>
                    <a:pt x="72" y="111"/>
                  </a:cubicBezTo>
                  <a:cubicBezTo>
                    <a:pt x="144" y="0"/>
                    <a:pt x="201" y="28"/>
                    <a:pt x="235" y="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A38-45B9-48E7-8CEC-2F5910B963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lavní novinky UML 2.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kturované klasifiká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erarchická dekompozice struktur a cho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zájemná integrace struktur a cho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race sémantik akcí s konstrukcemi cho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ícevrstvá architektura pro lepší implementaci standar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ABB-D4AF-4951-9EEF-77D43A87CC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267680" cy="5185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říkl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4E4-86B5-439E-B6B6-86C8797992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rukturované diagram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řídní diagr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lass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jektový diagr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jec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iagram kompon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ponen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iagram balíčk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ackage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iagram nasaze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ploymen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iagram architektu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posite structure diagram,   Diagram of Architec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08A-6598-42AD-9533-A9D555A4A3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řídní diagra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pisuje statický pohled na modelovanou realitu, deklaruje statické elementy, jejich obsah a vztahy mezi ni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vin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pravena notace komentář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nární asociace může obsahovat „diamant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jazykově závislých prvků (např. stereotyp &lt;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e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&gt;&gt;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dardizovaná notace rozhraní (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l and socke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sněji specifikovaná násobnost (povoluje inter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F7D9-51AE-4271-866E-F0D4CEB602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ktový diagra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obrazuje instance objektů, speciální případ třídního diagramu, zobrazuje stav systému v daném okamži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vin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ficiální jméno Objektový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vrženy stereotypy &lt;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&gt;&gt; a &lt;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rušeny multiob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ML 2.0 Structure Diagra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0BD-AA92-4E7E-A877-11209CD717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20:25:44Z</dcterms:created>
  <dc:creator>Lumir Navrat</dc:creator>
  <dc:description/>
  <dc:language>en-US</dc:language>
  <cp:lastModifiedBy>Lumír Návrat</cp:lastModifiedBy>
  <dcterms:modified xsi:type="dcterms:W3CDTF">2004-06-10T08:20:23Z</dcterms:modified>
  <cp:revision>24</cp:revision>
  <dc:subject/>
  <dc:title>UML 2.0 Superstructure Class Diagram</dc:title>
</cp:coreProperties>
</file>