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6E69-5E3A-4FA6-86EE-FC1ECFB0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84C-C9A4-422E-8038-56856982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3FC-530F-4FE0-A75D-D980FE39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F410-03C0-401A-A6EF-3EFA5D36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609F-DBB5-4BCB-9776-31B5F4D9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3649-2D4E-4C01-A322-4148CD40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7EE0-8542-4F6F-B759-158E4B0C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00F8-8248-4C68-A5BD-2F506F9F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2CD7-F767-4185-908A-06E0B11C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CCB7-F113-4FE5-92EA-0FE1EE80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99DA-C5C9-4079-B009-B795DE75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E63-ED0F-4239-8BA2-6DF19858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D89F-99ED-4718-80A6-DD75AA7C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533A-FBA9-4BD8-BF6D-C1183F02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0C40-8EB7-499D-BC99-8516A96E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A8AD-CD1D-48A0-A141-3EF8C7BD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976C-EE74-444C-9E81-23FA2E85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8FD-5E97-43E1-BF99-C0BC55EB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CA91-F212-48D8-8D3C-2406A0FC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72B1-B092-46AF-B32C-C2E094A3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B22-3BD7-4EE6-AB08-BDB9EBE7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F3D-159E-4B47-B6F8-12A603C5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81A-84EF-4297-9F2D-ED2204E2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FF2-3486-4E37-BC00-4E469203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8F20-319A-48DC-9799-F9B272F72BF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51B3-A206-411D-8C5F-B9F441FA01B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UML 2.0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 Structure</a:t>
            </a:r>
            <a:r>
              <a:rPr b="1" lang="cs-CZ" sz="4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Diagram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ír Náv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agram kompon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obrazuje vztahy a závislost mezi komponentami. Ve verzi UML 2.0 přibližuje se k modelování životního cyklu místo implementačního pohledu v UML 1.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ovin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noho implicitních pravidel z UML 1.3 změněno na explicit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a komponenty v pravém rohu může být nahrazena klíčovým slovem &lt;&lt;component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hrazuje spolu s diagramem nasazení implementační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obsahovat strukturované klasifiká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3DC-87CA-4606-93C3-C8D206FD05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agram balíčků a nasazení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iagram balíčk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obrazuje logické uspořádání prvků modelu a jejich vzájemné závislos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ovin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Žádné jen přesněji popsán mechanismus importu a nový koncept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iagram nasaze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obrazuje konfiguraci procesů při běhu systé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360-557E-4D56-9721-6298351425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agram architektu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310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ý diagram v UML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obrazuje interní strukturu klasifikátoru a možnosti jeho komunikace s okolí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laborační“ diagra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opisuje jen strukturu spolupracujících entit. Jejich komunikace je zobrazena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rakční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munikační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iagram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ůvodní kolaborační diagram). Podporuje vázání rolí k částem realizující struktu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951-6A6D-4FE3-B1D4-4AF9442487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kturované klasifiká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ty často navzájem spolupracují aby zajistily chování systému. Strukturované klasifikátory podpor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is struktury a vztahů účastníků, kteří společně vykonávají úkoly systé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pnost zapouzdřit/izolovat vnitřní strukturu a dosáhnout nahradite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ou to třídy, kolaborace, kompone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kladní konstrukce jsou Part, Port a Kone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E882-D827-4C58-8739-0AFA22DA33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onstruk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rt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prezentuje množinu instancí, které jsou seskupeny v instanci obsahujícího klasifikátoru. Mohou být spojeny konektory a specifikují konfiguraci spojených instan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o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kuje spojení (instanci asociace), které umožňuje komunikaci mezi strukturou, nebo okol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t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kuje interakční bod mezi klasifikátorem a okolím. Popisuje služby, které klasifikátor nabízí a požaduje od svého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2CC-7C09-48DD-8F88-B3EF2C79E7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onstruk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llaboration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prezentuje strukturu spolupracujících ele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llaboration Occurence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kyt kolaborace, reprezentuje aplikaci vzoru popsaného kolabor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A3C-9E51-4FD4-95CE-41D994E207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perty</a:t>
            </a: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 – Part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– Connect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finuje metatříd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Connector a Connector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2779560"/>
            <a:ext cx="7745400" cy="2644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276720" y="2492280"/>
            <a:ext cx="1441440" cy="719280"/>
          </a:xfrm>
          <a:prstGeom prst="wedgeRoundRectCallout">
            <a:avLst>
              <a:gd name="adj1" fmla="val 61675"/>
              <a:gd name="adj2" fmla="val 171189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27640" y="2492280"/>
            <a:ext cx="1441440" cy="719280"/>
          </a:xfrm>
          <a:prstGeom prst="wedgeRoundRectCallout">
            <a:avLst>
              <a:gd name="adj1" fmla="val 38435"/>
              <a:gd name="adj2" fmla="val 170972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3280" y="5229360"/>
            <a:ext cx="1441440" cy="718920"/>
          </a:xfrm>
          <a:prstGeom prst="wedgeRoundRectCallout">
            <a:avLst>
              <a:gd name="adj1" fmla="val 75550"/>
              <a:gd name="adj2" fmla="val -169203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F73-25EF-40FC-BE4A-6D96DD6669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perty – </a:t>
            </a: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Pa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835280" y="3357720"/>
            <a:ext cx="1375560" cy="720720"/>
            <a:chOff x="1835280" y="3357720"/>
            <a:chExt cx="1375560" cy="720720"/>
          </a:xfrm>
        </p:grpSpPr>
        <p:sp>
          <p:nvSpPr>
            <p:cNvPr id="206" name=""/>
            <p:cNvSpPr/>
            <p:nvPr/>
          </p:nvSpPr>
          <p:spPr>
            <a:xfrm>
              <a:off x="1835280" y="3357720"/>
              <a:ext cx="136800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e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17440" y="3357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859280" y="3357720"/>
            <a:ext cx="1368360" cy="720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w:Whe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1..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03640" y="2565360"/>
            <a:ext cx="1439640" cy="609480"/>
          </a:xfrm>
          <a:prstGeom prst="wedgeRoundRectCallout">
            <a:avLst>
              <a:gd name="adj1" fmla="val -55180"/>
              <a:gd name="adj2" fmla="val 91666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ásob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2492280"/>
            <a:ext cx="1440000" cy="609840"/>
          </a:xfrm>
          <a:prstGeom prst="wedgeRoundRectCallout">
            <a:avLst>
              <a:gd name="adj1" fmla="val -51652"/>
              <a:gd name="adj2" fmla="val 131773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ásob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98920" y="4581360"/>
            <a:ext cx="1944360" cy="609840"/>
          </a:xfrm>
          <a:prstGeom prst="wedgeRoundRectCallout">
            <a:avLst>
              <a:gd name="adj1" fmla="val -88365"/>
              <a:gd name="adj2" fmla="val -129949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ní tř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efinuje metatříd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207-FD90-4F10-8189-544FE26B6C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Part – vzory propojení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mezení definuje metatříd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Class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6920" y="3357720"/>
            <a:ext cx="3267360" cy="2009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267000" cy="1981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126520" y="24922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43240" y="2492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věz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2421720"/>
            <a:ext cx="7993080" cy="397080"/>
          </a:xfrm>
          <a:prstGeom prst="wedgeRoundRectCallout">
            <a:avLst>
              <a:gd name="adj1" fmla="val -39736"/>
              <a:gd name="adj2" fmla="val 434782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name [‘/’rolename] | ‘/’rolename} [‘:’ classifiername [‘,’ clasifiername]*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1A2-DCC3-4E40-A28F-C032680A24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 - příkla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201080" cy="2941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826920" y="2565360"/>
            <a:ext cx="7201080" cy="21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FA3-5CDD-4B33-A8D3-9D2DC50809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ML 2.0 - Obsa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isto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incipy a důvody pro UML 2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trukturované diagr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kladní nové prv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aboration Occur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901-F27E-40AF-A5BB-739C99E036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 – příklady instancí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5327640" cy="2546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6480000" cy="22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190-0138-44ED-8542-023DF6A3DB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rt</a:t>
            </a: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 - kompoz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uje metatřída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ožňuje specifikovat klasifikátor bez znalostí vnějšího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sílá a přijímá skrz něj zp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unikuje pomocí konek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332000" y="4076640"/>
            <a:ext cx="5976720" cy="1130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140360" y="3860640"/>
            <a:ext cx="914400" cy="609840"/>
          </a:xfrm>
          <a:prstGeom prst="wedgeRoundRectCallout">
            <a:avLst>
              <a:gd name="adj1" fmla="val -251912"/>
              <a:gd name="adj2" fmla="val 89324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08000" y="5661000"/>
            <a:ext cx="2808360" cy="609480"/>
          </a:xfrm>
          <a:prstGeom prst="wedgeRoundRectCallout">
            <a:avLst>
              <a:gd name="adj1" fmla="val -53111"/>
              <a:gd name="adj2" fmla="val -205208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kytované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6000" y="5589720"/>
            <a:ext cx="2808360" cy="609480"/>
          </a:xfrm>
          <a:prstGeom prst="wedgeRoundRectCallout">
            <a:avLst>
              <a:gd name="adj1" fmla="val -71819"/>
              <a:gd name="adj2" fmla="val -147916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žadované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A43-6381-4F40-82C0-291F5280EA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ůže mít komplexní chování (protoko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hování je pak popsáno v diagramech cho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rt - chování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24000" y="3213000"/>
            <a:ext cx="3907080" cy="2776680"/>
          </a:xfrm>
          <a:prstGeom prst="rect">
            <a:avLst/>
          </a:prstGeom>
          <a:solidFill>
            <a:srgbClr val="f8f8f8"/>
          </a:solidFill>
          <a:ln w="93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98600" y="321948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46240" y="4089240"/>
            <a:ext cx="166680" cy="1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30440" y="4094280"/>
            <a:ext cx="164880" cy="164880"/>
          </a:xfrm>
          <a:prstGeom prst="ellipse">
            <a:avLst/>
          </a:prstGeom>
          <a:solidFill>
            <a:srgbClr val="d8d8ec"/>
          </a:solidFill>
          <a:ln w="93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797120" y="41781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75520" y="427680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Údrž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60680" y="5059440"/>
            <a:ext cx="1428840" cy="763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:Monitor[*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206800" y="4179960"/>
            <a:ext cx="24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451240" y="2851200"/>
            <a:ext cx="2270160" cy="895320"/>
          </a:xfrm>
          <a:prstGeom prst="line">
            <a:avLst/>
          </a:prstGeom>
          <a:ln w="9360">
            <a:solidFill>
              <a:srgbClr val="7e9ce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64080" y="254628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e9ce8"/>
                </a:solidFill>
                <a:latin typeface="Arial"/>
              </a:rPr>
              <a:t>Porty ch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324320" y="2851200"/>
            <a:ext cx="565200" cy="1219320"/>
          </a:xfrm>
          <a:prstGeom prst="line">
            <a:avLst/>
          </a:prstGeom>
          <a:ln w="9360">
            <a:solidFill>
              <a:srgbClr val="7e9ce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13360" y="4983120"/>
            <a:ext cx="166680" cy="18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03640" y="4070520"/>
            <a:ext cx="166680" cy="18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264200" y="4160880"/>
            <a:ext cx="24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03720" y="425916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38920" y="5408640"/>
            <a:ext cx="166680" cy="187200"/>
          </a:xfrm>
          <a:prstGeom prst="rect">
            <a:avLst/>
          </a:prstGeom>
          <a:solidFill>
            <a:srgbClr val="ffffff"/>
          </a:solidFill>
          <a:ln w="93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491000">
            <a:off x="6339960" y="5624280"/>
            <a:ext cx="84240" cy="182520"/>
          </a:xfrm>
          <a:custGeom>
            <a:avLst/>
            <a:gdLst>
              <a:gd name="textAreaLeft" fmla="*/ 24840 w 84240"/>
              <a:gd name="textAreaRight" fmla="*/ 84600 w 84240"/>
              <a:gd name="textAreaTop" fmla="*/ 45720 h 182520"/>
              <a:gd name="textAreaBottom" fmla="*/ 137160 h 18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26280" y="5261040"/>
            <a:ext cx="164880" cy="16488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05600" y="5486400"/>
            <a:ext cx="23652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105600" y="5375160"/>
            <a:ext cx="21600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83160" y="567072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0000"/>
                </a:solidFill>
                <a:latin typeface="Arial"/>
              </a:rPr>
              <a:t>Regul</a:t>
            </a: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á</a:t>
            </a:r>
            <a:r>
              <a:rPr b="1" lang="sv-SE" sz="1400" spc="-1" strike="noStrike">
                <a:solidFill>
                  <a:srgbClr val="ff0000"/>
                </a:solidFill>
                <a:latin typeface="Arial"/>
              </a:rPr>
              <a:t>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39680" y="501012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Vs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22800" y="50450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51240" y="4070520"/>
            <a:ext cx="482400" cy="206280"/>
          </a:xfrm>
          <a:prstGeom prst="ellipse">
            <a:avLst/>
          </a:prstGeom>
          <a:solidFill>
            <a:srgbClr val="7e9ce8"/>
          </a:solidFill>
          <a:ln w="93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08640" y="4070520"/>
            <a:ext cx="482400" cy="206280"/>
          </a:xfrm>
          <a:prstGeom prst="ellipse">
            <a:avLst/>
          </a:prstGeom>
          <a:solidFill>
            <a:srgbClr val="7e9ce8"/>
          </a:solidFill>
          <a:ln w="93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914720" y="50529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0000"/>
                </a:solidFill>
                <a:latin typeface="Arial"/>
              </a:rPr>
              <a:t>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92680" y="5357880"/>
            <a:ext cx="166680" cy="187200"/>
          </a:xfrm>
          <a:prstGeom prst="rect">
            <a:avLst/>
          </a:prstGeom>
          <a:solidFill>
            <a:srgbClr val="ffffff"/>
          </a:solidFill>
          <a:ln w="93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59360" y="5504040"/>
            <a:ext cx="9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03080" y="4680000"/>
            <a:ext cx="185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Inicializace senzo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29840" y="2570040"/>
            <a:ext cx="164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e9ce8"/>
                </a:solidFill>
                <a:latin typeface="Arial"/>
              </a:rPr>
              <a:t>Chování</a:t>
            </a:r>
            <a:r>
              <a:rPr b="0" lang="sv-SE" sz="1400" spc="-1" strike="noStrike">
                <a:solidFill>
                  <a:srgbClr val="7e9ce8"/>
                </a:solidFill>
                <a:latin typeface="Arial"/>
              </a:rPr>
              <a:t> (</a:t>
            </a:r>
            <a:r>
              <a:rPr b="0" lang="cs-CZ" sz="1400" spc="-1" strike="noStrike">
                <a:solidFill>
                  <a:srgbClr val="7e9ce8"/>
                </a:solidFill>
                <a:latin typeface="Arial"/>
              </a:rPr>
              <a:t>senzoru</a:t>
            </a:r>
            <a:r>
              <a:rPr b="0" lang="sv-SE" sz="1400" spc="-1" strike="noStrike">
                <a:solidFill>
                  <a:srgbClr val="7e9ce8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915080" y="2874960"/>
            <a:ext cx="2141280" cy="1195560"/>
          </a:xfrm>
          <a:prstGeom prst="line">
            <a:avLst/>
          </a:prstGeom>
          <a:ln w="9360">
            <a:solidFill>
              <a:srgbClr val="7e9ce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553-A69B-4A71-8B26-13715174BB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468360" y="2565360"/>
            <a:ext cx="4651200" cy="2233800"/>
            <a:chOff x="468360" y="2565360"/>
            <a:chExt cx="4651200" cy="2233800"/>
          </a:xfrm>
        </p:grpSpPr>
        <p:sp>
          <p:nvSpPr>
            <p:cNvPr id="266" name=""/>
            <p:cNvSpPr/>
            <p:nvPr/>
          </p:nvSpPr>
          <p:spPr>
            <a:xfrm>
              <a:off x="468360" y="2565360"/>
              <a:ext cx="4651200" cy="2233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98560" y="2599560"/>
              <a:ext cx="29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8360" y="2745000"/>
              <a:ext cx="4651200" cy="2053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78040" y="3754800"/>
              <a:ext cx="1294920" cy="424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71520" y="3913200"/>
              <a:ext cx="42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: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Ko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9400" y="3746160"/>
              <a:ext cx="1201320" cy="409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5600" y="3898800"/>
              <a:ext cx="59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o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1980720" y="3909960"/>
              <a:ext cx="159012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38880" y="3806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06200" y="380340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.*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63200" y="448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2000" y="4285440"/>
              <a:ext cx="1201320" cy="4078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57040" y="4467960"/>
              <a:ext cx="52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un: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Ko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00360" y="4294080"/>
              <a:ext cx="1275840" cy="424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09320" y="4503600"/>
              <a:ext cx="50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w: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Ko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96840" y="4446720"/>
              <a:ext cx="803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993680" y="4446720"/>
              <a:ext cx="802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56800" y="433404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.*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31760" y="433260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.*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2000" y="2823480"/>
              <a:ext cx="1096560" cy="3567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05200" y="2928960"/>
              <a:ext cx="46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: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Mo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65040" y="3460680"/>
              <a:ext cx="1080" cy="27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265040" y="3179880"/>
              <a:ext cx="1080" cy="28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1190520" y="3121560"/>
              <a:ext cx="606600" cy="267480"/>
              <a:chOff x="1190520" y="3121560"/>
              <a:chExt cx="606600" cy="267480"/>
            </a:xfrm>
          </p:grpSpPr>
          <p:sp>
            <p:nvSpPr>
              <p:cNvPr id="290" name=""/>
              <p:cNvSpPr/>
              <p:nvPr/>
            </p:nvSpPr>
            <p:spPr>
              <a:xfrm>
                <a:off x="1190520" y="3121560"/>
                <a:ext cx="136080" cy="12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69800" y="3221280"/>
                <a:ext cx="427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100" spc="-1" strike="noStrike">
                    <a:solidFill>
                      <a:srgbClr val="000000"/>
                    </a:solidFill>
                    <a:latin typeface="Arial"/>
                  </a:rPr>
                  <a:t>poh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468360" y="2565360"/>
            <a:ext cx="4651200" cy="2232000"/>
            <a:chOff x="468360" y="2565360"/>
            <a:chExt cx="4651200" cy="2232000"/>
          </a:xfrm>
        </p:grpSpPr>
        <p:sp>
          <p:nvSpPr>
            <p:cNvPr id="293" name=""/>
            <p:cNvSpPr/>
            <p:nvPr/>
          </p:nvSpPr>
          <p:spPr>
            <a:xfrm>
              <a:off x="468360" y="2565360"/>
              <a:ext cx="4651200" cy="2232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80920" y="260064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Lo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8360" y="2745000"/>
              <a:ext cx="4651200" cy="2052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9400" y="3745080"/>
              <a:ext cx="1201320" cy="408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44280" y="3940560"/>
              <a:ext cx="889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: 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Lodní šrou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34480" y="380520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.*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2000" y="2823120"/>
              <a:ext cx="1096560" cy="356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05200" y="2928960"/>
              <a:ext cx="46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: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Mo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65040" y="3459960"/>
              <a:ext cx="108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1265040" y="3179160"/>
              <a:ext cx="1080" cy="28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1190520" y="3121200"/>
              <a:ext cx="606600" cy="267480"/>
              <a:chOff x="1190520" y="3121200"/>
              <a:chExt cx="606600" cy="267480"/>
            </a:xfrm>
          </p:grpSpPr>
          <p:sp>
            <p:nvSpPr>
              <p:cNvPr id="304" name=""/>
              <p:cNvSpPr/>
              <p:nvPr/>
            </p:nvSpPr>
            <p:spPr>
              <a:xfrm>
                <a:off x="1190520" y="3121200"/>
                <a:ext cx="136080" cy="12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369800" y="3220920"/>
                <a:ext cx="427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100" spc="-1" strike="noStrike">
                    <a:solidFill>
                      <a:srgbClr val="000000"/>
                    </a:solidFill>
                    <a:latin typeface="Arial"/>
                  </a:rPr>
                  <a:t>poh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rt - příkl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435640" y="2708280"/>
            <a:ext cx="3144960" cy="2602080"/>
            <a:chOff x="5435640" y="2708280"/>
            <a:chExt cx="3144960" cy="2602080"/>
          </a:xfrm>
        </p:grpSpPr>
        <p:grpSp>
          <p:nvGrpSpPr>
            <p:cNvPr id="308" name=""/>
            <p:cNvGrpSpPr/>
            <p:nvPr/>
          </p:nvGrpSpPr>
          <p:grpSpPr>
            <a:xfrm>
              <a:off x="5435640" y="2708280"/>
              <a:ext cx="3144960" cy="2049480"/>
              <a:chOff x="5435640" y="2708280"/>
              <a:chExt cx="3144960" cy="2049480"/>
            </a:xfrm>
          </p:grpSpPr>
          <p:sp>
            <p:nvSpPr>
              <p:cNvPr id="309" name=""/>
              <p:cNvSpPr/>
              <p:nvPr/>
            </p:nvSpPr>
            <p:spPr>
              <a:xfrm>
                <a:off x="5435640" y="2708280"/>
                <a:ext cx="3144960" cy="2049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00760" y="2749680"/>
                <a:ext cx="390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100" spc="-1" strike="noStrike">
                    <a:solidFill>
                      <a:srgbClr val="000000"/>
                    </a:solidFill>
                    <a:latin typeface="Arial"/>
                  </a:rPr>
                  <a:t>Moto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35640" y="2924280"/>
                <a:ext cx="3144960" cy="1833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012000" y="3038400"/>
                <a:ext cx="811080" cy="41112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110640" y="3068640"/>
                <a:ext cx="633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jdfkklf:X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15280" y="3645000"/>
                <a:ext cx="873000" cy="41256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578280" y="3686040"/>
                <a:ext cx="749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mnvjsfd:Z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237360" y="3665520"/>
                <a:ext cx="277920" cy="19692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0" y="0"/>
                    </a:moveTo>
                    <a:lnTo>
                      <a:pt x="0" y="19"/>
                    </a:lnTo>
                    <a:lnTo>
                      <a:pt x="27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6237360" y="3449520"/>
                <a:ext cx="1800" cy="216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142400" y="4202280"/>
                <a:ext cx="873000" cy="41112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201800" y="4232160"/>
                <a:ext cx="727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wwedjf:W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358040" y="3130560"/>
                <a:ext cx="873360" cy="41112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13920" y="3171960"/>
                <a:ext cx="64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joioerj:Y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7655040" y="3541680"/>
                <a:ext cx="1440" cy="185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388280" y="3727440"/>
                <a:ext cx="266760" cy="17604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26" y="0"/>
                    </a:moveTo>
                    <a:lnTo>
                      <a:pt x="26" y="17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7820280" y="3541320"/>
                <a:ext cx="1440" cy="330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820280" y="3871800"/>
                <a:ext cx="1440" cy="3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5779080" y="4060800"/>
              <a:ext cx="999360" cy="990000"/>
              <a:chOff x="5779080" y="4060800"/>
              <a:chExt cx="999360" cy="99000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6110280" y="4060800"/>
                <a:ext cx="668160" cy="765360"/>
                <a:chOff x="6110280" y="4060800"/>
                <a:chExt cx="668160" cy="7653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6110280" y="4689360"/>
                  <a:ext cx="136800" cy="136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>
                  <a:off x="6178320" y="4060800"/>
                  <a:ext cx="600120" cy="620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5779080" y="4883040"/>
                <a:ext cx="427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100" spc="-1" strike="noStrike">
                    <a:solidFill>
                      <a:srgbClr val="000000"/>
                    </a:solidFill>
                    <a:latin typeface="Arial"/>
                  </a:rPr>
                  <a:t>poh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873840" y="51228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45280" y="4808520"/>
              <a:ext cx="63828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85160" y="4971960"/>
              <a:ext cx="39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Arial"/>
                </a:rPr>
                <a:t>Hříde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D7B-DD35-4DFC-952C-DEF894F65B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Collabo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ární účel popsat systém jak pracu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ta a přesné vlastnosti tříd potlače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hled na množinu spolupracujících klasifikáto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755640" y="4005360"/>
            <a:ext cx="7410600" cy="198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338-9111-447D-9188-CCE54A9B04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Collabo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lze instanciov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hodný prostředek pro popis návrhových vzo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8207280" cy="292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2E0-0CEA-49AF-94AE-95CE7DE008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Collaboration Occur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ezentuje jedno konkrétní použití kolabor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348000" y="3141720"/>
            <a:ext cx="5486400" cy="29908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468360" y="2421000"/>
            <a:ext cx="3267000" cy="13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2ED-089A-4E39-A021-B545652856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Collaboration Occur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7343640" cy="274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E3F0-FB80-4D49-9C38-BFE8859127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hrnutí nota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48" name="part" descr=""/>
          <p:cNvPicPr/>
          <p:nvPr/>
        </p:nvPicPr>
        <p:blipFill>
          <a:blip r:embed="rId1"/>
          <a:stretch/>
        </p:blipFill>
        <p:spPr>
          <a:xfrm>
            <a:off x="5940360" y="2349360"/>
            <a:ext cx="1354320" cy="712800"/>
          </a:xfrm>
          <a:prstGeom prst="rect">
            <a:avLst/>
          </a:prstGeom>
          <a:ln w="0">
            <a:noFill/>
          </a:ln>
        </p:spPr>
      </p:pic>
      <p:pic>
        <p:nvPicPr>
          <p:cNvPr id="349" name="port" descr=""/>
          <p:cNvPicPr/>
          <p:nvPr/>
        </p:nvPicPr>
        <p:blipFill>
          <a:blip r:embed="rId2"/>
          <a:stretch/>
        </p:blipFill>
        <p:spPr>
          <a:xfrm>
            <a:off x="6093000" y="32860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350" name="kolaborace" descr=""/>
          <p:cNvPicPr/>
          <p:nvPr/>
        </p:nvPicPr>
        <p:blipFill>
          <a:blip r:embed="rId3"/>
          <a:stretch/>
        </p:blipFill>
        <p:spPr>
          <a:xfrm>
            <a:off x="6026040" y="4221000"/>
            <a:ext cx="1209960" cy="627120"/>
          </a:xfrm>
          <a:prstGeom prst="rect">
            <a:avLst/>
          </a:prstGeom>
          <a:ln w="0">
            <a:noFill/>
          </a:ln>
        </p:spPr>
      </p:pic>
      <p:pic>
        <p:nvPicPr>
          <p:cNvPr id="351" name="vyskytkolaborace" descr=""/>
          <p:cNvPicPr/>
          <p:nvPr/>
        </p:nvPicPr>
        <p:blipFill>
          <a:blip r:embed="rId4"/>
          <a:stretch/>
        </p:blipFill>
        <p:spPr>
          <a:xfrm>
            <a:off x="6084720" y="5153040"/>
            <a:ext cx="1224000" cy="66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"/>
          <p:cNvGraphicFramePr/>
          <p:nvPr/>
        </p:nvGraphicFramePr>
        <p:xfrm>
          <a:off x="900000" y="1773360"/>
          <a:ext cx="7632720" cy="410364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Uz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Not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P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Kolabo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Výskyt kolabo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"/>
          <p:cNvSpPr/>
          <p:nvPr/>
        </p:nvSpPr>
        <p:spPr>
          <a:xfrm>
            <a:off x="0" y="4686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554-59CB-493E-8562-67A5123D9B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hrnutí nota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564160" y="3032280"/>
            <a:ext cx="1371600" cy="0"/>
            <a:chOff x="5564160" y="3032280"/>
            <a:chExt cx="1371600" cy="0"/>
          </a:xfrm>
        </p:grpSpPr>
        <p:sp>
          <p:nvSpPr>
            <p:cNvPr id="356" name=""/>
            <p:cNvSpPr/>
            <p:nvPr/>
          </p:nvSpPr>
          <p:spPr>
            <a:xfrm flipH="1">
              <a:off x="5564160" y="30322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564160" y="3967200"/>
            <a:ext cx="1371600" cy="0"/>
            <a:chOff x="5564160" y="3967200"/>
            <a:chExt cx="1371600" cy="0"/>
          </a:xfrm>
        </p:grpSpPr>
        <p:sp>
          <p:nvSpPr>
            <p:cNvPr id="358" name=""/>
            <p:cNvSpPr/>
            <p:nvPr/>
          </p:nvSpPr>
          <p:spPr>
            <a:xfrm flipH="1">
              <a:off x="5564160" y="3967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647720" y="253224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47720" y="253224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332000" y="2133720"/>
          <a:ext cx="6595560" cy="2338200"/>
        </p:xfrm>
        <a:graphic>
          <a:graphicData uri="http://schemas.openxmlformats.org/drawingml/2006/table">
            <a:tbl>
              <a:tblPr/>
              <a:tblGrid>
                <a:gridCol w="3297960"/>
                <a:gridCol w="32976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Hr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Not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Konek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Vázání rol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4868640"/>
            <a:ext cx="8229600" cy="12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šechny konstrukce je možné použít i v jiných diagramech struk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F23D-9BC8-447D-AB49-6E5ECFEE39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stor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L je grafický jazyk p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k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zualiz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struk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ument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ástí softwarových systém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OMG jako UML v. 1.1 v roce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vní „velké“ změny ve specifikaci v UML v. 1.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es UML v. 1.5 jako finální specifikace a UML 2.0 ve stavu FT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ADC-D20C-4D89-B4B5-675A962E52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dkaz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2 Partners; UML 2.0 Superstructure Specification; OMG document ptc/04-04-08; dube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omg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eveloppez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jeckle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396-8B57-4865-B487-6F18D3E8D52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2626920" y="3357360"/>
            <a:ext cx="353844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415-409E-49D5-87E6-47C3558799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ktura UML 2.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41080" y="1700280"/>
            <a:ext cx="7796520" cy="4321080"/>
            <a:chOff x="541080" y="1700280"/>
            <a:chExt cx="7796520" cy="4321080"/>
          </a:xfrm>
        </p:grpSpPr>
        <p:sp>
          <p:nvSpPr>
            <p:cNvPr id="158" name=""/>
            <p:cNvSpPr/>
            <p:nvPr/>
          </p:nvSpPr>
          <p:spPr>
            <a:xfrm>
              <a:off x="1639800" y="1700280"/>
              <a:ext cx="6697800" cy="432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56160" y="2205000"/>
              <a:ext cx="1800360" cy="865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iagram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terchan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12880" y="2276640"/>
              <a:ext cx="1152720" cy="57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44880" y="3860640"/>
              <a:ext cx="2448000" cy="43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uperstruct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00160" y="3284640"/>
              <a:ext cx="3241800" cy="23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81440" y="3160800"/>
              <a:ext cx="1526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98880" y="4097160"/>
              <a:ext cx="14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tická čá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3400" y="4292640"/>
              <a:ext cx="130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ynamick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čá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4880" y="3284640"/>
              <a:ext cx="3024000" cy="2303280"/>
            </a:xfrm>
            <a:prstGeom prst="ellipse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80" y="4529160"/>
              <a:ext cx="816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43320" y="4292640"/>
              <a:ext cx="1970280" cy="744480"/>
            </a:xfrm>
            <a:custGeom>
              <a:avLst/>
              <a:gdLst/>
              <a:ahLst/>
              <a:rect l="l" t="t" r="r" b="b"/>
              <a:pathLst>
                <a:path w="1241" h="469">
                  <a:moveTo>
                    <a:pt x="1241" y="0"/>
                  </a:moveTo>
                  <a:cubicBezTo>
                    <a:pt x="1178" y="57"/>
                    <a:pt x="1067" y="273"/>
                    <a:pt x="860" y="341"/>
                  </a:cubicBezTo>
                  <a:cubicBezTo>
                    <a:pt x="266" y="469"/>
                    <a:pt x="179" y="392"/>
                    <a:pt x="0" y="4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81080" y="4637160"/>
              <a:ext cx="489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92880" y="3068640"/>
              <a:ext cx="431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87280" y="3197160"/>
              <a:ext cx="831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45960" y="3213000"/>
              <a:ext cx="489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37960" y="2852640"/>
              <a:ext cx="489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92520" y="2701800"/>
              <a:ext cx="1538280" cy="1204920"/>
            </a:xfrm>
            <a:custGeom>
              <a:avLst/>
              <a:gdLst/>
              <a:ahLst/>
              <a:rect l="l" t="t" r="r" b="b"/>
              <a:pathLst>
                <a:path w="969" h="759">
                  <a:moveTo>
                    <a:pt x="969" y="759"/>
                  </a:moveTo>
                  <a:cubicBezTo>
                    <a:pt x="895" y="683"/>
                    <a:pt x="826" y="511"/>
                    <a:pt x="524" y="301"/>
                  </a:cubicBezTo>
                  <a:cubicBezTo>
                    <a:pt x="222" y="91"/>
                    <a:pt x="109" y="6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87600" y="2806560"/>
              <a:ext cx="372960" cy="487440"/>
            </a:xfrm>
            <a:custGeom>
              <a:avLst/>
              <a:gdLst/>
              <a:ahLst/>
              <a:rect l="l" t="t" r="r" b="b"/>
              <a:pathLst>
                <a:path w="235" h="307">
                  <a:moveTo>
                    <a:pt x="72" y="307"/>
                  </a:moveTo>
                  <a:cubicBezTo>
                    <a:pt x="72" y="274"/>
                    <a:pt x="0" y="222"/>
                    <a:pt x="72" y="111"/>
                  </a:cubicBezTo>
                  <a:cubicBezTo>
                    <a:pt x="144" y="0"/>
                    <a:pt x="201" y="28"/>
                    <a:pt x="235" y="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9F6-FF4E-4A8C-A942-11727F4087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lavní novinky UML 2.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kturované klasifiká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archická dekompozice struktur a cho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zájemná integrace struktur a cho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ce sémantik akcí s konstrukcemi cho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ícevrstvá architektura pro lepší implementaci standar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3B1-8218-40D3-9CED-2023EB859E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267680" cy="5185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říkl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A95-5EC2-401C-B7FB-8CE431DDD3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kturované diagram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řídní diagr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lass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jektový diagr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jec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iagram kompon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ponen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iagram balíčk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ackage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iagram nasaze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ploymen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iagram architektu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posite structure diagram,   Diagram of Architec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021-FED1-4108-84A9-7317B89848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řídní diagra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pisuje statický pohled na modelovanou realitu, deklaruje statické elementy, jejich obsah a vztahy mezi ni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ovin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pravena notace komentář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nární asociace může obsahovat „diamant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jazykově závislých prvků (např. stereotyp &lt;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en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&gt;&gt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dardizovaná notace rozhraní (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l and socke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sněji specifikovaná násobnost (povoluje inter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F52-FE50-43A1-8CE8-E4C52C8DF3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ktový diagra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obrazuje instance objektů, speciální případ třídního diagramu, zobrazuje stav systému v daném okamži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ovin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ficiální jméno Objektový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vrženy stereotypy &lt;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&gt;&gt; a &lt;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rušeny multiob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4C8-D870-4874-9AEC-B43A257CC9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20:25:44Z</dcterms:created>
  <dc:creator>Lumir Navrat</dc:creator>
  <dc:description/>
  <dc:language>en-US</dc:language>
  <cp:lastModifiedBy>Lumír Návrat</cp:lastModifiedBy>
  <dcterms:modified xsi:type="dcterms:W3CDTF">2004-06-10T08:20:23Z</dcterms:modified>
  <cp:revision>24</cp:revision>
  <dc:subject/>
  <dc:title>UML 2.0 Superstructure Class Diagram</dc:title>
</cp:coreProperties>
</file>