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0CD6D-96B8-4268-83E2-D16AA83C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976DE-78DF-4CBE-876B-131FA649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CC0E-880A-45C0-ACD4-61C1554C0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878D2-6551-488C-A8C7-7F61F459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99FF6-2A6E-477F-85A0-262AA11C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24EDF-C429-4A95-8000-3F850FE3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7D891-5164-4D58-A0B7-4ADF54DC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0D5A2-0E45-4ADF-9626-9E258A96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8E7FB-3F64-4A06-987D-200E0A18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08E15-43F2-4A7C-A4ED-A01BFA6A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A1DE5-7779-422F-A0D1-2D8AFE24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75378-08D7-4388-8E7F-09D3620B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001E8-BFA5-4CBF-90E1-2A4679EC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16FA7-31C8-40F9-BFF6-46CE4D64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95BEB-02BC-40E0-B297-B48E241F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6C701-D143-4832-A8D8-448464431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9A6D0-D0F5-4AC1-870A-6CF34085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D771A-DF86-4A4B-91AC-A80797BFF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00DA1-22FE-40F7-9322-366FEC62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BC4CA-0B36-48A8-BAC9-7489C4EE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2119F-BC15-488E-8E6E-AD1865BB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D73AC-2A29-49E1-B388-3E6472AE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BF367-3F7A-488D-AC44-5A50B0F5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0EFC4-8ADE-47C2-9ED4-6027859D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Aft>
                <a:spcPts val="499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499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179360" indent="-228600">
              <a:spcAft>
                <a:spcPts val="499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Aft>
                <a:spcPts val="499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Aft>
                <a:spcPts val="499"/>
              </a:spcAft>
              <a:buClr>
                <a:srgbClr val="df00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Aft>
                <a:spcPts val="499"/>
              </a:spcAft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Aft>
                <a:spcPts val="499"/>
              </a:spcAft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98560" y="6661080"/>
            <a:ext cx="39592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29600" y="6661080"/>
            <a:ext cx="4572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0382D5F0-B4B3-4770-96F8-CCB3D308FDFF}" type="slidenum"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297480" y="6661080"/>
            <a:ext cx="180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pyright © 2006 TietoEnator Corporation</a:t>
            </a:r>
            <a:endParaRPr b="0" lang="en-US" sz="7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8680" cy="260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47480" y="6660720"/>
            <a:ext cx="12286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WIZPIC" descr=""/>
          <p:cNvPicPr/>
          <p:nvPr/>
        </p:nvPicPr>
        <p:blipFill>
          <a:blip r:embed="rId3"/>
          <a:stretch/>
        </p:blipFill>
        <p:spPr>
          <a:xfrm>
            <a:off x="457200" y="762120"/>
            <a:ext cx="822960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190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1798560" y="6661080"/>
            <a:ext cx="39592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8229600" y="6661080"/>
            <a:ext cx="4572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CB9ADF2C-3999-410E-8D40-5B838871E531}" type="slidenum"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97480" y="6661080"/>
            <a:ext cx="180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pyright © 2006 TietoEnator Corporation</a:t>
            </a:r>
            <a:endParaRPr b="0" lang="en-US" sz="7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8680" cy="260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dt" idx="6"/>
          </p:nvPr>
        </p:nvSpPr>
        <p:spPr>
          <a:xfrm>
            <a:off x="447480" y="6660720"/>
            <a:ext cx="12286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914400" indent="36360" algn="ctr">
              <a:spcAft>
                <a:spcPts val="337"/>
              </a:spcAft>
              <a:buClr>
                <a:srgbClr val="df0032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Aft>
                <a:spcPts val="201"/>
              </a:spcAft>
              <a:buClr>
                <a:srgbClr val="df0032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Aft>
                <a:spcPts val="201"/>
              </a:spcAft>
              <a:buClr>
                <a:srgbClr val="df0032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190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itoring - general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66880" y="53337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Server monitoring [ remote monitoring ], VSB </a:t>
            </a:r>
            <a:endParaRPr b="1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Arial"/>
              </a:rPr>
              <a:t>Adam Prokes, 2007-12-6</a:t>
            </a:r>
            <a:endParaRPr b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er monito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Aft>
                <a:spcPts val="451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manage thousands servers from one place [ from one PC ] and you need only few people = cheap server managing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to manage server via monitoring syste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ck reaction times [ you know about problem almost immediately ]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solutions for huge companies and their business process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Reporting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overy act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04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040" indent="-284040">
              <a:spcAft>
                <a:spcPts val="451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Hardware where OS is running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all kinds of Server applicat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E0085-9288-4117-AE0A-7D1C7281F8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7-12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er monitoring – basic categor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Aft>
                <a:spcPts val="499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 – bas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of monitoring system installed on monitored server [ process or service, history files, config files, etc… ]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ffect server performance [ CPU, Memory, etc… ]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04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040" indent="-284040">
              <a:spcAft>
                <a:spcPts val="499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 – l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installation or files on monitored serv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onitoring is done remotely from monitoring serv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low affected server performanc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B6DAF-8686-4C8D-8EA9-F2B38726F3A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7-12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er monitoring - specif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Aft>
                <a:spcPts val="499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 monitor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, IBM, Sun, etc.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, Workstations, Network devices, other Hardware with O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0"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040" indent="-284040">
              <a:spcAft>
                <a:spcPts val="499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ng System monitor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XX, Unix, Linux, etc.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0"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040" indent="-284040">
              <a:spcAft>
                <a:spcPts val="499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monitor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, Mail server, Web server, etc.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6B5E8-6137-4609-9C12-0B5906748E5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7-12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er monitoring - sequ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itoring &gt; Event Management &gt; ARS syste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Aft>
                <a:spcPts val="451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lnSpc>
                <a:spcPct val="90000"/>
              </a:lnSpc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ed monitoring syste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Aft>
                <a:spcPts val="451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lnSpc>
                <a:spcPct val="90000"/>
              </a:lnSpc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of events generated from Monitoring syste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0">
              <a:lnSpc>
                <a:spcPct val="90000"/>
              </a:lnSpc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 forward event to ARS system [ based on info. input ]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Aft>
                <a:spcPts val="451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S syste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lnSpc>
                <a:spcPct val="90000"/>
              </a:lnSpc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management workflow system [ Incident, Problem, Change management ]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lnSpc>
                <a:spcPct val="90000"/>
              </a:lnSpc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ITIL, CMDB, Knowledge Ba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F6ED5-61E1-494C-B193-76B4624AFFF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7-12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t Shortcu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Aft>
                <a:spcPts val="451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I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nfrastructure Library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040" indent="-284040">
              <a:spcAft>
                <a:spcPts val="451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MDB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Management Data Ba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040" indent="-284040">
              <a:spcAft>
                <a:spcPts val="451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 Request Syste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040" indent="-284040">
              <a:spcAft>
                <a:spcPts val="451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337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owledge Ba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0"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040" indent="0"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0"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04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0"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7DBE5-5DF1-40AA-B882-A1C21AAE7A3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7-12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8207280" cy="3528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41911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F3264-FC66-4D29-9C7F-6521816E3EE4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7-12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28404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End of presentation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140360" y="3860640"/>
            <a:ext cx="138420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3F4A0-E611-40D2-B60E-4F7922943F9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7-12-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2:32:45Z</dcterms:created>
  <dc:creator>prokeada</dc:creator>
  <dc:description/>
  <dc:language>en-US</dc:language>
  <cp:lastModifiedBy>prokeada</cp:lastModifiedBy>
  <dcterms:modified xsi:type="dcterms:W3CDTF">2007-12-09T21:52:42Z</dcterms:modified>
  <cp:revision>4</cp:revision>
  <dc:subject/>
  <dc:title>Monitoring - general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GHeight">
    <vt:lpwstr>270</vt:lpwstr>
  </property>
  <property fmtid="{D5CDD505-2E9C-101B-9397-08002B2CF9AE}" pid="3" name="BGLeft">
    <vt:lpwstr>36</vt:lpwstr>
  </property>
  <property fmtid="{D5CDD505-2E9C-101B-9397-08002B2CF9AE}" pid="4" name="BGTop">
    <vt:lpwstr>60</vt:lpwstr>
  </property>
  <property fmtid="{D5CDD505-2E9C-101B-9397-08002B2CF9AE}" pid="5" name="BGWidth">
    <vt:lpwstr>648</vt:lpwstr>
  </property>
  <property fmtid="{D5CDD505-2E9C-101B-9397-08002B2CF9AE}" pid="6" name="Colour1">
    <vt:lpwstr>255,204,0</vt:lpwstr>
  </property>
  <property fmtid="{D5CDD505-2E9C-101B-9397-08002B2CF9AE}" pid="7" name="Colour2">
    <vt:lpwstr>255,102,0</vt:lpwstr>
  </property>
  <property fmtid="{D5CDD505-2E9C-101B-9397-08002B2CF9AE}" pid="8" name="Colour3">
    <vt:lpwstr>51,102,51</vt:lpwstr>
  </property>
  <property fmtid="{D5CDD505-2E9C-101B-9397-08002B2CF9AE}" pid="9" name="Colour4">
    <vt:lpwstr>51,51,153</vt:lpwstr>
  </property>
</Properties>
</file>