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EA6EA-F625-4C1F-A62D-1D3D693E1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7497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DE3EA-0867-4A71-A13D-B2C762AC4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7497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699C6-2214-4F12-BA95-CDF43930B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7497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7497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7497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C73E7-1597-4144-87EB-F10FE4214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40F418-D823-4B08-A312-D15A3F344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682BFA-162A-4B42-B1B1-BEC13880B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D34B42-2D5E-42F9-81B0-C501BBDC5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1681DD-536C-4652-A8ED-FC3A619B8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E2FF3F-1DED-4BFE-B996-6C84AE132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8F2EC0-0064-422C-98FE-2B0B4DB80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DB7349-F913-4B6A-86F8-5DCE5137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CBC10-6E0E-4503-8DFC-D719AECE3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7497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C68182-44D6-4813-AADB-CCFA6B80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3D6F35-58F7-49FB-B5A9-36541B09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7497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DDB8C4-4284-4E53-90CE-2DD60C5E8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7497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C0A566-B1CB-4FBD-BD27-F1E9E3E9E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7497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7497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7497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5DC4B3-ED0E-41FF-A4D4-9DDA04A1F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820A3-1D38-428B-9E2F-9C8FAAC97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78096-633C-49E1-935A-EBD49C03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D7EAD-FFA8-4BA5-A9C3-1C6AD0795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57E04-665F-4ECB-838D-A6B75E9BC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100C0-CEB3-4D85-915E-3E210F0C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7497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F0187-0D70-4546-A0B5-91CDA3CF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CB75B-7C9A-4471-9100-AF62E69A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4040" indent="-284040">
              <a:spcAft>
                <a:spcPts val="499"/>
              </a:spcAft>
              <a:buClr>
                <a:srgbClr val="df00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60320" indent="-285480">
              <a:spcAft>
                <a:spcPts val="499"/>
              </a:spcAft>
              <a:buClr>
                <a:srgbClr val="df00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179360" indent="-228600">
              <a:spcAft>
                <a:spcPts val="499"/>
              </a:spcAft>
              <a:buClr>
                <a:srgbClr val="df00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Aft>
                <a:spcPts val="499"/>
              </a:spcAft>
              <a:buClr>
                <a:srgbClr val="df00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Aft>
                <a:spcPts val="499"/>
              </a:spcAft>
              <a:buClr>
                <a:srgbClr val="df00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Aft>
                <a:spcPts val="499"/>
              </a:spcAft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Aft>
                <a:spcPts val="499"/>
              </a:spcAft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798560" y="6661080"/>
            <a:ext cx="395928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7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229600" y="6661080"/>
            <a:ext cx="45720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7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Times New Roman"/>
              </a:rPr>
              <a:t>Page </a:t>
            </a:r>
            <a:fld id="{A2AC3A5E-51FC-4BB0-BBFD-2ACC5F857CFA}" type="slidenum">
              <a:rPr b="1" lang="en-US" sz="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297480" y="6661080"/>
            <a:ext cx="180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Copyright © 2006 TietoEnator Corporation</a:t>
            </a:r>
            <a:endParaRPr b="0" lang="en-US" sz="7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8680" cy="26028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447480" y="6660720"/>
            <a:ext cx="122868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7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EWIZPIC" descr=""/>
          <p:cNvPicPr/>
          <p:nvPr/>
        </p:nvPicPr>
        <p:blipFill>
          <a:blip r:embed="rId3"/>
          <a:stretch/>
        </p:blipFill>
        <p:spPr>
          <a:xfrm>
            <a:off x="457200" y="762120"/>
            <a:ext cx="8229600" cy="3429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1907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4"/>
          </p:nvPr>
        </p:nvSpPr>
        <p:spPr>
          <a:xfrm>
            <a:off x="1798560" y="6661080"/>
            <a:ext cx="395928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7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5"/>
          </p:nvPr>
        </p:nvSpPr>
        <p:spPr>
          <a:xfrm>
            <a:off x="8229600" y="6661080"/>
            <a:ext cx="45720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7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Times New Roman"/>
              </a:rPr>
              <a:t>Page </a:t>
            </a:r>
            <a:fld id="{E3752A43-B7E3-47CB-A943-C5884973B5D9}" type="slidenum">
              <a:rPr b="1" lang="en-US" sz="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297480" y="6661080"/>
            <a:ext cx="180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Copyright © 2006 TietoEnator Corporation</a:t>
            </a:r>
            <a:endParaRPr b="0" lang="en-US" sz="7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8680" cy="260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dt" idx="6"/>
          </p:nvPr>
        </p:nvSpPr>
        <p:spPr>
          <a:xfrm>
            <a:off x="447480" y="6660720"/>
            <a:ext cx="122868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7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0" algn="ctr"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914400" indent="36360" algn="ctr">
              <a:spcAft>
                <a:spcPts val="337"/>
              </a:spcAft>
              <a:buClr>
                <a:srgbClr val="df0032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371600" algn="ctr">
              <a:spcAft>
                <a:spcPts val="201"/>
              </a:spcAft>
              <a:buClr>
                <a:srgbClr val="df0032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4" marL="1828800" algn="ctr">
              <a:spcAft>
                <a:spcPts val="201"/>
              </a:spcAft>
              <a:buClr>
                <a:srgbClr val="df0032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1907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t 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666880" y="53337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OMT – Patro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indent="0" algn="r"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Adam Prokes, 2007-12-6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S system – Incident Ticket with err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9144000" cy="545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562F0-FB2D-4451-B944-1EB0D5F2A95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007-12-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1447920"/>
            <a:ext cx="8942400" cy="48387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trol console – see current situ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79D83-7704-486A-96AF-4C09B930AE0D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007-12-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900000" y="1268280"/>
            <a:ext cx="6659640" cy="49150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trol console – Repair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6B984-F42E-4FFB-BBCE-787BA0F7E2B1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007-12-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7000" y="1125360"/>
            <a:ext cx="9117000" cy="55134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S system – Incident Ticket with error comeple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99D21-2809-4EE6-8EC0-6278808DB7C7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007-12-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4040" indent="-284040">
              <a:spcAft>
                <a:spcPts val="499"/>
              </a:spcAft>
              <a:buClr>
                <a:srgbClr val="df00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Problem on server &gt; Service stopped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284040" indent="-284040">
              <a:spcAft>
                <a:spcPts val="499"/>
              </a:spcAft>
              <a:buClr>
                <a:srgbClr val="df00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tatus of service changed &gt; Patrol generate Event to PEM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284040" indent="-284040">
              <a:spcAft>
                <a:spcPts val="499"/>
              </a:spcAft>
              <a:buClr>
                <a:srgbClr val="df00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PEM enrich event with information about server, customer, and team which is responsible to solve this problem. And create Incident ticket to ARS system to responsible team queue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284040" indent="-284040">
              <a:spcAft>
                <a:spcPts val="499"/>
              </a:spcAft>
              <a:buClr>
                <a:srgbClr val="df00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esponsible team starts working on this problem according to ITIL. They can use Patrol console to start this service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284040" indent="-284040">
              <a:spcAft>
                <a:spcPts val="499"/>
              </a:spcAft>
              <a:buClr>
                <a:srgbClr val="df00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esponsible team close ticket with solution, after problem is solved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284040"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60B2A-FF1B-470C-8502-D577A5D1CEB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007-12-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1907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666880" y="53337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68360" y="692280"/>
            <a:ext cx="8226360" cy="34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4040"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284040"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Arial"/>
              </a:rPr>
              <a:t>End of presentation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40360" y="3860640"/>
            <a:ext cx="1384200" cy="95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222FB-CDF3-44F6-8BD2-DD245BB1E05F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007-12-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9T22:06:15Z</dcterms:created>
  <dc:creator>prokeada</dc:creator>
  <dc:description/>
  <dc:language>en-US</dc:language>
  <cp:lastModifiedBy>prokeada</cp:lastModifiedBy>
  <dcterms:modified xsi:type="dcterms:W3CDTF">2007-12-10T07:22:41Z</dcterms:modified>
  <cp:revision>4</cp:revision>
  <dc:subject/>
  <dc:title>Event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GHeight">
    <vt:lpwstr>270</vt:lpwstr>
  </property>
  <property fmtid="{D5CDD505-2E9C-101B-9397-08002B2CF9AE}" pid="3" name="BGLeft">
    <vt:lpwstr>36</vt:lpwstr>
  </property>
  <property fmtid="{D5CDD505-2E9C-101B-9397-08002B2CF9AE}" pid="4" name="BGTop">
    <vt:lpwstr>60</vt:lpwstr>
  </property>
  <property fmtid="{D5CDD505-2E9C-101B-9397-08002B2CF9AE}" pid="5" name="BGWidth">
    <vt:lpwstr>648</vt:lpwstr>
  </property>
  <property fmtid="{D5CDD505-2E9C-101B-9397-08002B2CF9AE}" pid="6" name="Colour1">
    <vt:lpwstr>255,204,0</vt:lpwstr>
  </property>
  <property fmtid="{D5CDD505-2E9C-101B-9397-08002B2CF9AE}" pid="7" name="Colour2">
    <vt:lpwstr>255,102,0</vt:lpwstr>
  </property>
  <property fmtid="{D5CDD505-2E9C-101B-9397-08002B2CF9AE}" pid="8" name="Colour3">
    <vt:lpwstr>51,102,51</vt:lpwstr>
  </property>
  <property fmtid="{D5CDD505-2E9C-101B-9397-08002B2CF9AE}" pid="9" name="Colour4">
    <vt:lpwstr>51,51,153</vt:lpwstr>
  </property>
</Properties>
</file>