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216-A6A6-4747-B1A7-768FC441D88C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dded a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ne and a disk – this is a second shared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hange fails on this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Mod 2 p37 for Private Net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image" Target="../media/image4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1.png"/><Relationship Id="rId23" Type="http://schemas.openxmlformats.org/officeDocument/2006/relationships/image" Target="../media/image2.png"/><Relationship Id="rId24" Type="http://schemas.openxmlformats.org/officeDocument/2006/relationships/image" Target="../media/image3.png"/><Relationship Id="rId25" Type="http://schemas.openxmlformats.org/officeDocument/2006/relationships/image" Target="../media/image4.png"/><Relationship Id="rId26" Type="http://schemas.openxmlformats.org/officeDocument/2006/relationships/image" Target="../media/image5.png"/><Relationship Id="rId27" Type="http://schemas.openxmlformats.org/officeDocument/2006/relationships/image" Target="../media/image6.png"/><Relationship Id="rId28" Type="http://schemas.openxmlformats.org/officeDocument/2006/relationships/image" Target="../media/image7.png"/><Relationship Id="rId2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ule 3: Preparing for Cluster Service Installation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Network Card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work Descrip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ed Network Typ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 Ba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Base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DDI Network Car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pecialized Interconnect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Disk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7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rdware RAI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k Access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ultiple Shared B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941040" y="3151080"/>
            <a:ext cx="7068960" cy="2535120"/>
            <a:chOff x="941040" y="3151080"/>
            <a:chExt cx="7068960" cy="2535120"/>
          </a:xfrm>
        </p:grpSpPr>
        <p:sp>
          <p:nvSpPr>
            <p:cNvPr id="700" name=""/>
            <p:cNvSpPr/>
            <p:nvPr/>
          </p:nvSpPr>
          <p:spPr>
            <a:xfrm>
              <a:off x="3695760" y="3836880"/>
              <a:ext cx="0" cy="53352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219640" y="3760920"/>
              <a:ext cx="0" cy="60948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76440" y="4370400"/>
              <a:ext cx="457200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3314880" y="3760920"/>
              <a:ext cx="914040" cy="492120"/>
              <a:chOff x="3314880" y="3760920"/>
              <a:chExt cx="914040" cy="492120"/>
            </a:xfrm>
          </p:grpSpPr>
          <p:sp>
            <p:nvSpPr>
              <p:cNvPr id="704" name=""/>
              <p:cNvSpPr/>
              <p:nvPr/>
            </p:nvSpPr>
            <p:spPr>
              <a:xfrm>
                <a:off x="3314880" y="3760920"/>
                <a:ext cx="911160" cy="386640"/>
              </a:xfrm>
              <a:custGeom>
                <a:avLst/>
                <a:gdLst/>
                <a:ahLst/>
                <a:rect l="l" t="t" r="r" b="b"/>
                <a:pathLst>
                  <a:path w="1570" h="583">
                    <a:moveTo>
                      <a:pt x="0" y="174"/>
                    </a:moveTo>
                    <a:lnTo>
                      <a:pt x="708" y="0"/>
                    </a:lnTo>
                    <a:lnTo>
                      <a:pt x="1569" y="315"/>
                    </a:lnTo>
                    <a:lnTo>
                      <a:pt x="666" y="582"/>
                    </a:lnTo>
                    <a:lnTo>
                      <a:pt x="0" y="174"/>
                    </a:lnTo>
                  </a:path>
                </a:pathLst>
              </a:custGeom>
              <a:gradFill rotWithShape="0">
                <a:gsLst>
                  <a:gs pos="0">
                    <a:srgbClr val="fcf6e5"/>
                  </a:gs>
                  <a:gs pos="100000">
                    <a:srgbClr val="fceec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588480" y="390852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22040" y="3769200"/>
                <a:ext cx="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399840" y="3866040"/>
                <a:ext cx="207720" cy="16164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18"/>
                    </a:moveTo>
                    <a:lnTo>
                      <a:pt x="0" y="108"/>
                    </a:lnTo>
                    <a:lnTo>
                      <a:pt x="222" y="243"/>
                    </a:lnTo>
                    <a:lnTo>
                      <a:pt x="357" y="138"/>
                    </a:lnTo>
                    <a:lnTo>
                      <a:pt x="357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527280" y="3966480"/>
                <a:ext cx="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588480" y="388260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588480" y="3854880"/>
                <a:ext cx="454680" cy="18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62720" y="3924720"/>
                <a:ext cx="110160" cy="42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424320" y="385416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4042080" y="3990600"/>
                <a:ext cx="79200" cy="3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316320" y="3878280"/>
                <a:ext cx="912600" cy="374760"/>
              </a:xfrm>
              <a:custGeom>
                <a:avLst/>
                <a:gdLst/>
                <a:ahLst/>
                <a:rect l="l" t="t" r="r" b="b"/>
                <a:pathLst>
                  <a:path w="1573" h="565">
                    <a:moveTo>
                      <a:pt x="0" y="0"/>
                    </a:moveTo>
                    <a:lnTo>
                      <a:pt x="663" y="396"/>
                    </a:lnTo>
                    <a:lnTo>
                      <a:pt x="1572" y="135"/>
                    </a:lnTo>
                    <a:lnTo>
                      <a:pt x="1572" y="279"/>
                    </a:lnTo>
                    <a:lnTo>
                      <a:pt x="672" y="564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424320" y="384624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401640" y="3834360"/>
                <a:ext cx="207720" cy="128160"/>
              </a:xfrm>
              <a:custGeom>
                <a:avLst/>
                <a:gdLst/>
                <a:ahLst/>
                <a:rect l="l" t="t" r="r" b="b"/>
                <a:pathLst>
                  <a:path w="358" h="193">
                    <a:moveTo>
                      <a:pt x="0" y="57"/>
                    </a:moveTo>
                    <a:lnTo>
                      <a:pt x="42" y="132"/>
                    </a:lnTo>
                    <a:lnTo>
                      <a:pt x="207" y="192"/>
                    </a:lnTo>
                    <a:lnTo>
                      <a:pt x="357" y="48"/>
                    </a:lnTo>
                    <a:lnTo>
                      <a:pt x="228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4762440" y="3608280"/>
              <a:ext cx="914040" cy="492120"/>
              <a:chOff x="4762440" y="3608280"/>
              <a:chExt cx="914040" cy="492120"/>
            </a:xfrm>
          </p:grpSpPr>
          <p:sp>
            <p:nvSpPr>
              <p:cNvPr id="718" name=""/>
              <p:cNvSpPr/>
              <p:nvPr/>
            </p:nvSpPr>
            <p:spPr>
              <a:xfrm>
                <a:off x="4762440" y="3608280"/>
                <a:ext cx="911160" cy="386640"/>
              </a:xfrm>
              <a:custGeom>
                <a:avLst/>
                <a:gdLst/>
                <a:ahLst/>
                <a:rect l="l" t="t" r="r" b="b"/>
                <a:pathLst>
                  <a:path w="1570" h="583">
                    <a:moveTo>
                      <a:pt x="0" y="174"/>
                    </a:moveTo>
                    <a:lnTo>
                      <a:pt x="708" y="0"/>
                    </a:lnTo>
                    <a:lnTo>
                      <a:pt x="1569" y="315"/>
                    </a:lnTo>
                    <a:lnTo>
                      <a:pt x="666" y="582"/>
                    </a:lnTo>
                    <a:lnTo>
                      <a:pt x="0" y="174"/>
                    </a:lnTo>
                  </a:path>
                </a:pathLst>
              </a:custGeom>
              <a:gradFill rotWithShape="0">
                <a:gsLst>
                  <a:gs pos="0">
                    <a:srgbClr val="fcf6e5"/>
                  </a:gs>
                  <a:gs pos="100000">
                    <a:srgbClr val="fceec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036040" y="375588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169600" y="3616560"/>
                <a:ext cx="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847400" y="3713400"/>
                <a:ext cx="207720" cy="16164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18"/>
                    </a:moveTo>
                    <a:lnTo>
                      <a:pt x="0" y="108"/>
                    </a:lnTo>
                    <a:lnTo>
                      <a:pt x="222" y="243"/>
                    </a:lnTo>
                    <a:lnTo>
                      <a:pt x="357" y="138"/>
                    </a:lnTo>
                    <a:lnTo>
                      <a:pt x="357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974840" y="3813840"/>
                <a:ext cx="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036040" y="372996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036040" y="3702240"/>
                <a:ext cx="454680" cy="18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210280" y="3772080"/>
                <a:ext cx="110160" cy="42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871880" y="370152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>
                <a:off x="5489640" y="3837960"/>
                <a:ext cx="79200" cy="3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763880" y="3725640"/>
                <a:ext cx="912600" cy="374760"/>
              </a:xfrm>
              <a:custGeom>
                <a:avLst/>
                <a:gdLst/>
                <a:ahLst/>
                <a:rect l="l" t="t" r="r" b="b"/>
                <a:pathLst>
                  <a:path w="1573" h="565">
                    <a:moveTo>
                      <a:pt x="0" y="0"/>
                    </a:moveTo>
                    <a:lnTo>
                      <a:pt x="663" y="396"/>
                    </a:lnTo>
                    <a:lnTo>
                      <a:pt x="1572" y="135"/>
                    </a:lnTo>
                    <a:lnTo>
                      <a:pt x="1572" y="279"/>
                    </a:lnTo>
                    <a:lnTo>
                      <a:pt x="672" y="564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871880" y="369360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849200" y="3681720"/>
                <a:ext cx="207720" cy="128160"/>
              </a:xfrm>
              <a:custGeom>
                <a:avLst/>
                <a:gdLst/>
                <a:ahLst/>
                <a:rect l="l" t="t" r="r" b="b"/>
                <a:pathLst>
                  <a:path w="358" h="193">
                    <a:moveTo>
                      <a:pt x="0" y="57"/>
                    </a:moveTo>
                    <a:lnTo>
                      <a:pt x="42" y="132"/>
                    </a:lnTo>
                    <a:lnTo>
                      <a:pt x="207" y="192"/>
                    </a:lnTo>
                    <a:lnTo>
                      <a:pt x="357" y="48"/>
                    </a:lnTo>
                    <a:lnTo>
                      <a:pt x="228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762440" y="3456000"/>
              <a:ext cx="914040" cy="492120"/>
              <a:chOff x="4762440" y="3456000"/>
              <a:chExt cx="914040" cy="492120"/>
            </a:xfrm>
          </p:grpSpPr>
          <p:sp>
            <p:nvSpPr>
              <p:cNvPr id="732" name=""/>
              <p:cNvSpPr/>
              <p:nvPr/>
            </p:nvSpPr>
            <p:spPr>
              <a:xfrm>
                <a:off x="4762440" y="3456000"/>
                <a:ext cx="911160" cy="386640"/>
              </a:xfrm>
              <a:custGeom>
                <a:avLst/>
                <a:gdLst/>
                <a:ahLst/>
                <a:rect l="l" t="t" r="r" b="b"/>
                <a:pathLst>
                  <a:path w="1570" h="583">
                    <a:moveTo>
                      <a:pt x="0" y="174"/>
                    </a:moveTo>
                    <a:lnTo>
                      <a:pt x="708" y="0"/>
                    </a:lnTo>
                    <a:lnTo>
                      <a:pt x="1569" y="315"/>
                    </a:lnTo>
                    <a:lnTo>
                      <a:pt x="666" y="582"/>
                    </a:lnTo>
                    <a:lnTo>
                      <a:pt x="0" y="174"/>
                    </a:lnTo>
                  </a:path>
                </a:pathLst>
              </a:custGeom>
              <a:gradFill rotWithShape="0">
                <a:gsLst>
                  <a:gs pos="0">
                    <a:srgbClr val="fcf6e5"/>
                  </a:gs>
                  <a:gs pos="100000">
                    <a:srgbClr val="fceec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036040" y="360360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169600" y="3464280"/>
                <a:ext cx="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7400" y="3561120"/>
                <a:ext cx="207720" cy="16164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18"/>
                    </a:moveTo>
                    <a:lnTo>
                      <a:pt x="0" y="108"/>
                    </a:lnTo>
                    <a:lnTo>
                      <a:pt x="222" y="243"/>
                    </a:lnTo>
                    <a:lnTo>
                      <a:pt x="357" y="138"/>
                    </a:lnTo>
                    <a:lnTo>
                      <a:pt x="357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974840" y="3661560"/>
                <a:ext cx="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36040" y="357768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36040" y="3549960"/>
                <a:ext cx="454680" cy="18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210280" y="3619800"/>
                <a:ext cx="110160" cy="42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871880" y="354924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 flipV="1">
                <a:off x="5489640" y="3685680"/>
                <a:ext cx="79200" cy="3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763880" y="3573360"/>
                <a:ext cx="912600" cy="374760"/>
              </a:xfrm>
              <a:custGeom>
                <a:avLst/>
                <a:gdLst/>
                <a:ahLst/>
                <a:rect l="l" t="t" r="r" b="b"/>
                <a:pathLst>
                  <a:path w="1573" h="565">
                    <a:moveTo>
                      <a:pt x="0" y="0"/>
                    </a:moveTo>
                    <a:lnTo>
                      <a:pt x="663" y="396"/>
                    </a:lnTo>
                    <a:lnTo>
                      <a:pt x="1572" y="135"/>
                    </a:lnTo>
                    <a:lnTo>
                      <a:pt x="1572" y="279"/>
                    </a:lnTo>
                    <a:lnTo>
                      <a:pt x="672" y="564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871880" y="354132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849200" y="3529440"/>
                <a:ext cx="207720" cy="128160"/>
              </a:xfrm>
              <a:custGeom>
                <a:avLst/>
                <a:gdLst/>
                <a:ahLst/>
                <a:rect l="l" t="t" r="r" b="b"/>
                <a:pathLst>
                  <a:path w="358" h="193">
                    <a:moveTo>
                      <a:pt x="0" y="57"/>
                    </a:moveTo>
                    <a:lnTo>
                      <a:pt x="42" y="132"/>
                    </a:lnTo>
                    <a:lnTo>
                      <a:pt x="207" y="192"/>
                    </a:lnTo>
                    <a:lnTo>
                      <a:pt x="357" y="48"/>
                    </a:lnTo>
                    <a:lnTo>
                      <a:pt x="228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4762440" y="3303720"/>
              <a:ext cx="914040" cy="492120"/>
              <a:chOff x="4762440" y="3303720"/>
              <a:chExt cx="914040" cy="492120"/>
            </a:xfrm>
          </p:grpSpPr>
          <p:sp>
            <p:nvSpPr>
              <p:cNvPr id="746" name=""/>
              <p:cNvSpPr/>
              <p:nvPr/>
            </p:nvSpPr>
            <p:spPr>
              <a:xfrm>
                <a:off x="4762440" y="3303720"/>
                <a:ext cx="911160" cy="386640"/>
              </a:xfrm>
              <a:custGeom>
                <a:avLst/>
                <a:gdLst/>
                <a:ahLst/>
                <a:rect l="l" t="t" r="r" b="b"/>
                <a:pathLst>
                  <a:path w="1570" h="583">
                    <a:moveTo>
                      <a:pt x="0" y="174"/>
                    </a:moveTo>
                    <a:lnTo>
                      <a:pt x="708" y="0"/>
                    </a:lnTo>
                    <a:lnTo>
                      <a:pt x="1569" y="315"/>
                    </a:lnTo>
                    <a:lnTo>
                      <a:pt x="666" y="582"/>
                    </a:lnTo>
                    <a:lnTo>
                      <a:pt x="0" y="174"/>
                    </a:lnTo>
                  </a:path>
                </a:pathLst>
              </a:custGeom>
              <a:gradFill rotWithShape="0">
                <a:gsLst>
                  <a:gs pos="0">
                    <a:srgbClr val="fcf6e5"/>
                  </a:gs>
                  <a:gs pos="100000">
                    <a:srgbClr val="fceec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36040" y="345132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169600" y="3312000"/>
                <a:ext cx="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847400" y="3408840"/>
                <a:ext cx="207720" cy="16164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18"/>
                    </a:moveTo>
                    <a:lnTo>
                      <a:pt x="0" y="108"/>
                    </a:lnTo>
                    <a:lnTo>
                      <a:pt x="222" y="243"/>
                    </a:lnTo>
                    <a:lnTo>
                      <a:pt x="357" y="138"/>
                    </a:lnTo>
                    <a:lnTo>
                      <a:pt x="357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974840" y="3509280"/>
                <a:ext cx="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036040" y="342540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036040" y="3397680"/>
                <a:ext cx="454680" cy="18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10280" y="3467520"/>
                <a:ext cx="110160" cy="42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71880" y="339696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>
                <a:off x="5489640" y="3533400"/>
                <a:ext cx="79200" cy="3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63880" y="3421080"/>
                <a:ext cx="912600" cy="374760"/>
              </a:xfrm>
              <a:custGeom>
                <a:avLst/>
                <a:gdLst/>
                <a:ahLst/>
                <a:rect l="l" t="t" r="r" b="b"/>
                <a:pathLst>
                  <a:path w="1573" h="565">
                    <a:moveTo>
                      <a:pt x="0" y="0"/>
                    </a:moveTo>
                    <a:lnTo>
                      <a:pt x="663" y="396"/>
                    </a:lnTo>
                    <a:lnTo>
                      <a:pt x="1572" y="135"/>
                    </a:lnTo>
                    <a:lnTo>
                      <a:pt x="1572" y="279"/>
                    </a:lnTo>
                    <a:lnTo>
                      <a:pt x="672" y="564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871880" y="338904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849200" y="3377160"/>
                <a:ext cx="207720" cy="128160"/>
              </a:xfrm>
              <a:custGeom>
                <a:avLst/>
                <a:gdLst/>
                <a:ahLst/>
                <a:rect l="l" t="t" r="r" b="b"/>
                <a:pathLst>
                  <a:path w="358" h="193">
                    <a:moveTo>
                      <a:pt x="0" y="57"/>
                    </a:moveTo>
                    <a:lnTo>
                      <a:pt x="42" y="132"/>
                    </a:lnTo>
                    <a:lnTo>
                      <a:pt x="207" y="192"/>
                    </a:lnTo>
                    <a:lnTo>
                      <a:pt x="357" y="48"/>
                    </a:lnTo>
                    <a:lnTo>
                      <a:pt x="228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762440" y="3151080"/>
              <a:ext cx="914040" cy="492120"/>
              <a:chOff x="4762440" y="3151080"/>
              <a:chExt cx="914040" cy="492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762440" y="3151080"/>
                <a:ext cx="911160" cy="386640"/>
              </a:xfrm>
              <a:custGeom>
                <a:avLst/>
                <a:gdLst/>
                <a:ahLst/>
                <a:rect l="l" t="t" r="r" b="b"/>
                <a:pathLst>
                  <a:path w="1570" h="583">
                    <a:moveTo>
                      <a:pt x="0" y="174"/>
                    </a:moveTo>
                    <a:lnTo>
                      <a:pt x="708" y="0"/>
                    </a:lnTo>
                    <a:lnTo>
                      <a:pt x="1569" y="315"/>
                    </a:lnTo>
                    <a:lnTo>
                      <a:pt x="666" y="582"/>
                    </a:lnTo>
                    <a:lnTo>
                      <a:pt x="0" y="174"/>
                    </a:lnTo>
                  </a:path>
                </a:pathLst>
              </a:custGeom>
              <a:gradFill rotWithShape="0">
                <a:gsLst>
                  <a:gs pos="0">
                    <a:srgbClr val="fcf6e5"/>
                  </a:gs>
                  <a:gs pos="100000">
                    <a:srgbClr val="fceec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036040" y="329868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169600" y="3159360"/>
                <a:ext cx="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847400" y="3256200"/>
                <a:ext cx="207720" cy="16164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18"/>
                    </a:moveTo>
                    <a:lnTo>
                      <a:pt x="0" y="108"/>
                    </a:lnTo>
                    <a:lnTo>
                      <a:pt x="222" y="243"/>
                    </a:lnTo>
                    <a:lnTo>
                      <a:pt x="357" y="138"/>
                    </a:lnTo>
                    <a:lnTo>
                      <a:pt x="357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74840" y="3356640"/>
                <a:ext cx="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036040" y="327276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036040" y="3245040"/>
                <a:ext cx="454680" cy="18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10280" y="3314880"/>
                <a:ext cx="110160" cy="42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871880" y="324432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5489640" y="3380760"/>
                <a:ext cx="79200" cy="3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763880" y="3268440"/>
                <a:ext cx="912600" cy="374760"/>
              </a:xfrm>
              <a:custGeom>
                <a:avLst/>
                <a:gdLst/>
                <a:ahLst/>
                <a:rect l="l" t="t" r="r" b="b"/>
                <a:pathLst>
                  <a:path w="1573" h="565">
                    <a:moveTo>
                      <a:pt x="0" y="0"/>
                    </a:moveTo>
                    <a:lnTo>
                      <a:pt x="663" y="396"/>
                    </a:lnTo>
                    <a:lnTo>
                      <a:pt x="1572" y="135"/>
                    </a:lnTo>
                    <a:lnTo>
                      <a:pt x="1572" y="279"/>
                    </a:lnTo>
                    <a:lnTo>
                      <a:pt x="672" y="564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871880" y="323640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49200" y="3224520"/>
                <a:ext cx="207720" cy="128160"/>
              </a:xfrm>
              <a:custGeom>
                <a:avLst/>
                <a:gdLst/>
                <a:ahLst/>
                <a:rect l="l" t="t" r="r" b="b"/>
                <a:pathLst>
                  <a:path w="358" h="193">
                    <a:moveTo>
                      <a:pt x="0" y="57"/>
                    </a:moveTo>
                    <a:lnTo>
                      <a:pt x="42" y="132"/>
                    </a:lnTo>
                    <a:lnTo>
                      <a:pt x="207" y="192"/>
                    </a:lnTo>
                    <a:lnTo>
                      <a:pt x="357" y="48"/>
                    </a:lnTo>
                    <a:lnTo>
                      <a:pt x="228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>
              <a:off x="5600880" y="3227400"/>
              <a:ext cx="457200" cy="838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060240" y="3456000"/>
              <a:ext cx="154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Arial Narrow"/>
                </a:rPr>
                <a:t>Hardware RA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090600" y="3456000"/>
              <a:ext cx="118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Arial Narrow"/>
                </a:rPr>
                <a:t>Single D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562120" y="4551480"/>
              <a:ext cx="457200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941040" y="3903840"/>
              <a:ext cx="1677960" cy="1782360"/>
              <a:chOff x="941040" y="3903840"/>
              <a:chExt cx="1677960" cy="178236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1614240" y="3903840"/>
                <a:ext cx="1004760" cy="1620720"/>
                <a:chOff x="1614240" y="3903840"/>
                <a:chExt cx="1004760" cy="1620720"/>
              </a:xfrm>
            </p:grpSpPr>
            <p:sp>
              <p:nvSpPr>
                <p:cNvPr id="779" name=""/>
                <p:cNvSpPr/>
                <p:nvPr/>
              </p:nvSpPr>
              <p:spPr>
                <a:xfrm flipH="1">
                  <a:off x="1616040" y="3903840"/>
                  <a:ext cx="1000080" cy="34776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>
                  <a:off x="1630440" y="5110200"/>
                  <a:ext cx="969840" cy="4143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>
                  <a:off x="1613880" y="4000680"/>
                  <a:ext cx="564840" cy="14828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2172600" y="4140360"/>
                  <a:ext cx="446040" cy="133812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>
                  <a:off x="2249280" y="5265720"/>
                  <a:ext cx="308160" cy="810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>
                  <a:off x="2223360" y="4275360"/>
                  <a:ext cx="50760" cy="28440"/>
                </a:xfrm>
                <a:prstGeom prst="ellipse">
                  <a:avLst/>
                </a:pr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>
                  <a:off x="2249280" y="5203800"/>
                  <a:ext cx="308160" cy="828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>
                  <a:off x="2249280" y="5141880"/>
                  <a:ext cx="308160" cy="8424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>
                  <a:off x="2249280" y="5083200"/>
                  <a:ext cx="308160" cy="828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>
                  <a:off x="2249280" y="5023080"/>
                  <a:ext cx="308160" cy="810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2245680" y="4438800"/>
                  <a:ext cx="306360" cy="56844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2235240" y="4326120"/>
                  <a:ext cx="349200" cy="99072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>
                  <a:off x="2248560" y="4364280"/>
                  <a:ext cx="312840" cy="56340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>
                  <a:off x="2260440" y="4491000"/>
                  <a:ext cx="300240" cy="7164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>
                  <a:off x="2255400" y="4613400"/>
                  <a:ext cx="304920" cy="684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>
                  <a:off x="2269800" y="4761000"/>
                  <a:ext cx="290520" cy="7164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>
                  <a:off x="2350440" y="4434120"/>
                  <a:ext cx="120600" cy="6336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>
                  <a:off x="2295000" y="4443480"/>
                  <a:ext cx="220680" cy="4752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2270880" y="4664160"/>
                  <a:ext cx="266760" cy="11916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>
                  <a:off x="2269440" y="4811760"/>
                  <a:ext cx="268200" cy="133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>
                  <a:off x="2271600" y="4527720"/>
                  <a:ext cx="271440" cy="12384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V="1">
                  <a:off x="2468520" y="4848120"/>
                  <a:ext cx="57240" cy="12600"/>
                </a:xfrm>
                <a:prstGeom prst="line">
                  <a:avLst/>
                </a:prstGeom>
                <a:ln w="64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V="1">
                  <a:off x="2471760" y="4698720"/>
                  <a:ext cx="57240" cy="12600"/>
                </a:xfrm>
                <a:prstGeom prst="line">
                  <a:avLst/>
                </a:prstGeom>
                <a:ln w="64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2477880" y="4557600"/>
                  <a:ext cx="57240" cy="12600"/>
                </a:xfrm>
                <a:prstGeom prst="line">
                  <a:avLst/>
                </a:prstGeom>
                <a:ln w="64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941040" y="4600800"/>
                <a:ext cx="1154160" cy="1085400"/>
                <a:chOff x="941040" y="4600800"/>
                <a:chExt cx="1154160" cy="1085400"/>
              </a:xfrm>
            </p:grpSpPr>
            <p:sp>
              <p:nvSpPr>
                <p:cNvPr id="804" name=""/>
                <p:cNvSpPr/>
                <p:nvPr/>
              </p:nvSpPr>
              <p:spPr>
                <a:xfrm flipH="1">
                  <a:off x="1109520" y="5307120"/>
                  <a:ext cx="898560" cy="3790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5" name=""/>
                <p:cNvGrpSpPr/>
                <p:nvPr/>
              </p:nvGrpSpPr>
              <p:grpSpPr>
                <a:xfrm>
                  <a:off x="941040" y="4600800"/>
                  <a:ext cx="1154160" cy="1050480"/>
                  <a:chOff x="941040" y="4600800"/>
                  <a:chExt cx="1154160" cy="1050480"/>
                </a:xfrm>
              </p:grpSpPr>
              <p:sp>
                <p:nvSpPr>
                  <p:cNvPr id="806" name=""/>
                  <p:cNvSpPr/>
                  <p:nvPr/>
                </p:nvSpPr>
                <p:spPr>
                  <a:xfrm flipH="1">
                    <a:off x="1127160" y="5313240"/>
                    <a:ext cx="8697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>
                    <a:off x="1326240" y="5397480"/>
                    <a:ext cx="453960" cy="180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>
                    <a:off x="1296000" y="5403960"/>
                    <a:ext cx="7304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>
                    <a:off x="940680" y="4600800"/>
                    <a:ext cx="911160" cy="84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>
                    <a:off x="1102320" y="4786200"/>
                    <a:ext cx="182520" cy="81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3e3e3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>
                    <a:off x="1101600" y="4611600"/>
                    <a:ext cx="99360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>
                    <a:off x="1283400" y="4692600"/>
                    <a:ext cx="811080" cy="9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8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1343880" y="4773600"/>
                    <a:ext cx="687240" cy="75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H="1">
                    <a:off x="1388160" y="4824360"/>
                    <a:ext cx="60156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1936440" y="4876920"/>
                    <a:ext cx="0" cy="979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16" name=""/>
            <p:cNvGrpSpPr/>
            <p:nvPr/>
          </p:nvGrpSpPr>
          <p:grpSpPr>
            <a:xfrm>
              <a:off x="6332040" y="3892680"/>
              <a:ext cx="1677960" cy="1782360"/>
              <a:chOff x="6332040" y="3892680"/>
              <a:chExt cx="1677960" cy="1782360"/>
            </a:xfrm>
          </p:grpSpPr>
          <p:grpSp>
            <p:nvGrpSpPr>
              <p:cNvPr id="817" name=""/>
              <p:cNvGrpSpPr/>
              <p:nvPr/>
            </p:nvGrpSpPr>
            <p:grpSpPr>
              <a:xfrm>
                <a:off x="7005240" y="3892680"/>
                <a:ext cx="1004760" cy="1620720"/>
                <a:chOff x="7005240" y="3892680"/>
                <a:chExt cx="1004760" cy="1620720"/>
              </a:xfrm>
            </p:grpSpPr>
            <p:sp>
              <p:nvSpPr>
                <p:cNvPr id="818" name=""/>
                <p:cNvSpPr/>
                <p:nvPr/>
              </p:nvSpPr>
              <p:spPr>
                <a:xfrm flipH="1">
                  <a:off x="7007040" y="3892680"/>
                  <a:ext cx="1000080" cy="347760"/>
                </a:xfrm>
                <a:custGeom>
                  <a:avLst/>
                  <a:gdLst/>
                  <a:ahLst/>
                  <a:rect l="l" t="t" r="r" b="b"/>
                  <a:pathLst>
                    <a:path w="1291" h="449">
                      <a:moveTo>
                        <a:pt x="0" y="307"/>
                      </a:moveTo>
                      <a:lnTo>
                        <a:pt x="577" y="448"/>
                      </a:lnTo>
                      <a:lnTo>
                        <a:pt x="1290" y="127"/>
                      </a:lnTo>
                      <a:lnTo>
                        <a:pt x="727" y="0"/>
                      </a:lnTo>
                      <a:lnTo>
                        <a:pt x="0" y="307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>
                  <a:off x="7021440" y="5099040"/>
                  <a:ext cx="969840" cy="414360"/>
                </a:xfrm>
                <a:custGeom>
                  <a:avLst/>
                  <a:gdLst/>
                  <a:ahLst/>
                  <a:rect l="l" t="t" r="r" b="b"/>
                  <a:pathLst>
                    <a:path w="1252" h="536">
                      <a:moveTo>
                        <a:pt x="0" y="292"/>
                      </a:moveTo>
                      <a:lnTo>
                        <a:pt x="0" y="370"/>
                      </a:lnTo>
                      <a:lnTo>
                        <a:pt x="567" y="535"/>
                      </a:lnTo>
                      <a:lnTo>
                        <a:pt x="1251" y="92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969696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>
                  <a:off x="7004880" y="3989520"/>
                  <a:ext cx="564840" cy="1482840"/>
                </a:xfrm>
                <a:custGeom>
                  <a:avLst/>
                  <a:gdLst/>
                  <a:ahLst/>
                  <a:rect l="l" t="t" r="r" b="b"/>
                  <a:pathLst>
                    <a:path w="729" h="1916">
                      <a:moveTo>
                        <a:pt x="0" y="328"/>
                      </a:moveTo>
                      <a:lnTo>
                        <a:pt x="4" y="1915"/>
                      </a:lnTo>
                      <a:lnTo>
                        <a:pt x="728" y="1456"/>
                      </a:lnTo>
                      <a:lnTo>
                        <a:pt x="728" y="0"/>
                      </a:lnTo>
                      <a:lnTo>
                        <a:pt x="0" y="328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>
                  <a:off x="7563600" y="4129200"/>
                  <a:ext cx="446040" cy="1338120"/>
                </a:xfrm>
                <a:custGeom>
                  <a:avLst/>
                  <a:gdLst/>
                  <a:ahLst/>
                  <a:rect l="l" t="t" r="r" b="b"/>
                  <a:pathLst>
                    <a:path w="577" h="1728">
                      <a:moveTo>
                        <a:pt x="576" y="140"/>
                      </a:moveTo>
                      <a:lnTo>
                        <a:pt x="576" y="1727"/>
                      </a:lnTo>
                      <a:lnTo>
                        <a:pt x="0" y="1568"/>
                      </a:lnTo>
                      <a:lnTo>
                        <a:pt x="0" y="0"/>
                      </a:lnTo>
                      <a:lnTo>
                        <a:pt x="576" y="140"/>
                      </a:lnTo>
                    </a:path>
                  </a:pathLst>
                </a:custGeom>
                <a:gradFill rotWithShape="0">
                  <a:gsLst>
                    <a:gs pos="0">
                      <a:srgbClr val="ebebeb"/>
                    </a:gs>
                    <a:gs pos="100000">
                      <a:srgbClr val="b2b2b2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>
                  <a:off x="7640280" y="5254560"/>
                  <a:ext cx="308160" cy="810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>
                  <a:off x="7614360" y="4264200"/>
                  <a:ext cx="50760" cy="28440"/>
                </a:xfrm>
                <a:prstGeom prst="ellipse">
                  <a:avLst/>
                </a:prstGeom>
                <a:solidFill>
                  <a:srgbClr val="d6009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>
                  <a:off x="7640280" y="5192640"/>
                  <a:ext cx="308160" cy="828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>
                  <a:off x="7640280" y="5130720"/>
                  <a:ext cx="308160" cy="8424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>
                  <a:off x="7640280" y="5072040"/>
                  <a:ext cx="308160" cy="828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>
                  <a:off x="7640280" y="5011920"/>
                  <a:ext cx="308160" cy="810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>
                  <a:off x="7636680" y="4427640"/>
                  <a:ext cx="306360" cy="568440"/>
                </a:xfrm>
                <a:custGeom>
                  <a:avLst/>
                  <a:gdLst/>
                  <a:ahLst/>
                  <a:rect l="l" t="t" r="r" b="b"/>
                  <a:pathLst>
                    <a:path w="397" h="733">
                      <a:moveTo>
                        <a:pt x="0" y="628"/>
                      </a:moveTo>
                      <a:lnTo>
                        <a:pt x="396" y="732"/>
                      </a:lnTo>
                      <a:lnTo>
                        <a:pt x="396" y="0"/>
                      </a:lnTo>
                    </a:path>
                  </a:pathLst>
                </a:custGeom>
                <a:noFill/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>
                  <a:off x="7626240" y="4314960"/>
                  <a:ext cx="349200" cy="990720"/>
                </a:xfrm>
                <a:custGeom>
                  <a:avLst/>
                  <a:gdLst/>
                  <a:ahLst/>
                  <a:rect l="l" t="t" r="r" b="b"/>
                  <a:pathLst>
                    <a:path w="453" h="1278">
                      <a:moveTo>
                        <a:pt x="452" y="105"/>
                      </a:moveTo>
                      <a:lnTo>
                        <a:pt x="0" y="0"/>
                      </a:lnTo>
                      <a:lnTo>
                        <a:pt x="0" y="1277"/>
                      </a:lnTo>
                    </a:path>
                  </a:pathLst>
                </a:custGeom>
                <a:noFill/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>
                  <a:off x="7639560" y="4353120"/>
                  <a:ext cx="312840" cy="563400"/>
                </a:xfrm>
                <a:custGeom>
                  <a:avLst/>
                  <a:gdLst/>
                  <a:ahLst/>
                  <a:rect l="l" t="t" r="r" b="b"/>
                  <a:pathLst>
                    <a:path w="402" h="726">
                      <a:moveTo>
                        <a:pt x="401" y="96"/>
                      </a:moveTo>
                      <a:lnTo>
                        <a:pt x="0" y="0"/>
                      </a:lnTo>
                      <a:lnTo>
                        <a:pt x="0" y="725"/>
                      </a:lnTo>
                    </a:path>
                  </a:pathLst>
                </a:custGeom>
                <a:noFill/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7651440" y="4479840"/>
                  <a:ext cx="300240" cy="7164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>
                  <a:off x="7646400" y="4602240"/>
                  <a:ext cx="304920" cy="6840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>
                  <a:off x="7660800" y="4749840"/>
                  <a:ext cx="290520" cy="71640"/>
                </a:xfrm>
                <a:prstGeom prst="line">
                  <a:avLst/>
                </a:prstGeom>
                <a:ln w="648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>
                  <a:off x="7741440" y="4422960"/>
                  <a:ext cx="120600" cy="63360"/>
                </a:xfrm>
                <a:custGeom>
                  <a:avLst/>
                  <a:gdLst/>
                  <a:ahLst/>
                  <a:rect l="l" t="t" r="r" b="b"/>
                  <a:pathLst>
                    <a:path w="152" h="82">
                      <a:moveTo>
                        <a:pt x="0" y="0"/>
                      </a:moveTo>
                      <a:lnTo>
                        <a:pt x="0" y="48"/>
                      </a:lnTo>
                      <a:lnTo>
                        <a:pt x="151" y="81"/>
                      </a:lnTo>
                      <a:lnTo>
                        <a:pt x="151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>
                  <a:off x="7686000" y="4432320"/>
                  <a:ext cx="220680" cy="47520"/>
                </a:xfrm>
                <a:prstGeom prst="line">
                  <a:avLst/>
                </a:prstGeom>
                <a:ln w="648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>
                  <a:off x="7661880" y="4653000"/>
                  <a:ext cx="266760" cy="119160"/>
                </a:xfrm>
                <a:custGeom>
                  <a:avLst/>
                  <a:gdLst/>
                  <a:ahLst/>
                  <a:rect l="l" t="t" r="r" b="b"/>
                  <a:pathLst>
                    <a:path w="351" h="183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2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>
                  <a:off x="7660440" y="4800600"/>
                  <a:ext cx="268200" cy="13356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>
                  <a:off x="7662600" y="4516560"/>
                  <a:ext cx="271440" cy="123840"/>
                </a:xfrm>
                <a:custGeom>
                  <a:avLst/>
                  <a:gdLst/>
                  <a:ahLst/>
                  <a:rect l="l" t="t" r="r" b="b"/>
                  <a:pathLst>
                    <a:path w="351" h="182">
                      <a:moveTo>
                        <a:pt x="0" y="85"/>
                      </a:moveTo>
                      <a:lnTo>
                        <a:pt x="0" y="0"/>
                      </a:lnTo>
                      <a:lnTo>
                        <a:pt x="350" y="93"/>
                      </a:lnTo>
                      <a:lnTo>
                        <a:pt x="350" y="181"/>
                      </a:lnTo>
                      <a:lnTo>
                        <a:pt x="0" y="85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67676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V="1">
                  <a:off x="7859520" y="4836960"/>
                  <a:ext cx="57240" cy="12600"/>
                </a:xfrm>
                <a:prstGeom prst="line">
                  <a:avLst/>
                </a:prstGeom>
                <a:ln w="64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V="1">
                  <a:off x="7862760" y="4687560"/>
                  <a:ext cx="57240" cy="12600"/>
                </a:xfrm>
                <a:prstGeom prst="line">
                  <a:avLst/>
                </a:prstGeom>
                <a:ln w="64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V="1">
                  <a:off x="7868880" y="4546440"/>
                  <a:ext cx="57240" cy="12600"/>
                </a:xfrm>
                <a:prstGeom prst="line">
                  <a:avLst/>
                </a:prstGeom>
                <a:ln w="64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6332040" y="4589640"/>
                <a:ext cx="1154160" cy="1085400"/>
                <a:chOff x="6332040" y="4589640"/>
                <a:chExt cx="1154160" cy="1085400"/>
              </a:xfrm>
            </p:grpSpPr>
            <p:sp>
              <p:nvSpPr>
                <p:cNvPr id="843" name=""/>
                <p:cNvSpPr/>
                <p:nvPr/>
              </p:nvSpPr>
              <p:spPr>
                <a:xfrm flipH="1">
                  <a:off x="6500520" y="5295960"/>
                  <a:ext cx="898560" cy="3790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4" name=""/>
                <p:cNvGrpSpPr/>
                <p:nvPr/>
              </p:nvGrpSpPr>
              <p:grpSpPr>
                <a:xfrm>
                  <a:off x="6332040" y="4589640"/>
                  <a:ext cx="1154160" cy="1050480"/>
                  <a:chOff x="6332040" y="4589640"/>
                  <a:chExt cx="1154160" cy="1050480"/>
                </a:xfrm>
              </p:grpSpPr>
              <p:sp>
                <p:nvSpPr>
                  <p:cNvPr id="845" name=""/>
                  <p:cNvSpPr/>
                  <p:nvPr/>
                </p:nvSpPr>
                <p:spPr>
                  <a:xfrm flipH="1">
                    <a:off x="6518160" y="5302080"/>
                    <a:ext cx="8697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6717240" y="5386320"/>
                    <a:ext cx="453960" cy="18072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6687000" y="5392800"/>
                    <a:ext cx="730440" cy="20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6331680" y="4589640"/>
                    <a:ext cx="911160" cy="84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6493320" y="4775040"/>
                    <a:ext cx="182520" cy="81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3e3e3"/>
                      </a:gs>
                      <a:gs pos="100000">
                        <a:srgbClr val="b2b2b2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6492600" y="4600440"/>
                    <a:ext cx="99360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6674400" y="4681440"/>
                    <a:ext cx="811080" cy="9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6734880" y="4762440"/>
                    <a:ext cx="687240" cy="75060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6779160" y="4813200"/>
                    <a:ext cx="601560" cy="64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7327440" y="4865760"/>
                    <a:ext cx="0" cy="9792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55" name=""/>
            <p:cNvSpPr/>
            <p:nvPr/>
          </p:nvSpPr>
          <p:spPr>
            <a:xfrm>
              <a:off x="4932360" y="4554360"/>
              <a:ext cx="0" cy="60984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524480" y="4870440"/>
              <a:ext cx="914040" cy="492120"/>
              <a:chOff x="4524480" y="4870440"/>
              <a:chExt cx="914040" cy="492120"/>
            </a:xfrm>
          </p:grpSpPr>
          <p:sp>
            <p:nvSpPr>
              <p:cNvPr id="857" name=""/>
              <p:cNvSpPr/>
              <p:nvPr/>
            </p:nvSpPr>
            <p:spPr>
              <a:xfrm>
                <a:off x="4524480" y="4870440"/>
                <a:ext cx="911160" cy="386640"/>
              </a:xfrm>
              <a:custGeom>
                <a:avLst/>
                <a:gdLst/>
                <a:ahLst/>
                <a:rect l="l" t="t" r="r" b="b"/>
                <a:pathLst>
                  <a:path w="1570" h="583">
                    <a:moveTo>
                      <a:pt x="0" y="174"/>
                    </a:moveTo>
                    <a:lnTo>
                      <a:pt x="708" y="0"/>
                    </a:lnTo>
                    <a:lnTo>
                      <a:pt x="1569" y="315"/>
                    </a:lnTo>
                    <a:lnTo>
                      <a:pt x="666" y="582"/>
                    </a:lnTo>
                    <a:lnTo>
                      <a:pt x="0" y="174"/>
                    </a:lnTo>
                  </a:path>
                </a:pathLst>
              </a:custGeom>
              <a:gradFill rotWithShape="0">
                <a:gsLst>
                  <a:gs pos="0">
                    <a:srgbClr val="fcf6e5"/>
                  </a:gs>
                  <a:gs pos="100000">
                    <a:srgbClr val="fceec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798080" y="501804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931640" y="4878720"/>
                <a:ext cx="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609440" y="4975560"/>
                <a:ext cx="207720" cy="16164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18"/>
                    </a:moveTo>
                    <a:lnTo>
                      <a:pt x="0" y="108"/>
                    </a:lnTo>
                    <a:lnTo>
                      <a:pt x="222" y="243"/>
                    </a:lnTo>
                    <a:lnTo>
                      <a:pt x="357" y="138"/>
                    </a:lnTo>
                    <a:lnTo>
                      <a:pt x="357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736880" y="5076000"/>
                <a:ext cx="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798080" y="499212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798080" y="4964400"/>
                <a:ext cx="454680" cy="18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972320" y="5034240"/>
                <a:ext cx="110160" cy="42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633920" y="496368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 flipV="1">
                <a:off x="5251680" y="5100120"/>
                <a:ext cx="79200" cy="3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525920" y="4987800"/>
                <a:ext cx="912600" cy="374760"/>
              </a:xfrm>
              <a:custGeom>
                <a:avLst/>
                <a:gdLst/>
                <a:ahLst/>
                <a:rect l="l" t="t" r="r" b="b"/>
                <a:pathLst>
                  <a:path w="1573" h="565">
                    <a:moveTo>
                      <a:pt x="0" y="0"/>
                    </a:moveTo>
                    <a:lnTo>
                      <a:pt x="663" y="396"/>
                    </a:lnTo>
                    <a:lnTo>
                      <a:pt x="1572" y="135"/>
                    </a:lnTo>
                    <a:lnTo>
                      <a:pt x="1572" y="279"/>
                    </a:lnTo>
                    <a:lnTo>
                      <a:pt x="672" y="564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633920" y="495576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611240" y="4943880"/>
                <a:ext cx="207720" cy="128160"/>
              </a:xfrm>
              <a:custGeom>
                <a:avLst/>
                <a:gdLst/>
                <a:ahLst/>
                <a:rect l="l" t="t" r="r" b="b"/>
                <a:pathLst>
                  <a:path w="358" h="193">
                    <a:moveTo>
                      <a:pt x="0" y="57"/>
                    </a:moveTo>
                    <a:lnTo>
                      <a:pt x="42" y="132"/>
                    </a:lnTo>
                    <a:lnTo>
                      <a:pt x="207" y="192"/>
                    </a:lnTo>
                    <a:lnTo>
                      <a:pt x="357" y="48"/>
                    </a:lnTo>
                    <a:lnTo>
                      <a:pt x="228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524480" y="4718160"/>
              <a:ext cx="914040" cy="492120"/>
              <a:chOff x="4524480" y="4718160"/>
              <a:chExt cx="914040" cy="492120"/>
            </a:xfrm>
          </p:grpSpPr>
          <p:sp>
            <p:nvSpPr>
              <p:cNvPr id="871" name=""/>
              <p:cNvSpPr/>
              <p:nvPr/>
            </p:nvSpPr>
            <p:spPr>
              <a:xfrm>
                <a:off x="4524480" y="4718160"/>
                <a:ext cx="911160" cy="386640"/>
              </a:xfrm>
              <a:custGeom>
                <a:avLst/>
                <a:gdLst/>
                <a:ahLst/>
                <a:rect l="l" t="t" r="r" b="b"/>
                <a:pathLst>
                  <a:path w="1570" h="583">
                    <a:moveTo>
                      <a:pt x="0" y="174"/>
                    </a:moveTo>
                    <a:lnTo>
                      <a:pt x="708" y="0"/>
                    </a:lnTo>
                    <a:lnTo>
                      <a:pt x="1569" y="315"/>
                    </a:lnTo>
                    <a:lnTo>
                      <a:pt x="666" y="582"/>
                    </a:lnTo>
                    <a:lnTo>
                      <a:pt x="0" y="174"/>
                    </a:lnTo>
                  </a:path>
                </a:pathLst>
              </a:custGeom>
              <a:gradFill rotWithShape="0">
                <a:gsLst>
                  <a:gs pos="0">
                    <a:srgbClr val="fcf6e5"/>
                  </a:gs>
                  <a:gs pos="100000">
                    <a:srgbClr val="fceec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98080" y="486576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931640" y="4726440"/>
                <a:ext cx="0" cy="7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609440" y="4823280"/>
                <a:ext cx="207720" cy="161640"/>
              </a:xfrm>
              <a:custGeom>
                <a:avLst/>
                <a:gdLst/>
                <a:ahLst/>
                <a:rect l="l" t="t" r="r" b="b"/>
                <a:pathLst>
                  <a:path w="358" h="244">
                    <a:moveTo>
                      <a:pt x="0" y="18"/>
                    </a:moveTo>
                    <a:lnTo>
                      <a:pt x="0" y="108"/>
                    </a:lnTo>
                    <a:lnTo>
                      <a:pt x="222" y="243"/>
                    </a:lnTo>
                    <a:lnTo>
                      <a:pt x="357" y="138"/>
                    </a:lnTo>
                    <a:lnTo>
                      <a:pt x="357" y="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736880" y="4923720"/>
                <a:ext cx="0" cy="5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798080" y="4839840"/>
                <a:ext cx="454680" cy="18576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98080" y="4812120"/>
                <a:ext cx="454680" cy="185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972320" y="4881960"/>
                <a:ext cx="110160" cy="42120"/>
              </a:xfrm>
              <a:prstGeom prst="ellipse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633920" y="481140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flipV="1">
                <a:off x="5251680" y="4947840"/>
                <a:ext cx="79200" cy="3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525920" y="4835520"/>
                <a:ext cx="912600" cy="374760"/>
              </a:xfrm>
              <a:custGeom>
                <a:avLst/>
                <a:gdLst/>
                <a:ahLst/>
                <a:rect l="l" t="t" r="r" b="b"/>
                <a:pathLst>
                  <a:path w="1573" h="565">
                    <a:moveTo>
                      <a:pt x="0" y="0"/>
                    </a:moveTo>
                    <a:lnTo>
                      <a:pt x="663" y="396"/>
                    </a:lnTo>
                    <a:lnTo>
                      <a:pt x="1572" y="135"/>
                    </a:lnTo>
                    <a:lnTo>
                      <a:pt x="1572" y="279"/>
                    </a:lnTo>
                    <a:lnTo>
                      <a:pt x="672" y="564"/>
                    </a:lnTo>
                    <a:lnTo>
                      <a:pt x="0" y="162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33920" y="4803480"/>
                <a:ext cx="396720" cy="56160"/>
              </a:xfrm>
              <a:custGeom>
                <a:avLst/>
                <a:gdLst/>
                <a:ahLst/>
                <a:rect l="l" t="t" r="r" b="b"/>
                <a:pathLst>
                  <a:path w="684" h="85">
                    <a:moveTo>
                      <a:pt x="0" y="57"/>
                    </a:moveTo>
                    <a:lnTo>
                      <a:pt x="111" y="84"/>
                    </a:lnTo>
                    <a:lnTo>
                      <a:pt x="683" y="60"/>
                    </a:lnTo>
                    <a:lnTo>
                      <a:pt x="135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a9a9a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4611240" y="4791600"/>
                <a:ext cx="207720" cy="128160"/>
              </a:xfrm>
              <a:custGeom>
                <a:avLst/>
                <a:gdLst/>
                <a:ahLst/>
                <a:rect l="l" t="t" r="r" b="b"/>
                <a:pathLst>
                  <a:path w="358" h="193">
                    <a:moveTo>
                      <a:pt x="0" y="57"/>
                    </a:moveTo>
                    <a:lnTo>
                      <a:pt x="42" y="132"/>
                    </a:lnTo>
                    <a:lnTo>
                      <a:pt x="207" y="192"/>
                    </a:lnTo>
                    <a:lnTo>
                      <a:pt x="357" y="48"/>
                    </a:lnTo>
                    <a:lnTo>
                      <a:pt x="228" y="0"/>
                    </a:lnTo>
                    <a:lnTo>
                      <a:pt x="0" y="5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Data Acces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5" name=""/>
          <p:cNvSpPr/>
          <p:nvPr/>
        </p:nvSpPr>
        <p:spPr>
          <a:xfrm>
            <a:off x="24717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193760" y="438120"/>
            <a:ext cx="6829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30400" y="1268280"/>
            <a:ext cx="6734160" cy="38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37636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73160" y="320760"/>
            <a:ext cx="72518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SI Requirements for 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bre Requirements for 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ssigning IP Addresses Within a Clust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2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438200" y="1063800"/>
            <a:ext cx="6607080" cy="5235480"/>
            <a:chOff x="1438200" y="1063800"/>
            <a:chExt cx="6607080" cy="5235480"/>
          </a:xfrm>
        </p:grpSpPr>
        <p:sp>
          <p:nvSpPr>
            <p:cNvPr id="894" name=""/>
            <p:cNvSpPr/>
            <p:nvPr/>
          </p:nvSpPr>
          <p:spPr>
            <a:xfrm>
              <a:off x="2870280" y="1679400"/>
              <a:ext cx="2514600" cy="441972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06600" y="4013280"/>
              <a:ext cx="165276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6" name=""/>
            <p:cNvGrpSpPr/>
            <p:nvPr/>
          </p:nvGrpSpPr>
          <p:grpSpPr>
            <a:xfrm>
              <a:off x="1438200" y="3479760"/>
              <a:ext cx="1056600" cy="1164600"/>
              <a:chOff x="1438200" y="3479760"/>
              <a:chExt cx="1056600" cy="1164600"/>
            </a:xfrm>
          </p:grpSpPr>
          <p:grpSp>
            <p:nvGrpSpPr>
              <p:cNvPr id="897" name=""/>
              <p:cNvGrpSpPr/>
              <p:nvPr/>
            </p:nvGrpSpPr>
            <p:grpSpPr>
              <a:xfrm>
                <a:off x="1438200" y="4092840"/>
                <a:ext cx="1022400" cy="551520"/>
                <a:chOff x="1438200" y="4092840"/>
                <a:chExt cx="1022400" cy="551520"/>
              </a:xfrm>
            </p:grpSpPr>
            <p:sp>
              <p:nvSpPr>
                <p:cNvPr id="898" name=""/>
                <p:cNvSpPr/>
                <p:nvPr/>
              </p:nvSpPr>
              <p:spPr>
                <a:xfrm>
                  <a:off x="2106720" y="423612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1438200" y="4092840"/>
                  <a:ext cx="102240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438200" y="426708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787760" y="440064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793160" y="446904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1787760" y="439956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810440" y="443700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985040" y="45417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874880" y="445032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455480" y="430704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1455480" y="433656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1455480" y="436716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455480" y="4396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1790640" y="447984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1538280" y="3479760"/>
                <a:ext cx="956520" cy="899640"/>
                <a:chOff x="1538280" y="3479760"/>
                <a:chExt cx="956520" cy="899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1610280" y="406476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620000" y="407160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799280" y="41400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594440" y="4145040"/>
                  <a:ext cx="60552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739160" y="347976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2210760" y="363348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538280" y="348732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1538280" y="355572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590480" y="362268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625400" y="3664440"/>
                  <a:ext cx="49824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669320" y="37087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4" name=""/>
            <p:cNvSpPr/>
            <p:nvPr/>
          </p:nvSpPr>
          <p:spPr>
            <a:xfrm>
              <a:off x="4059360" y="3022560"/>
              <a:ext cx="533160" cy="1981080"/>
            </a:xfrm>
            <a:custGeom>
              <a:avLst/>
              <a:gdLst/>
              <a:ahLst/>
              <a:rect l="l" t="t" r="r" b="b"/>
              <a:pathLst>
                <a:path w="33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336" y="1248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4440600" y="2031840"/>
              <a:ext cx="729720" cy="1142640"/>
              <a:chOff x="4440600" y="2031840"/>
              <a:chExt cx="729720" cy="1142640"/>
            </a:xfrm>
          </p:grpSpPr>
          <p:sp>
            <p:nvSpPr>
              <p:cNvPr id="926" name=""/>
              <p:cNvSpPr/>
              <p:nvPr/>
            </p:nvSpPr>
            <p:spPr>
              <a:xfrm>
                <a:off x="4765680" y="210060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443840" y="220320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8" name=""/>
              <p:cNvGrpSpPr/>
              <p:nvPr/>
            </p:nvGrpSpPr>
            <p:grpSpPr>
              <a:xfrm>
                <a:off x="4481640" y="2262960"/>
                <a:ext cx="234000" cy="862920"/>
                <a:chOff x="4481640" y="2262960"/>
                <a:chExt cx="234000" cy="8629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4481640" y="226296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484520" y="302076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483080" y="238068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488480" y="246960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4488480" y="255924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488480" y="264168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517280" y="24307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517280" y="251928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517280" y="26078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517280" y="26964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508280" y="230508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551120" y="242784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4551120" y="251208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4551120" y="260172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551120" y="268884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4484520" y="297612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4484520" y="293292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>
                <a:off x="4440600" y="203184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4440600" y="4622760"/>
              <a:ext cx="729720" cy="1142640"/>
              <a:chOff x="4440600" y="4622760"/>
              <a:chExt cx="729720" cy="1142640"/>
            </a:xfrm>
          </p:grpSpPr>
          <p:sp>
            <p:nvSpPr>
              <p:cNvPr id="948" name=""/>
              <p:cNvSpPr/>
              <p:nvPr/>
            </p:nvSpPr>
            <p:spPr>
              <a:xfrm>
                <a:off x="4765680" y="46915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443840" y="479412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0" name=""/>
              <p:cNvGrpSpPr/>
              <p:nvPr/>
            </p:nvGrpSpPr>
            <p:grpSpPr>
              <a:xfrm>
                <a:off x="4481640" y="4853880"/>
                <a:ext cx="234000" cy="862920"/>
                <a:chOff x="4481640" y="4853880"/>
                <a:chExt cx="234000" cy="862920"/>
              </a:xfrm>
            </p:grpSpPr>
            <p:sp>
              <p:nvSpPr>
                <p:cNvPr id="951" name=""/>
                <p:cNvSpPr/>
                <p:nvPr/>
              </p:nvSpPr>
              <p:spPr>
                <a:xfrm>
                  <a:off x="4481640" y="48538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4484520" y="56116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483080" y="49716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488480" y="50605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488480" y="51501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4488480" y="52326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517280" y="50216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517280" y="51102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517280" y="51987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517280" y="52873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4508280" y="48960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551120" y="50187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551120" y="51030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551120" y="51926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551120" y="52797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4484520" y="55670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4484520" y="55238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8" name=""/>
              <p:cNvSpPr/>
              <p:nvPr/>
            </p:nvSpPr>
            <p:spPr>
              <a:xfrm>
                <a:off x="4440600" y="462276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5049720" y="2641680"/>
              <a:ext cx="820800" cy="2514600"/>
            </a:xfrm>
            <a:custGeom>
              <a:avLst/>
              <a:gdLst/>
              <a:ahLst/>
              <a:rect l="l" t="t" r="r" b="b"/>
              <a:pathLst>
                <a:path w="432" h="1584">
                  <a:moveTo>
                    <a:pt x="0" y="0"/>
                  </a:moveTo>
                  <a:lnTo>
                    <a:pt x="432" y="0"/>
                  </a:lnTo>
                  <a:lnTo>
                    <a:pt x="432" y="1584"/>
                  </a:lnTo>
                  <a:lnTo>
                    <a:pt x="0" y="1584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114960" y="2543040"/>
              <a:ext cx="1524240" cy="609840"/>
            </a:xfrm>
            <a:prstGeom prst="wedgeEllipseCallout">
              <a:avLst>
                <a:gd name="adj1" fmla="val -66041"/>
                <a:gd name="adj2" fmla="val 110416"/>
              </a:avLst>
            </a:prstGeom>
            <a:gradFill rotWithShape="0">
              <a:gsLst>
                <a:gs pos="0">
                  <a:srgbClr val="c198e9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055960" y="4605480"/>
              <a:ext cx="1523880" cy="609480"/>
            </a:xfrm>
            <a:prstGeom prst="wedgeEllipseCallout">
              <a:avLst>
                <a:gd name="adj1" fmla="val 81458"/>
                <a:gd name="adj2" fmla="val -40625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ub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2" name="j0286851" descr=""/>
            <p:cNvPicPr/>
            <p:nvPr/>
          </p:nvPicPr>
          <p:blipFill>
            <a:blip r:embed="rId8"/>
            <a:stretch/>
          </p:blipFill>
          <p:spPr>
            <a:xfrm>
              <a:off x="5556240" y="355608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3125880" y="1063800"/>
              <a:ext cx="1923840" cy="8190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ublic Net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.0.2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255.255.255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41440" y="1998720"/>
              <a:ext cx="1389240" cy="788760"/>
            </a:xfrm>
            <a:prstGeom prst="wedgeRoundRectCallout">
              <a:avLst>
                <a:gd name="adj1" fmla="val 99259"/>
                <a:gd name="adj2" fmla="val 78569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ublic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od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0.0.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55.255.255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106720" y="5510160"/>
              <a:ext cx="1388880" cy="789120"/>
            </a:xfrm>
            <a:prstGeom prst="wedgeRoundRectCallout">
              <a:avLst>
                <a:gd name="adj1" fmla="val 114342"/>
                <a:gd name="adj2" fmla="val -113583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ublic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ode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10.0.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255.255.255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656400" y="1414440"/>
              <a:ext cx="1388880" cy="789120"/>
            </a:xfrm>
            <a:prstGeom prst="wedgeRoundRectCallout">
              <a:avLst>
                <a:gd name="adj1" fmla="val -155143"/>
                <a:gd name="adj2" fmla="val 106138"/>
                <a:gd name="adj3" fmla="val 16667"/>
              </a:avLst>
            </a:prstGeom>
            <a:gradFill rotWithShape="0">
              <a:gsLst>
                <a:gs pos="0">
                  <a:srgbClr val="c198e9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Private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Node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10.0.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255.255.255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6576840" y="5229360"/>
              <a:ext cx="1389240" cy="788760"/>
            </a:xfrm>
            <a:prstGeom prst="wedgeRoundRectCallout">
              <a:avLst>
                <a:gd name="adj1" fmla="val -151259"/>
                <a:gd name="adj2" fmla="val -62273"/>
                <a:gd name="adj3" fmla="val 16667"/>
              </a:avLst>
            </a:prstGeom>
            <a:gradFill rotWithShape="0">
              <a:gsLst>
                <a:gs pos="0">
                  <a:srgbClr val="c198e9"/>
                </a:gs>
                <a:gs pos="100000">
                  <a:srgbClr val="6600cc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Private 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Node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10.0.1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255.255.255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ssigning Names Within a Clust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9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439560" y="1139760"/>
            <a:ext cx="7942320" cy="4727520"/>
            <a:chOff x="439560" y="1139760"/>
            <a:chExt cx="7942320" cy="4727520"/>
          </a:xfrm>
        </p:grpSpPr>
        <p:sp>
          <p:nvSpPr>
            <p:cNvPr id="981" name=""/>
            <p:cNvSpPr/>
            <p:nvPr/>
          </p:nvSpPr>
          <p:spPr>
            <a:xfrm>
              <a:off x="4351320" y="1447920"/>
              <a:ext cx="2514600" cy="441936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880240" y="2757600"/>
              <a:ext cx="0" cy="2057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3" name="j0286851" descr=""/>
            <p:cNvPicPr/>
            <p:nvPr/>
          </p:nvPicPr>
          <p:blipFill>
            <a:blip r:embed="rId1"/>
            <a:stretch/>
          </p:blipFill>
          <p:spPr>
            <a:xfrm>
              <a:off x="5499000" y="336708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4" name=""/>
            <p:cNvSpPr/>
            <p:nvPr/>
          </p:nvSpPr>
          <p:spPr>
            <a:xfrm>
              <a:off x="5194440" y="2833560"/>
              <a:ext cx="533160" cy="1981440"/>
            </a:xfrm>
            <a:custGeom>
              <a:avLst/>
              <a:gdLst/>
              <a:ahLst/>
              <a:rect l="l" t="t" r="r" b="b"/>
              <a:pathLst>
                <a:path w="33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336" y="1248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"/>
            <p:cNvGrpSpPr/>
            <p:nvPr/>
          </p:nvGrpSpPr>
          <p:grpSpPr>
            <a:xfrm>
              <a:off x="5575680" y="1843200"/>
              <a:ext cx="729720" cy="1142640"/>
              <a:chOff x="5575680" y="1843200"/>
              <a:chExt cx="729720" cy="1142640"/>
            </a:xfrm>
          </p:grpSpPr>
          <p:sp>
            <p:nvSpPr>
              <p:cNvPr id="986" name=""/>
              <p:cNvSpPr/>
              <p:nvPr/>
            </p:nvSpPr>
            <p:spPr>
              <a:xfrm>
                <a:off x="5900760" y="191196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578920" y="201456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8" name=""/>
              <p:cNvGrpSpPr/>
              <p:nvPr/>
            </p:nvGrpSpPr>
            <p:grpSpPr>
              <a:xfrm>
                <a:off x="5616720" y="2074320"/>
                <a:ext cx="234000" cy="862920"/>
                <a:chOff x="5616720" y="2074320"/>
                <a:chExt cx="234000" cy="8629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5616720" y="207432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619600" y="283212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618160" y="219204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623560" y="228096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623560" y="237060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623560" y="245304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52360" y="22420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652360" y="233064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652360" y="24192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652360" y="25077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643360" y="211644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686200" y="223920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686200" y="232344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686200" y="241308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686200" y="250020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619600" y="278748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619600" y="274428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6" name=""/>
              <p:cNvSpPr/>
              <p:nvPr/>
            </p:nvSpPr>
            <p:spPr>
              <a:xfrm>
                <a:off x="5575680" y="184320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5575680" y="4433760"/>
              <a:ext cx="729720" cy="1142640"/>
              <a:chOff x="5575680" y="4433760"/>
              <a:chExt cx="729720" cy="1142640"/>
            </a:xfrm>
          </p:grpSpPr>
          <p:sp>
            <p:nvSpPr>
              <p:cNvPr id="1008" name=""/>
              <p:cNvSpPr/>
              <p:nvPr/>
            </p:nvSpPr>
            <p:spPr>
              <a:xfrm>
                <a:off x="5900760" y="45025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78920" y="460512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0" name=""/>
              <p:cNvGrpSpPr/>
              <p:nvPr/>
            </p:nvGrpSpPr>
            <p:grpSpPr>
              <a:xfrm>
                <a:off x="5616720" y="4664880"/>
                <a:ext cx="234000" cy="862920"/>
                <a:chOff x="5616720" y="4664880"/>
                <a:chExt cx="234000" cy="86292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5616720" y="46648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619600" y="54226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18160" y="47826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623560" y="48715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623560" y="49611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5623560" y="50436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652360" y="48326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652360" y="49212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652360" y="50097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652360" y="50983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643360" y="47070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686200" y="48297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686200" y="49140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686200" y="50036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686200" y="50907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619600" y="53780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619600" y="53348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"/>
              <p:cNvSpPr/>
              <p:nvPr/>
            </p:nvSpPr>
            <p:spPr>
              <a:xfrm>
                <a:off x="5575680" y="443376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6085800" y="2380320"/>
              <a:ext cx="2289960" cy="2882520"/>
              <a:chOff x="6085800" y="2380320"/>
              <a:chExt cx="2289960" cy="2882520"/>
            </a:xfrm>
          </p:grpSpPr>
          <p:sp>
            <p:nvSpPr>
              <p:cNvPr id="1030" name=""/>
              <p:cNvSpPr/>
              <p:nvPr/>
            </p:nvSpPr>
            <p:spPr>
              <a:xfrm rot="4960200">
                <a:off x="6797880" y="2599560"/>
                <a:ext cx="1500840" cy="1203840"/>
              </a:xfrm>
              <a:custGeom>
                <a:avLst/>
                <a:gdLst/>
                <a:ahLst/>
                <a:rect l="l" t="t" r="r" b="b"/>
                <a:pathLst>
                  <a:path w="572" h="434">
                    <a:moveTo>
                      <a:pt x="409" y="0"/>
                    </a:moveTo>
                    <a:lnTo>
                      <a:pt x="403" y="0"/>
                    </a:lnTo>
                    <a:lnTo>
                      <a:pt x="397" y="0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0" y="2"/>
                    </a:lnTo>
                    <a:lnTo>
                      <a:pt x="374" y="2"/>
                    </a:lnTo>
                    <a:lnTo>
                      <a:pt x="369" y="4"/>
                    </a:lnTo>
                    <a:lnTo>
                      <a:pt x="363" y="4"/>
                    </a:lnTo>
                    <a:lnTo>
                      <a:pt x="359" y="4"/>
                    </a:lnTo>
                    <a:lnTo>
                      <a:pt x="355" y="4"/>
                    </a:lnTo>
                    <a:lnTo>
                      <a:pt x="351" y="6"/>
                    </a:lnTo>
                    <a:lnTo>
                      <a:pt x="347" y="6"/>
                    </a:lnTo>
                    <a:lnTo>
                      <a:pt x="344" y="6"/>
                    </a:lnTo>
                    <a:lnTo>
                      <a:pt x="340" y="8"/>
                    </a:lnTo>
                    <a:lnTo>
                      <a:pt x="336" y="8"/>
                    </a:lnTo>
                    <a:lnTo>
                      <a:pt x="332" y="8"/>
                    </a:lnTo>
                    <a:lnTo>
                      <a:pt x="328" y="10"/>
                    </a:lnTo>
                    <a:lnTo>
                      <a:pt x="323" y="11"/>
                    </a:lnTo>
                    <a:lnTo>
                      <a:pt x="317" y="13"/>
                    </a:lnTo>
                    <a:lnTo>
                      <a:pt x="313" y="15"/>
                    </a:lnTo>
                    <a:lnTo>
                      <a:pt x="307" y="17"/>
                    </a:lnTo>
                    <a:lnTo>
                      <a:pt x="303" y="17"/>
                    </a:lnTo>
                    <a:lnTo>
                      <a:pt x="298" y="19"/>
                    </a:lnTo>
                    <a:lnTo>
                      <a:pt x="292" y="21"/>
                    </a:lnTo>
                    <a:lnTo>
                      <a:pt x="286" y="23"/>
                    </a:lnTo>
                    <a:lnTo>
                      <a:pt x="280" y="27"/>
                    </a:lnTo>
                    <a:lnTo>
                      <a:pt x="275" y="29"/>
                    </a:lnTo>
                    <a:lnTo>
                      <a:pt x="269" y="31"/>
                    </a:lnTo>
                    <a:lnTo>
                      <a:pt x="263" y="33"/>
                    </a:lnTo>
                    <a:lnTo>
                      <a:pt x="257" y="34"/>
                    </a:lnTo>
                    <a:lnTo>
                      <a:pt x="251" y="38"/>
                    </a:lnTo>
                    <a:lnTo>
                      <a:pt x="246" y="40"/>
                    </a:lnTo>
                    <a:lnTo>
                      <a:pt x="242" y="42"/>
                    </a:lnTo>
                    <a:lnTo>
                      <a:pt x="238" y="44"/>
                    </a:lnTo>
                    <a:lnTo>
                      <a:pt x="234" y="46"/>
                    </a:lnTo>
                    <a:lnTo>
                      <a:pt x="230" y="50"/>
                    </a:lnTo>
                    <a:lnTo>
                      <a:pt x="225" y="52"/>
                    </a:lnTo>
                    <a:lnTo>
                      <a:pt x="221" y="54"/>
                    </a:lnTo>
                    <a:lnTo>
                      <a:pt x="217" y="58"/>
                    </a:lnTo>
                    <a:lnTo>
                      <a:pt x="213" y="59"/>
                    </a:lnTo>
                    <a:lnTo>
                      <a:pt x="209" y="63"/>
                    </a:lnTo>
                    <a:lnTo>
                      <a:pt x="207" y="65"/>
                    </a:lnTo>
                    <a:lnTo>
                      <a:pt x="203" y="67"/>
                    </a:lnTo>
                    <a:lnTo>
                      <a:pt x="200" y="71"/>
                    </a:lnTo>
                    <a:lnTo>
                      <a:pt x="196" y="73"/>
                    </a:lnTo>
                    <a:lnTo>
                      <a:pt x="192" y="77"/>
                    </a:lnTo>
                    <a:lnTo>
                      <a:pt x="188" y="79"/>
                    </a:lnTo>
                    <a:lnTo>
                      <a:pt x="186" y="82"/>
                    </a:lnTo>
                    <a:lnTo>
                      <a:pt x="179" y="88"/>
                    </a:lnTo>
                    <a:lnTo>
                      <a:pt x="171" y="96"/>
                    </a:lnTo>
                    <a:lnTo>
                      <a:pt x="163" y="104"/>
                    </a:lnTo>
                    <a:lnTo>
                      <a:pt x="157" y="111"/>
                    </a:lnTo>
                    <a:lnTo>
                      <a:pt x="150" y="119"/>
                    </a:lnTo>
                    <a:lnTo>
                      <a:pt x="144" y="127"/>
                    </a:lnTo>
                    <a:lnTo>
                      <a:pt x="136" y="134"/>
                    </a:lnTo>
                    <a:lnTo>
                      <a:pt x="131" y="144"/>
                    </a:lnTo>
                    <a:lnTo>
                      <a:pt x="125" y="152"/>
                    </a:lnTo>
                    <a:lnTo>
                      <a:pt x="119" y="159"/>
                    </a:lnTo>
                    <a:lnTo>
                      <a:pt x="113" y="167"/>
                    </a:lnTo>
                    <a:lnTo>
                      <a:pt x="108" y="177"/>
                    </a:lnTo>
                    <a:lnTo>
                      <a:pt x="102" y="184"/>
                    </a:lnTo>
                    <a:lnTo>
                      <a:pt x="96" y="194"/>
                    </a:lnTo>
                    <a:lnTo>
                      <a:pt x="92" y="201"/>
                    </a:lnTo>
                    <a:lnTo>
                      <a:pt x="84" y="209"/>
                    </a:lnTo>
                    <a:lnTo>
                      <a:pt x="81" y="217"/>
                    </a:lnTo>
                    <a:lnTo>
                      <a:pt x="77" y="224"/>
                    </a:lnTo>
                    <a:lnTo>
                      <a:pt x="73" y="232"/>
                    </a:lnTo>
                    <a:lnTo>
                      <a:pt x="69" y="240"/>
                    </a:lnTo>
                    <a:lnTo>
                      <a:pt x="65" y="248"/>
                    </a:lnTo>
                    <a:lnTo>
                      <a:pt x="61" y="255"/>
                    </a:lnTo>
                    <a:lnTo>
                      <a:pt x="58" y="263"/>
                    </a:lnTo>
                    <a:lnTo>
                      <a:pt x="56" y="271"/>
                    </a:lnTo>
                    <a:lnTo>
                      <a:pt x="52" y="278"/>
                    </a:lnTo>
                    <a:lnTo>
                      <a:pt x="48" y="288"/>
                    </a:lnTo>
                    <a:lnTo>
                      <a:pt x="44" y="296"/>
                    </a:lnTo>
                    <a:lnTo>
                      <a:pt x="40" y="305"/>
                    </a:lnTo>
                    <a:lnTo>
                      <a:pt x="36" y="315"/>
                    </a:lnTo>
                    <a:lnTo>
                      <a:pt x="33" y="322"/>
                    </a:lnTo>
                    <a:lnTo>
                      <a:pt x="31" y="332"/>
                    </a:lnTo>
                    <a:lnTo>
                      <a:pt x="27" y="340"/>
                    </a:lnTo>
                    <a:lnTo>
                      <a:pt x="25" y="347"/>
                    </a:lnTo>
                    <a:lnTo>
                      <a:pt x="21" y="355"/>
                    </a:lnTo>
                    <a:lnTo>
                      <a:pt x="19" y="363"/>
                    </a:lnTo>
                    <a:lnTo>
                      <a:pt x="17" y="370"/>
                    </a:lnTo>
                    <a:lnTo>
                      <a:pt x="13" y="378"/>
                    </a:lnTo>
                    <a:lnTo>
                      <a:pt x="12" y="386"/>
                    </a:lnTo>
                    <a:lnTo>
                      <a:pt x="10" y="395"/>
                    </a:lnTo>
                    <a:lnTo>
                      <a:pt x="8" y="403"/>
                    </a:lnTo>
                    <a:lnTo>
                      <a:pt x="0" y="434"/>
                    </a:lnTo>
                    <a:lnTo>
                      <a:pt x="10" y="420"/>
                    </a:lnTo>
                    <a:lnTo>
                      <a:pt x="17" y="407"/>
                    </a:lnTo>
                    <a:lnTo>
                      <a:pt x="27" y="393"/>
                    </a:lnTo>
                    <a:lnTo>
                      <a:pt x="35" y="380"/>
                    </a:lnTo>
                    <a:lnTo>
                      <a:pt x="44" y="368"/>
                    </a:lnTo>
                    <a:lnTo>
                      <a:pt x="52" y="355"/>
                    </a:lnTo>
                    <a:lnTo>
                      <a:pt x="61" y="342"/>
                    </a:lnTo>
                    <a:lnTo>
                      <a:pt x="69" y="328"/>
                    </a:lnTo>
                    <a:lnTo>
                      <a:pt x="73" y="320"/>
                    </a:lnTo>
                    <a:lnTo>
                      <a:pt x="79" y="315"/>
                    </a:lnTo>
                    <a:lnTo>
                      <a:pt x="83" y="307"/>
                    </a:lnTo>
                    <a:lnTo>
                      <a:pt x="88" y="299"/>
                    </a:lnTo>
                    <a:lnTo>
                      <a:pt x="92" y="294"/>
                    </a:lnTo>
                    <a:lnTo>
                      <a:pt x="98" y="286"/>
                    </a:lnTo>
                    <a:lnTo>
                      <a:pt x="102" y="280"/>
                    </a:lnTo>
                    <a:lnTo>
                      <a:pt x="108" y="272"/>
                    </a:lnTo>
                    <a:lnTo>
                      <a:pt x="113" y="265"/>
                    </a:lnTo>
                    <a:lnTo>
                      <a:pt x="119" y="255"/>
                    </a:lnTo>
                    <a:lnTo>
                      <a:pt x="125" y="248"/>
                    </a:lnTo>
                    <a:lnTo>
                      <a:pt x="132" y="240"/>
                    </a:lnTo>
                    <a:lnTo>
                      <a:pt x="138" y="230"/>
                    </a:lnTo>
                    <a:lnTo>
                      <a:pt x="144" y="223"/>
                    </a:lnTo>
                    <a:lnTo>
                      <a:pt x="152" y="215"/>
                    </a:lnTo>
                    <a:lnTo>
                      <a:pt x="157" y="207"/>
                    </a:lnTo>
                    <a:lnTo>
                      <a:pt x="173" y="188"/>
                    </a:lnTo>
                    <a:lnTo>
                      <a:pt x="188" y="171"/>
                    </a:lnTo>
                    <a:lnTo>
                      <a:pt x="203" y="155"/>
                    </a:lnTo>
                    <a:lnTo>
                      <a:pt x="223" y="138"/>
                    </a:lnTo>
                    <a:lnTo>
                      <a:pt x="240" y="125"/>
                    </a:lnTo>
                    <a:lnTo>
                      <a:pt x="259" y="109"/>
                    </a:lnTo>
                    <a:lnTo>
                      <a:pt x="278" y="96"/>
                    </a:lnTo>
                    <a:lnTo>
                      <a:pt x="298" y="82"/>
                    </a:lnTo>
                    <a:lnTo>
                      <a:pt x="315" y="71"/>
                    </a:lnTo>
                    <a:lnTo>
                      <a:pt x="336" y="59"/>
                    </a:lnTo>
                    <a:lnTo>
                      <a:pt x="357" y="50"/>
                    </a:lnTo>
                    <a:lnTo>
                      <a:pt x="378" y="38"/>
                    </a:lnTo>
                    <a:lnTo>
                      <a:pt x="401" y="31"/>
                    </a:lnTo>
                    <a:lnTo>
                      <a:pt x="422" y="23"/>
                    </a:lnTo>
                    <a:lnTo>
                      <a:pt x="445" y="19"/>
                    </a:lnTo>
                    <a:lnTo>
                      <a:pt x="466" y="15"/>
                    </a:lnTo>
                    <a:lnTo>
                      <a:pt x="572" y="8"/>
                    </a:lnTo>
                    <a:lnTo>
                      <a:pt x="553" y="8"/>
                    </a:lnTo>
                    <a:lnTo>
                      <a:pt x="532" y="6"/>
                    </a:lnTo>
                    <a:lnTo>
                      <a:pt x="511" y="4"/>
                    </a:lnTo>
                    <a:lnTo>
                      <a:pt x="490" y="4"/>
                    </a:lnTo>
                    <a:lnTo>
                      <a:pt x="468" y="2"/>
                    </a:lnTo>
                    <a:lnTo>
                      <a:pt x="449" y="0"/>
                    </a:lnTo>
                    <a:lnTo>
                      <a:pt x="428" y="0"/>
                    </a:lnTo>
                    <a:lnTo>
                      <a:pt x="409" y="0"/>
                    </a:lnTo>
                  </a:path>
                </a:pathLst>
              </a:custGeom>
              <a:gradFill rotWithShape="0">
                <a:gsLst>
                  <a:gs pos="0">
                    <a:srgbClr val="ffe1ff"/>
                  </a:gs>
                  <a:gs pos="100000">
                    <a:srgbClr val="dc0081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rot="4960200">
                <a:off x="6430320" y="3283200"/>
                <a:ext cx="1600200" cy="2102760"/>
              </a:xfrm>
              <a:custGeom>
                <a:avLst/>
                <a:gdLst/>
                <a:ahLst/>
                <a:rect l="l" t="t" r="r" b="b"/>
                <a:pathLst>
                  <a:path w="610" h="758">
                    <a:moveTo>
                      <a:pt x="414" y="503"/>
                    </a:moveTo>
                    <a:lnTo>
                      <a:pt x="343" y="489"/>
                    </a:lnTo>
                    <a:lnTo>
                      <a:pt x="510" y="758"/>
                    </a:lnTo>
                    <a:lnTo>
                      <a:pt x="610" y="455"/>
                    </a:lnTo>
                    <a:lnTo>
                      <a:pt x="545" y="486"/>
                    </a:lnTo>
                    <a:lnTo>
                      <a:pt x="539" y="453"/>
                    </a:lnTo>
                    <a:lnTo>
                      <a:pt x="531" y="420"/>
                    </a:lnTo>
                    <a:lnTo>
                      <a:pt x="526" y="397"/>
                    </a:lnTo>
                    <a:lnTo>
                      <a:pt x="518" y="370"/>
                    </a:lnTo>
                    <a:lnTo>
                      <a:pt x="510" y="343"/>
                    </a:lnTo>
                    <a:lnTo>
                      <a:pt x="499" y="311"/>
                    </a:lnTo>
                    <a:lnTo>
                      <a:pt x="483" y="278"/>
                    </a:lnTo>
                    <a:lnTo>
                      <a:pt x="466" y="244"/>
                    </a:lnTo>
                    <a:lnTo>
                      <a:pt x="453" y="217"/>
                    </a:lnTo>
                    <a:lnTo>
                      <a:pt x="435" y="190"/>
                    </a:lnTo>
                    <a:lnTo>
                      <a:pt x="416" y="161"/>
                    </a:lnTo>
                    <a:lnTo>
                      <a:pt x="395" y="136"/>
                    </a:lnTo>
                    <a:lnTo>
                      <a:pt x="376" y="117"/>
                    </a:lnTo>
                    <a:lnTo>
                      <a:pt x="349" y="90"/>
                    </a:lnTo>
                    <a:lnTo>
                      <a:pt x="322" y="69"/>
                    </a:lnTo>
                    <a:lnTo>
                      <a:pt x="305" y="56"/>
                    </a:lnTo>
                    <a:lnTo>
                      <a:pt x="286" y="44"/>
                    </a:lnTo>
                    <a:lnTo>
                      <a:pt x="259" y="31"/>
                    </a:lnTo>
                    <a:lnTo>
                      <a:pt x="234" y="21"/>
                    </a:lnTo>
                    <a:lnTo>
                      <a:pt x="215" y="13"/>
                    </a:lnTo>
                    <a:lnTo>
                      <a:pt x="192" y="8"/>
                    </a:lnTo>
                    <a:lnTo>
                      <a:pt x="163" y="2"/>
                    </a:lnTo>
                    <a:lnTo>
                      <a:pt x="130" y="0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69" y="10"/>
                    </a:lnTo>
                    <a:lnTo>
                      <a:pt x="96" y="17"/>
                    </a:lnTo>
                    <a:lnTo>
                      <a:pt x="132" y="33"/>
                    </a:lnTo>
                    <a:lnTo>
                      <a:pt x="163" y="48"/>
                    </a:lnTo>
                    <a:lnTo>
                      <a:pt x="190" y="65"/>
                    </a:lnTo>
                    <a:lnTo>
                      <a:pt x="220" y="90"/>
                    </a:lnTo>
                    <a:lnTo>
                      <a:pt x="247" y="115"/>
                    </a:lnTo>
                    <a:lnTo>
                      <a:pt x="268" y="140"/>
                    </a:lnTo>
                    <a:lnTo>
                      <a:pt x="284" y="159"/>
                    </a:lnTo>
                    <a:lnTo>
                      <a:pt x="305" y="188"/>
                    </a:lnTo>
                    <a:lnTo>
                      <a:pt x="322" y="215"/>
                    </a:lnTo>
                    <a:lnTo>
                      <a:pt x="336" y="238"/>
                    </a:lnTo>
                    <a:lnTo>
                      <a:pt x="347" y="261"/>
                    </a:lnTo>
                    <a:lnTo>
                      <a:pt x="362" y="296"/>
                    </a:lnTo>
                    <a:lnTo>
                      <a:pt x="372" y="319"/>
                    </a:lnTo>
                    <a:lnTo>
                      <a:pt x="382" y="343"/>
                    </a:lnTo>
                    <a:lnTo>
                      <a:pt x="389" y="370"/>
                    </a:lnTo>
                    <a:lnTo>
                      <a:pt x="397" y="397"/>
                    </a:lnTo>
                    <a:lnTo>
                      <a:pt x="403" y="418"/>
                    </a:lnTo>
                    <a:lnTo>
                      <a:pt x="407" y="439"/>
                    </a:lnTo>
                    <a:lnTo>
                      <a:pt x="410" y="461"/>
                    </a:lnTo>
                    <a:lnTo>
                      <a:pt x="414" y="503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100000">
                    <a:srgbClr val="ffe1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2" name=""/>
            <p:cNvGrpSpPr/>
            <p:nvPr/>
          </p:nvGrpSpPr>
          <p:grpSpPr>
            <a:xfrm>
              <a:off x="6513480" y="1596960"/>
              <a:ext cx="1868400" cy="1739880"/>
              <a:chOff x="6513480" y="1596960"/>
              <a:chExt cx="1868400" cy="1739880"/>
            </a:xfrm>
          </p:grpSpPr>
          <p:sp>
            <p:nvSpPr>
              <p:cNvPr id="1033" name=""/>
              <p:cNvSpPr/>
              <p:nvPr/>
            </p:nvSpPr>
            <p:spPr>
              <a:xfrm>
                <a:off x="6513480" y="1596960"/>
                <a:ext cx="1868400" cy="1739880"/>
              </a:xfrm>
              <a:prstGeom prst="ellipse">
                <a:avLst/>
              </a:prstGeom>
              <a:gradFill rotWithShape="0">
                <a:gsLst>
                  <a:gs pos="0">
                    <a:srgbClr val="f2a8d3"/>
                  </a:gs>
                  <a:gs pos="100000">
                    <a:srgbClr val="dc00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6755400" y="1835640"/>
                <a:ext cx="761400" cy="1191600"/>
                <a:chOff x="6755400" y="1835640"/>
                <a:chExt cx="761400" cy="119160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7094880" y="1907280"/>
                  <a:ext cx="421920" cy="111960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759360" y="2014560"/>
                  <a:ext cx="336600" cy="10126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7" name=""/>
                <p:cNvGrpSpPr/>
                <p:nvPr/>
              </p:nvGrpSpPr>
              <p:grpSpPr>
                <a:xfrm>
                  <a:off x="6798240" y="2076480"/>
                  <a:ext cx="244080" cy="899640"/>
                  <a:chOff x="6798240" y="2076480"/>
                  <a:chExt cx="244080" cy="89964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6798240" y="2076480"/>
                    <a:ext cx="244080" cy="89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801480" y="2866320"/>
                    <a:ext cx="234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799680" y="2199240"/>
                    <a:ext cx="24264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805440" y="2291760"/>
                    <a:ext cx="231840" cy="51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805440" y="2385360"/>
                    <a:ext cx="234000" cy="6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805440" y="2471400"/>
                    <a:ext cx="230040" cy="5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835320" y="225144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835320" y="2343600"/>
                    <a:ext cx="168840" cy="37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6835320" y="243612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6835320" y="2528280"/>
                    <a:ext cx="16884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6825960" y="2120400"/>
                    <a:ext cx="38520" cy="2376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6870600" y="2248200"/>
                    <a:ext cx="907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6870600" y="2336400"/>
                    <a:ext cx="90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6870600" y="2429640"/>
                    <a:ext cx="90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870600" y="2520360"/>
                    <a:ext cx="90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6801480" y="2819880"/>
                    <a:ext cx="234000" cy="61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6801480" y="2774880"/>
                    <a:ext cx="234000" cy="6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5" name=""/>
                <p:cNvSpPr/>
                <p:nvPr/>
              </p:nvSpPr>
              <p:spPr>
                <a:xfrm>
                  <a:off x="6755400" y="1835640"/>
                  <a:ext cx="760320" cy="26172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7297560" y="1835640"/>
                <a:ext cx="595440" cy="471600"/>
                <a:chOff x="7297560" y="1835640"/>
                <a:chExt cx="595440" cy="471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7402680" y="1835640"/>
                  <a:ext cx="490320" cy="391320"/>
                </a:xfrm>
                <a:custGeom>
                  <a:avLst/>
                  <a:gdLst/>
                  <a:ahLst/>
                  <a:rect l="l" t="t" r="r" b="b"/>
                  <a:pathLst>
                    <a:path w="1248" h="996">
                      <a:moveTo>
                        <a:pt x="0" y="996"/>
                      </a:moveTo>
                      <a:lnTo>
                        <a:pt x="0" y="94"/>
                      </a:lnTo>
                      <a:lnTo>
                        <a:pt x="79" y="0"/>
                      </a:lnTo>
                      <a:lnTo>
                        <a:pt x="467" y="0"/>
                      </a:lnTo>
                      <a:lnTo>
                        <a:pt x="526" y="93"/>
                      </a:lnTo>
                      <a:lnTo>
                        <a:pt x="1248" y="94"/>
                      </a:lnTo>
                      <a:lnTo>
                        <a:pt x="124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45929" dir="2028877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8" name=""/>
                <p:cNvGrpSpPr/>
                <p:nvPr/>
              </p:nvGrpSpPr>
              <p:grpSpPr>
                <a:xfrm>
                  <a:off x="7297560" y="2088000"/>
                  <a:ext cx="511200" cy="219240"/>
                  <a:chOff x="7297560" y="2088000"/>
                  <a:chExt cx="511200" cy="219240"/>
                </a:xfrm>
              </p:grpSpPr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7301160" y="2099160"/>
                    <a:ext cx="507600" cy="208080"/>
                    <a:chOff x="7301160" y="2099160"/>
                    <a:chExt cx="507600" cy="20808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>
                      <a:off x="7450560" y="213912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>
                      <a:off x="7301160" y="209916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2" name=""/>
                  <p:cNvSpPr/>
                  <p:nvPr/>
                </p:nvSpPr>
                <p:spPr>
                  <a:xfrm>
                    <a:off x="7446960" y="212796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7297560" y="2088000"/>
                    <a:ext cx="1558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7303320" y="209376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5" name=""/>
              <p:cNvGrpSpPr/>
              <p:nvPr/>
            </p:nvGrpSpPr>
            <p:grpSpPr>
              <a:xfrm>
                <a:off x="7297560" y="2431800"/>
                <a:ext cx="972360" cy="543960"/>
                <a:chOff x="7297560" y="2431800"/>
                <a:chExt cx="972360" cy="543960"/>
              </a:xfrm>
            </p:grpSpPr>
            <p:grpSp>
              <p:nvGrpSpPr>
                <p:cNvPr id="1066" name=""/>
                <p:cNvGrpSpPr/>
                <p:nvPr/>
              </p:nvGrpSpPr>
              <p:grpSpPr>
                <a:xfrm>
                  <a:off x="7459920" y="2431800"/>
                  <a:ext cx="810000" cy="512280"/>
                  <a:chOff x="7459920" y="2431800"/>
                  <a:chExt cx="810000" cy="51228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7459920" y="2431800"/>
                    <a:ext cx="81000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761">
                        <a:moveTo>
                          <a:pt x="1661" y="165"/>
                        </a:moveTo>
                        <a:lnTo>
                          <a:pt x="1603" y="150"/>
                        </a:lnTo>
                        <a:lnTo>
                          <a:pt x="1603" y="106"/>
                        </a:lnTo>
                        <a:lnTo>
                          <a:pt x="881" y="0"/>
                        </a:lnTo>
                        <a:lnTo>
                          <a:pt x="799" y="48"/>
                        </a:lnTo>
                        <a:lnTo>
                          <a:pt x="600" y="21"/>
                        </a:lnTo>
                        <a:lnTo>
                          <a:pt x="61" y="301"/>
                        </a:lnTo>
                        <a:lnTo>
                          <a:pt x="0" y="519"/>
                        </a:lnTo>
                        <a:lnTo>
                          <a:pt x="32" y="547"/>
                        </a:lnTo>
                        <a:lnTo>
                          <a:pt x="1150" y="76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 flipH="1" flipV="1">
                    <a:off x="7494480" y="2580120"/>
                    <a:ext cx="547920" cy="97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7885440" y="2692800"/>
                    <a:ext cx="131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79">
                        <a:moveTo>
                          <a:pt x="0" y="38"/>
                        </a:moveTo>
                        <a:lnTo>
                          <a:pt x="10" y="0"/>
                        </a:lnTo>
                        <a:lnTo>
                          <a:pt x="270" y="40"/>
                        </a:lnTo>
                        <a:lnTo>
                          <a:pt x="258" y="78"/>
                        </a:lnTo>
                        <a:lnTo>
                          <a:pt x="0" y="3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7480800" y="2600280"/>
                    <a:ext cx="15912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04">
                        <a:moveTo>
                          <a:pt x="0" y="153"/>
                        </a:moveTo>
                        <a:lnTo>
                          <a:pt x="282" y="203"/>
                        </a:lnTo>
                        <a:lnTo>
                          <a:pt x="327" y="50"/>
                        </a:lnTo>
                        <a:lnTo>
                          <a:pt x="42" y="0"/>
                        </a:lnTo>
                        <a:lnTo>
                          <a:pt x="0" y="15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7633800" y="2486880"/>
                    <a:ext cx="6112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56">
                        <a:moveTo>
                          <a:pt x="1251" y="0"/>
                        </a:moveTo>
                        <a:lnTo>
                          <a:pt x="821" y="320"/>
                        </a:lnTo>
                        <a:lnTo>
                          <a:pt x="0" y="179"/>
                        </a:lnTo>
                        <a:lnTo>
                          <a:pt x="0" y="213"/>
                        </a:lnTo>
                        <a:lnTo>
                          <a:pt x="818" y="355"/>
                        </a:lnTo>
                        <a:lnTo>
                          <a:pt x="1251" y="35"/>
                        </a:lnTo>
                        <a:lnTo>
                          <a:pt x="1251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7714080" y="2527200"/>
                    <a:ext cx="382320" cy="68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 flipH="1">
                    <a:off x="7631280" y="2453760"/>
                    <a:ext cx="218520" cy="118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8020800" y="2511360"/>
                    <a:ext cx="24876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794">
                        <a:moveTo>
                          <a:pt x="510" y="0"/>
                        </a:moveTo>
                        <a:lnTo>
                          <a:pt x="510" y="344"/>
                        </a:lnTo>
                        <a:lnTo>
                          <a:pt x="27" y="794"/>
                        </a:lnTo>
                        <a:lnTo>
                          <a:pt x="25" y="615"/>
                        </a:lnTo>
                        <a:lnTo>
                          <a:pt x="0" y="596"/>
                        </a:lnTo>
                        <a:lnTo>
                          <a:pt x="41" y="340"/>
                        </a:lnTo>
                        <a:lnTo>
                          <a:pt x="510" y="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7505640" y="2777400"/>
                    <a:ext cx="514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341">
                        <a:moveTo>
                          <a:pt x="1053" y="244"/>
                        </a:moveTo>
                        <a:lnTo>
                          <a:pt x="932" y="341"/>
                        </a:lnTo>
                        <a:lnTo>
                          <a:pt x="0" y="135"/>
                        </a:lnTo>
                        <a:lnTo>
                          <a:pt x="0" y="0"/>
                        </a:lnTo>
                        <a:lnTo>
                          <a:pt x="1051" y="24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7475400" y="2700360"/>
                    <a:ext cx="5590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409">
                        <a:moveTo>
                          <a:pt x="1145" y="409"/>
                        </a:moveTo>
                        <a:lnTo>
                          <a:pt x="1145" y="226"/>
                        </a:lnTo>
                        <a:lnTo>
                          <a:pt x="1124" y="212"/>
                        </a:lnTo>
                        <a:lnTo>
                          <a:pt x="0" y="0"/>
                        </a:lnTo>
                        <a:lnTo>
                          <a:pt x="0" y="162"/>
                        </a:lnTo>
                        <a:lnTo>
                          <a:pt x="1144" y="40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7535880" y="2810160"/>
                    <a:ext cx="40068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46">
                        <a:moveTo>
                          <a:pt x="821" y="1"/>
                        </a:moveTo>
                        <a:lnTo>
                          <a:pt x="821" y="105"/>
                        </a:lnTo>
                        <a:lnTo>
                          <a:pt x="643" y="235"/>
                        </a:lnTo>
                        <a:lnTo>
                          <a:pt x="616" y="246"/>
                        </a:lnTo>
                        <a:lnTo>
                          <a:pt x="576" y="240"/>
                        </a:lnTo>
                        <a:lnTo>
                          <a:pt x="13" y="117"/>
                        </a:lnTo>
                        <a:lnTo>
                          <a:pt x="0" y="10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7537680" y="2837880"/>
                    <a:ext cx="395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36">
                        <a:moveTo>
                          <a:pt x="810" y="0"/>
                        </a:moveTo>
                        <a:lnTo>
                          <a:pt x="637" y="125"/>
                        </a:lnTo>
                        <a:lnTo>
                          <a:pt x="603" y="136"/>
                        </a:lnTo>
                        <a:lnTo>
                          <a:pt x="573" y="13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7535880" y="2752560"/>
                    <a:ext cx="4006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50">
                        <a:moveTo>
                          <a:pt x="186" y="0"/>
                        </a:moveTo>
                        <a:lnTo>
                          <a:pt x="821" y="115"/>
                        </a:lnTo>
                        <a:lnTo>
                          <a:pt x="644" y="238"/>
                        </a:lnTo>
                        <a:lnTo>
                          <a:pt x="625" y="246"/>
                        </a:lnTo>
                        <a:lnTo>
                          <a:pt x="599" y="250"/>
                        </a:lnTo>
                        <a:lnTo>
                          <a:pt x="572" y="245"/>
                        </a:lnTo>
                        <a:lnTo>
                          <a:pt x="13" y="133"/>
                        </a:lnTo>
                        <a:lnTo>
                          <a:pt x="0" y="120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7764480" y="2456280"/>
                    <a:ext cx="13536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73">
                        <a:moveTo>
                          <a:pt x="277" y="0"/>
                        </a:moveTo>
                        <a:lnTo>
                          <a:pt x="277" y="117"/>
                        </a:lnTo>
                        <a:lnTo>
                          <a:pt x="71" y="172"/>
                        </a:lnTo>
                        <a:lnTo>
                          <a:pt x="0" y="164"/>
                        </a:lnTo>
                        <a:lnTo>
                          <a:pt x="2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H="1">
                    <a:off x="8043120" y="2500560"/>
                    <a:ext cx="133560" cy="84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7899120" y="2457360"/>
                    <a:ext cx="2743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185">
                        <a:moveTo>
                          <a:pt x="562" y="89"/>
                        </a:move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422" y="184"/>
                        </a:lnTo>
                        <a:lnTo>
                          <a:pt x="562" y="8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7902720" y="2477520"/>
                    <a:ext cx="244440" cy="38160"/>
                  </a:xfrm>
                  <a:prstGeom prst="line">
                    <a:avLst/>
                  </a:prstGeom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V="1">
                    <a:off x="7956720" y="2885400"/>
                    <a:ext cx="0" cy="58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5" name=""/>
                <p:cNvGrpSpPr/>
                <p:nvPr/>
              </p:nvGrpSpPr>
              <p:grpSpPr>
                <a:xfrm>
                  <a:off x="7297560" y="2756520"/>
                  <a:ext cx="511200" cy="219240"/>
                  <a:chOff x="7297560" y="2756520"/>
                  <a:chExt cx="511200" cy="219240"/>
                </a:xfrm>
              </p:grpSpPr>
              <p:grpSp>
                <p:nvGrpSpPr>
                  <p:cNvPr id="1086" name=""/>
                  <p:cNvGrpSpPr/>
                  <p:nvPr/>
                </p:nvGrpSpPr>
                <p:grpSpPr>
                  <a:xfrm>
                    <a:off x="7301160" y="2767680"/>
                    <a:ext cx="507600" cy="208080"/>
                    <a:chOff x="7301160" y="2767680"/>
                    <a:chExt cx="507600" cy="208080"/>
                  </a:xfrm>
                </p:grpSpPr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7450560" y="280764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7301160" y="276768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89" name=""/>
                  <p:cNvSpPr/>
                  <p:nvPr/>
                </p:nvSpPr>
                <p:spPr>
                  <a:xfrm>
                    <a:off x="7446960" y="279648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7297560" y="2756520"/>
                    <a:ext cx="1562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7303320" y="276228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92" name=""/>
            <p:cNvSpPr/>
            <p:nvPr/>
          </p:nvSpPr>
          <p:spPr>
            <a:xfrm flipH="1">
              <a:off x="4872960" y="2165400"/>
              <a:ext cx="90504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\\Nod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4857120" y="5033880"/>
              <a:ext cx="9270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\\Nod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1049400" y="3703680"/>
              <a:ext cx="414504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5" name=""/>
            <p:cNvGrpSpPr/>
            <p:nvPr/>
          </p:nvGrpSpPr>
          <p:grpSpPr>
            <a:xfrm>
              <a:off x="588960" y="3043080"/>
              <a:ext cx="1056600" cy="1164600"/>
              <a:chOff x="588960" y="3043080"/>
              <a:chExt cx="1056600" cy="1164600"/>
            </a:xfrm>
          </p:grpSpPr>
          <p:grpSp>
            <p:nvGrpSpPr>
              <p:cNvPr id="1096" name=""/>
              <p:cNvGrpSpPr/>
              <p:nvPr/>
            </p:nvGrpSpPr>
            <p:grpSpPr>
              <a:xfrm>
                <a:off x="588960" y="3656160"/>
                <a:ext cx="1022400" cy="551520"/>
                <a:chOff x="588960" y="3656160"/>
                <a:chExt cx="1022400" cy="551520"/>
              </a:xfrm>
            </p:grpSpPr>
            <p:sp>
              <p:nvSpPr>
                <p:cNvPr id="1097" name=""/>
                <p:cNvSpPr/>
                <p:nvPr/>
              </p:nvSpPr>
              <p:spPr>
                <a:xfrm>
                  <a:off x="1257480" y="379944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88960" y="3656160"/>
                  <a:ext cx="102240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88960" y="38304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938520" y="396396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943920" y="403236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938520" y="396288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961200" y="40003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1135800" y="410508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1025640" y="40136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06240" y="387036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606240" y="38998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606240" y="393048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606240" y="396000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941400" y="404316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1" name=""/>
              <p:cNvGrpSpPr/>
              <p:nvPr/>
            </p:nvGrpSpPr>
            <p:grpSpPr>
              <a:xfrm>
                <a:off x="689040" y="3043080"/>
                <a:ext cx="956520" cy="899640"/>
                <a:chOff x="689040" y="3043080"/>
                <a:chExt cx="956520" cy="89964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761040" y="362808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770760" y="363492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950040" y="370332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45200" y="3708360"/>
                  <a:ext cx="60552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889920" y="304308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1361520" y="319680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689040" y="305064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689040" y="311904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741240" y="318600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776160" y="3227760"/>
                  <a:ext cx="49824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820080" y="327204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3" name=""/>
            <p:cNvSpPr/>
            <p:nvPr/>
          </p:nvSpPr>
          <p:spPr>
            <a:xfrm flipH="1">
              <a:off x="2531880" y="3708360"/>
              <a:ext cx="623880" cy="89712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865600" y="2579760"/>
              <a:ext cx="444240" cy="11286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2098800" y="1611360"/>
              <a:ext cx="1056600" cy="1164600"/>
              <a:chOff x="2098800" y="1611360"/>
              <a:chExt cx="1056600" cy="1164600"/>
            </a:xfrm>
          </p:grpSpPr>
          <p:grpSp>
            <p:nvGrpSpPr>
              <p:cNvPr id="1126" name=""/>
              <p:cNvGrpSpPr/>
              <p:nvPr/>
            </p:nvGrpSpPr>
            <p:grpSpPr>
              <a:xfrm>
                <a:off x="2098800" y="2224440"/>
                <a:ext cx="1022400" cy="551520"/>
                <a:chOff x="2098800" y="2224440"/>
                <a:chExt cx="1022400" cy="55152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2767320" y="236772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098800" y="2224440"/>
                  <a:ext cx="102240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098800" y="239868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448360" y="253224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2453760" y="260064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448360" y="253116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2471040" y="256860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2645640" y="26733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2535480" y="258192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2116080" y="243864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116080" y="246816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116080" y="249876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116080" y="25282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451240" y="261144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1" name=""/>
              <p:cNvGrpSpPr/>
              <p:nvPr/>
            </p:nvGrpSpPr>
            <p:grpSpPr>
              <a:xfrm>
                <a:off x="2198880" y="1611360"/>
                <a:ext cx="956520" cy="899640"/>
                <a:chOff x="2198880" y="1611360"/>
                <a:chExt cx="956520" cy="89964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2270880" y="219636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280600" y="220320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2459880" y="22716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2255040" y="2276640"/>
                  <a:ext cx="60552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2399760" y="161136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2871360" y="176508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198880" y="161892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2198880" y="168732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251080" y="175428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286000" y="1796040"/>
                  <a:ext cx="49824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329920" y="18403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1863720" y="4379760"/>
              <a:ext cx="1056600" cy="1164600"/>
              <a:chOff x="1863720" y="4379760"/>
              <a:chExt cx="1056600" cy="116460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1863720" y="4992840"/>
                <a:ext cx="1022400" cy="551520"/>
                <a:chOff x="1863720" y="4992840"/>
                <a:chExt cx="1022400" cy="5515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2532240" y="513612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863720" y="4992840"/>
                  <a:ext cx="102240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1863720" y="516708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213280" y="530064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2218680" y="536904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2213280" y="529956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2235960" y="533700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2410560" y="54417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2300400" y="535032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1881000" y="520704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1881000" y="523656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1881000" y="526716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1881000" y="5296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216160" y="537984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1963800" y="4379760"/>
                <a:ext cx="956520" cy="899640"/>
                <a:chOff x="1963800" y="4379760"/>
                <a:chExt cx="956520" cy="89964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2035800" y="496476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2045520" y="497160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24800" y="50400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2019960" y="5045040"/>
                  <a:ext cx="60552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2164680" y="437976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636280" y="453348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1963800" y="438732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1963800" y="445572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016000" y="452268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2050920" y="4564440"/>
                  <a:ext cx="49824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094840" y="46087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1" name=""/>
            <p:cNvSpPr/>
            <p:nvPr/>
          </p:nvSpPr>
          <p:spPr>
            <a:xfrm>
              <a:off x="4846680" y="1139760"/>
              <a:ext cx="145728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\\Clu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746760" y="1154160"/>
              <a:ext cx="145728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\\Accoun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9560" y="1922400"/>
              <a:ext cx="1389240" cy="598680"/>
            </a:xfrm>
            <a:prstGeom prst="wedgeRoundRectCallout">
              <a:avLst>
                <a:gd name="adj1" fmla="val 398"/>
                <a:gd name="adj2" fmla="val 159814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 Client can us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\\NodeA to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anage No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119400" y="1873080"/>
              <a:ext cx="1411200" cy="787680"/>
            </a:xfrm>
            <a:prstGeom prst="wedgeRoundRectCallout">
              <a:avLst>
                <a:gd name="adj1" fmla="val -79245"/>
                <a:gd name="adj2" fmla="val -22578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 Client can us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\\Accounting to access the Virtual 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156120" y="5025960"/>
              <a:ext cx="1411200" cy="787320"/>
            </a:xfrm>
            <a:prstGeom prst="wedgeRoundRectCallout">
              <a:avLst>
                <a:gd name="adj1" fmla="val -85546"/>
                <a:gd name="adj2" fmla="val -46773"/>
                <a:gd name="adj3" fmla="val 1666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A Client can use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\\Cluster to Manage the Clu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Determining Domain Consider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er Accou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uter Accou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User Accoun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ministrator Account on Each Nod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 Service Accou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mputer Accoun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1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1857240" y="1521000"/>
            <a:ext cx="5894640" cy="4217760"/>
            <a:chOff x="1857240" y="1521000"/>
            <a:chExt cx="5894640" cy="4217760"/>
          </a:xfrm>
        </p:grpSpPr>
        <p:sp>
          <p:nvSpPr>
            <p:cNvPr id="1193" name=""/>
            <p:cNvSpPr/>
            <p:nvPr/>
          </p:nvSpPr>
          <p:spPr>
            <a:xfrm>
              <a:off x="1857240" y="1521000"/>
              <a:ext cx="5569200" cy="4217760"/>
            </a:xfrm>
            <a:prstGeom prst="triangle">
              <a:avLst>
                <a:gd name="adj" fmla="val 54167"/>
              </a:avLst>
            </a:prstGeom>
            <a:gradFill rotWithShape="0">
              <a:gsLst>
                <a:gs pos="0">
                  <a:srgbClr val="9900cc"/>
                </a:gs>
                <a:gs pos="50000">
                  <a:srgbClr val="cc99ff"/>
                </a:gs>
                <a:gs pos="100000">
                  <a:srgbClr val="990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13502" dir="1593903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2467200">
              <a:off x="4177800" y="3016080"/>
              <a:ext cx="135000" cy="1257480"/>
            </a:xfrm>
            <a:prstGeom prst="rect">
              <a:avLst/>
            </a:prstGeom>
            <a:gradFill rotWithShape="0">
              <a:gsLst>
                <a:gs pos="0">
                  <a:srgbClr val="f1a3d1"/>
                </a:gs>
                <a:gs pos="100000">
                  <a:srgbClr val="dc0081"/>
                </a:gs>
              </a:gsLst>
              <a:lin ang="8100000"/>
            </a:gradFill>
            <a:ln w="93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 rot="19021200">
              <a:off x="5343120" y="2909520"/>
              <a:ext cx="119160" cy="125100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f1a3d1"/>
                </a:gs>
              </a:gsLst>
              <a:lin ang="13500000"/>
            </a:gradFill>
            <a:ln w="93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451400" y="246852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rot="19132800">
              <a:off x="4180320" y="4160880"/>
              <a:ext cx="135360" cy="865080"/>
            </a:xfrm>
            <a:prstGeom prst="rect">
              <a:avLst/>
            </a:prstGeom>
            <a:gradFill rotWithShape="0">
              <a:gsLst>
                <a:gs pos="0">
                  <a:srgbClr val="dc0081"/>
                </a:gs>
                <a:gs pos="100000">
                  <a:srgbClr val="f1a3d1"/>
                </a:gs>
              </a:gsLst>
              <a:lin ang="13500000"/>
            </a:gradFill>
            <a:ln w="93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89480" y="3665520"/>
              <a:ext cx="2084400" cy="2003400"/>
            </a:xfrm>
            <a:prstGeom prst="ellipse">
              <a:avLst/>
            </a:prstGeom>
            <a:gradFill rotWithShape="0">
              <a:gsLst>
                <a:gs pos="0">
                  <a:srgbClr val="f4f6fc"/>
                </a:gs>
                <a:gs pos="100000">
                  <a:srgbClr val="00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532480" y="3530520"/>
              <a:ext cx="762120" cy="762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0033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3354480" y="5135400"/>
              <a:ext cx="210816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83080" y="4545000"/>
              <a:ext cx="179388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2" name="j0286851" descr=""/>
            <p:cNvPicPr/>
            <p:nvPr/>
          </p:nvPicPr>
          <p:blipFill>
            <a:blip r:embed="rId1"/>
            <a:stretch/>
          </p:blipFill>
          <p:spPr>
            <a:xfrm>
              <a:off x="4184640" y="4184640"/>
              <a:ext cx="52560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3" name=""/>
            <p:cNvSpPr/>
            <p:nvPr/>
          </p:nvSpPr>
          <p:spPr>
            <a:xfrm>
              <a:off x="4145040" y="1521000"/>
              <a:ext cx="145728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4" name=""/>
            <p:cNvGrpSpPr/>
            <p:nvPr/>
          </p:nvGrpSpPr>
          <p:grpSpPr>
            <a:xfrm>
              <a:off x="4181400" y="4883040"/>
              <a:ext cx="584280" cy="547920"/>
              <a:chOff x="4181400" y="4883040"/>
              <a:chExt cx="584280" cy="547920"/>
            </a:xfrm>
          </p:grpSpPr>
          <p:grpSp>
            <p:nvGrpSpPr>
              <p:cNvPr id="1205" name=""/>
              <p:cNvGrpSpPr/>
              <p:nvPr/>
            </p:nvGrpSpPr>
            <p:grpSpPr>
              <a:xfrm>
                <a:off x="4181400" y="5093640"/>
                <a:ext cx="584280" cy="337320"/>
                <a:chOff x="4181400" y="5093640"/>
                <a:chExt cx="584280" cy="3373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4181400" y="5148720"/>
                  <a:ext cx="584280" cy="2822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dc0081"/>
                    </a:gs>
                    <a:gs pos="50000">
                      <a:srgbClr val="f2a8d3"/>
                    </a:gs>
                    <a:gs pos="100000">
                      <a:srgbClr val="dc008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4184280" y="5093640"/>
                  <a:ext cx="575640" cy="120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0081"/>
                    </a:gs>
                    <a:gs pos="50000">
                      <a:srgbClr val="f2a8d3"/>
                    </a:gs>
                    <a:gs pos="100000">
                      <a:srgbClr val="dc0081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4181400" y="4883040"/>
                <a:ext cx="584280" cy="336600"/>
                <a:chOff x="4181400" y="4883040"/>
                <a:chExt cx="584280" cy="33660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4181400" y="4937760"/>
                  <a:ext cx="584280" cy="28188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9ea1"/>
                    </a:gs>
                    <a:gs pos="50000">
                      <a:srgbClr val="b1e0e1"/>
                    </a:gs>
                    <a:gs pos="100000">
                      <a:srgbClr val="009ea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184280" y="4883040"/>
                  <a:ext cx="575640" cy="120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ea1"/>
                    </a:gs>
                    <a:gs pos="50000">
                      <a:srgbClr val="b1e0e1"/>
                    </a:gs>
                    <a:gs pos="100000">
                      <a:srgbClr val="009ea1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1" name=""/>
            <p:cNvGrpSpPr/>
            <p:nvPr/>
          </p:nvGrpSpPr>
          <p:grpSpPr>
            <a:xfrm>
              <a:off x="2989800" y="4313160"/>
              <a:ext cx="729720" cy="1142640"/>
              <a:chOff x="2989800" y="4313160"/>
              <a:chExt cx="729720" cy="1142640"/>
            </a:xfrm>
          </p:grpSpPr>
          <p:sp>
            <p:nvSpPr>
              <p:cNvPr id="1212" name=""/>
              <p:cNvSpPr/>
              <p:nvPr/>
            </p:nvSpPr>
            <p:spPr>
              <a:xfrm>
                <a:off x="3314880" y="43819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993040" y="448452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4" name=""/>
              <p:cNvGrpSpPr/>
              <p:nvPr/>
            </p:nvGrpSpPr>
            <p:grpSpPr>
              <a:xfrm>
                <a:off x="3030840" y="4544280"/>
                <a:ext cx="234000" cy="862920"/>
                <a:chOff x="3030840" y="4544280"/>
                <a:chExt cx="234000" cy="8629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3030840" y="45442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033720" y="53020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032280" y="46620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3037680" y="47509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037680" y="48405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037680" y="49230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3066480" y="47120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3066480" y="48006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3066480" y="48891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066480" y="49777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057480" y="45864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100320" y="47091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100320" y="47934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100320" y="48830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100320" y="49701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3033720" y="52574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3033720" y="52142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2" name=""/>
              <p:cNvSpPr/>
              <p:nvPr/>
            </p:nvSpPr>
            <p:spPr>
              <a:xfrm>
                <a:off x="2989800" y="431316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5296320" y="4273560"/>
              <a:ext cx="729720" cy="1142640"/>
              <a:chOff x="5296320" y="4273560"/>
              <a:chExt cx="729720" cy="1142640"/>
            </a:xfrm>
          </p:grpSpPr>
          <p:sp>
            <p:nvSpPr>
              <p:cNvPr id="1234" name=""/>
              <p:cNvSpPr/>
              <p:nvPr/>
            </p:nvSpPr>
            <p:spPr>
              <a:xfrm>
                <a:off x="5621400" y="43423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299560" y="444492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6" name=""/>
              <p:cNvGrpSpPr/>
              <p:nvPr/>
            </p:nvGrpSpPr>
            <p:grpSpPr>
              <a:xfrm>
                <a:off x="5337360" y="4504680"/>
                <a:ext cx="234000" cy="862920"/>
                <a:chOff x="5337360" y="4504680"/>
                <a:chExt cx="234000" cy="86292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5337360" y="45046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340240" y="52624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338800" y="46224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344200" y="47113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5344200" y="48009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344200" y="48834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5373000" y="46724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5373000" y="47610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373000" y="48495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5373000" y="49381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364000" y="45468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406840" y="46695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406840" y="47538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406840" y="48434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406840" y="49305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40240" y="52178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340240" y="51746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5296320" y="427356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5" name=""/>
            <p:cNvSpPr/>
            <p:nvPr/>
          </p:nvSpPr>
          <p:spPr>
            <a:xfrm flipH="1">
              <a:off x="4765320" y="2697120"/>
              <a:ext cx="1528920" cy="968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6026040" y="2697120"/>
              <a:ext cx="665280" cy="83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5213520" y="2397240"/>
              <a:ext cx="1233360" cy="299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94600" y="1978200"/>
              <a:ext cx="1457280" cy="71892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Organizat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Uni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Existing Services and Applic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0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750960" y="1163520"/>
            <a:ext cx="7567560" cy="4703760"/>
            <a:chOff x="750960" y="1163520"/>
            <a:chExt cx="7567560" cy="4703760"/>
          </a:xfrm>
        </p:grpSpPr>
        <p:sp>
          <p:nvSpPr>
            <p:cNvPr id="1262" name=""/>
            <p:cNvSpPr/>
            <p:nvPr/>
          </p:nvSpPr>
          <p:spPr>
            <a:xfrm>
              <a:off x="4611600" y="1447920"/>
              <a:ext cx="3706920" cy="441936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584360" y="468792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47640" y="1163520"/>
              <a:ext cx="145764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re-Clu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1320" y="1163520"/>
              <a:ext cx="196848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uster Install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2200320" y="1919160"/>
              <a:ext cx="999000" cy="1563840"/>
              <a:chOff x="2200320" y="1919160"/>
              <a:chExt cx="999000" cy="1563840"/>
            </a:xfrm>
          </p:grpSpPr>
          <p:sp>
            <p:nvSpPr>
              <p:cNvPr id="1267" name=""/>
              <p:cNvSpPr/>
              <p:nvPr/>
            </p:nvSpPr>
            <p:spPr>
              <a:xfrm>
                <a:off x="2646000" y="2013480"/>
                <a:ext cx="553320" cy="146952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205000" y="2153880"/>
                <a:ext cx="441360" cy="132912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9" name=""/>
              <p:cNvGrpSpPr/>
              <p:nvPr/>
            </p:nvGrpSpPr>
            <p:grpSpPr>
              <a:xfrm>
                <a:off x="2257200" y="2235240"/>
                <a:ext cx="320040" cy="1180440"/>
                <a:chOff x="2257200" y="2235240"/>
                <a:chExt cx="320040" cy="118044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2257200" y="2235240"/>
                  <a:ext cx="320040" cy="118044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2261160" y="3271680"/>
                  <a:ext cx="307080" cy="81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2259000" y="2396160"/>
                  <a:ext cx="317880" cy="5551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2266560" y="2517840"/>
                  <a:ext cx="304200" cy="6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2266560" y="2640600"/>
                  <a:ext cx="30708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2266560" y="2753280"/>
                  <a:ext cx="30168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2305800" y="246492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305800" y="2585880"/>
                  <a:ext cx="221400" cy="48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2305800" y="270720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2305800" y="282780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2293560" y="2292840"/>
                  <a:ext cx="50400" cy="313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2351880" y="2460600"/>
                  <a:ext cx="119160" cy="6336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351880" y="2576160"/>
                  <a:ext cx="119160" cy="6192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2351880" y="2698560"/>
                  <a:ext cx="119160" cy="6264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2351880" y="2817720"/>
                  <a:ext cx="119160" cy="6408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2261160" y="321084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2261160" y="315144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7" name=""/>
              <p:cNvSpPr/>
              <p:nvPr/>
            </p:nvSpPr>
            <p:spPr>
              <a:xfrm>
                <a:off x="2200320" y="1919160"/>
                <a:ext cx="997200" cy="34380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2057400" y="4059360"/>
              <a:ext cx="999000" cy="1563480"/>
              <a:chOff x="2057400" y="4059360"/>
              <a:chExt cx="999000" cy="1563480"/>
            </a:xfrm>
          </p:grpSpPr>
          <p:sp>
            <p:nvSpPr>
              <p:cNvPr id="1289" name=""/>
              <p:cNvSpPr/>
              <p:nvPr/>
            </p:nvSpPr>
            <p:spPr>
              <a:xfrm>
                <a:off x="2503080" y="4153680"/>
                <a:ext cx="553320" cy="146916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062080" y="4294080"/>
                <a:ext cx="441360" cy="132876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2114280" y="4375440"/>
                <a:ext cx="320040" cy="1180080"/>
                <a:chOff x="2114280" y="4375440"/>
                <a:chExt cx="320040" cy="118008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2114280" y="4375440"/>
                  <a:ext cx="320040" cy="118008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118240" y="5411520"/>
                  <a:ext cx="307080" cy="81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2116080" y="4536360"/>
                  <a:ext cx="317880" cy="5551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2123640" y="4657680"/>
                  <a:ext cx="30420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2123640" y="4780800"/>
                  <a:ext cx="30708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2123640" y="4893120"/>
                  <a:ext cx="30168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162880" y="460512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2162880" y="4725720"/>
                  <a:ext cx="221400" cy="48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2162880" y="484740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162880" y="496800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2150640" y="4433040"/>
                  <a:ext cx="50400" cy="313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2208960" y="4600800"/>
                  <a:ext cx="119160" cy="6336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2208960" y="4716360"/>
                  <a:ext cx="119160" cy="6192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2208960" y="4838400"/>
                  <a:ext cx="119160" cy="6264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2208960" y="4957920"/>
                  <a:ext cx="119160" cy="6408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118240" y="535068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2118240" y="529128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9" name=""/>
              <p:cNvSpPr/>
              <p:nvPr/>
            </p:nvSpPr>
            <p:spPr>
              <a:xfrm>
                <a:off x="2057400" y="4059360"/>
                <a:ext cx="997200" cy="34380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0" name=""/>
            <p:cNvSpPr/>
            <p:nvPr/>
          </p:nvSpPr>
          <p:spPr>
            <a:xfrm>
              <a:off x="763560" y="2328840"/>
              <a:ext cx="1398600" cy="927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Server A running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W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H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50960" y="4680000"/>
              <a:ext cx="1398600" cy="541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Server B running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832360" y="2886120"/>
              <a:ext cx="0" cy="2057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3" name="j0286851" descr=""/>
            <p:cNvPicPr/>
            <p:nvPr/>
          </p:nvPicPr>
          <p:blipFill>
            <a:blip r:embed="rId1"/>
            <a:stretch/>
          </p:blipFill>
          <p:spPr>
            <a:xfrm>
              <a:off x="5451480" y="349560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4" name=""/>
            <p:cNvGrpSpPr/>
            <p:nvPr/>
          </p:nvGrpSpPr>
          <p:grpSpPr>
            <a:xfrm>
              <a:off x="5528160" y="1971720"/>
              <a:ext cx="729720" cy="1142640"/>
              <a:chOff x="5528160" y="1971720"/>
              <a:chExt cx="729720" cy="1142640"/>
            </a:xfrm>
          </p:grpSpPr>
          <p:sp>
            <p:nvSpPr>
              <p:cNvPr id="1315" name=""/>
              <p:cNvSpPr/>
              <p:nvPr/>
            </p:nvSpPr>
            <p:spPr>
              <a:xfrm>
                <a:off x="5853240" y="204048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531400" y="214308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5569200" y="2202840"/>
                <a:ext cx="234000" cy="862920"/>
                <a:chOff x="5569200" y="2202840"/>
                <a:chExt cx="234000" cy="86292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569200" y="220284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72080" y="296064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570640" y="232056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5576040" y="240948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576040" y="249912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576040" y="258156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5604840" y="23706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604840" y="245916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5604840" y="25477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5604840" y="26362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95840" y="224496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5638680" y="236772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5638680" y="245196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638680" y="254160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5638680" y="262872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572080" y="291600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72080" y="287280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5" name=""/>
              <p:cNvSpPr/>
              <p:nvPr/>
            </p:nvSpPr>
            <p:spPr>
              <a:xfrm>
                <a:off x="5528160" y="197172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6" name=""/>
            <p:cNvGrpSpPr/>
            <p:nvPr/>
          </p:nvGrpSpPr>
          <p:grpSpPr>
            <a:xfrm>
              <a:off x="5528160" y="4562640"/>
              <a:ext cx="729720" cy="1142640"/>
              <a:chOff x="5528160" y="4562640"/>
              <a:chExt cx="729720" cy="1142640"/>
            </a:xfrm>
          </p:grpSpPr>
          <p:sp>
            <p:nvSpPr>
              <p:cNvPr id="1337" name=""/>
              <p:cNvSpPr/>
              <p:nvPr/>
            </p:nvSpPr>
            <p:spPr>
              <a:xfrm>
                <a:off x="5853240" y="463140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531400" y="473400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9" name=""/>
              <p:cNvGrpSpPr/>
              <p:nvPr/>
            </p:nvGrpSpPr>
            <p:grpSpPr>
              <a:xfrm>
                <a:off x="5569200" y="4793760"/>
                <a:ext cx="234000" cy="862920"/>
                <a:chOff x="5569200" y="4793760"/>
                <a:chExt cx="234000" cy="862920"/>
              </a:xfrm>
            </p:grpSpPr>
            <p:sp>
              <p:nvSpPr>
                <p:cNvPr id="1340" name=""/>
                <p:cNvSpPr/>
                <p:nvPr/>
              </p:nvSpPr>
              <p:spPr>
                <a:xfrm>
                  <a:off x="5569200" y="479376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572080" y="555156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5570640" y="491148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576040" y="500040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5576040" y="509004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576040" y="517248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604840" y="49615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604840" y="505008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604840" y="51386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604840" y="52272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595840" y="483588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638680" y="495864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5638680" y="504288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5638680" y="513252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5638680" y="521964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5572080" y="550692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572080" y="546372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7" name=""/>
              <p:cNvSpPr/>
              <p:nvPr/>
            </p:nvSpPr>
            <p:spPr>
              <a:xfrm>
                <a:off x="5528160" y="456264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8" name=""/>
            <p:cNvSpPr/>
            <p:nvPr/>
          </p:nvSpPr>
          <p:spPr>
            <a:xfrm>
              <a:off x="6137280" y="2581200"/>
              <a:ext cx="533520" cy="2514600"/>
            </a:xfrm>
            <a:custGeom>
              <a:avLst/>
              <a:gdLst/>
              <a:ahLst/>
              <a:rect l="l" t="t" r="r" b="b"/>
              <a:pathLst>
                <a:path w="432" h="1584">
                  <a:moveTo>
                    <a:pt x="0" y="0"/>
                  </a:moveTo>
                  <a:lnTo>
                    <a:pt x="432" y="0"/>
                  </a:lnTo>
                  <a:lnTo>
                    <a:pt x="432" y="1584"/>
                  </a:lnTo>
                  <a:lnTo>
                    <a:pt x="0" y="1584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670800" y="3952800"/>
              <a:ext cx="53316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0" name=""/>
            <p:cNvGrpSpPr/>
            <p:nvPr/>
          </p:nvGrpSpPr>
          <p:grpSpPr>
            <a:xfrm>
              <a:off x="7203960" y="3573360"/>
              <a:ext cx="915840" cy="858240"/>
              <a:chOff x="7203960" y="3573360"/>
              <a:chExt cx="915840" cy="858240"/>
            </a:xfrm>
          </p:grpSpPr>
          <p:grpSp>
            <p:nvGrpSpPr>
              <p:cNvPr id="1361" name=""/>
              <p:cNvGrpSpPr/>
              <p:nvPr/>
            </p:nvGrpSpPr>
            <p:grpSpPr>
              <a:xfrm>
                <a:off x="7203960" y="3903120"/>
                <a:ext cx="915840" cy="528480"/>
                <a:chOff x="7203960" y="3903120"/>
                <a:chExt cx="915840" cy="5284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7203960" y="3989160"/>
                  <a:ext cx="915840" cy="4424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dc0081"/>
                    </a:gs>
                    <a:gs pos="50000">
                      <a:srgbClr val="f2a8d3"/>
                    </a:gs>
                    <a:gs pos="100000">
                      <a:srgbClr val="dc008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209000" y="3903120"/>
                  <a:ext cx="902160" cy="189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0081"/>
                    </a:gs>
                    <a:gs pos="50000">
                      <a:srgbClr val="f2a8d3"/>
                    </a:gs>
                    <a:gs pos="100000">
                      <a:srgbClr val="dc0081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7203960" y="3573360"/>
                <a:ext cx="915840" cy="528120"/>
                <a:chOff x="7203960" y="3573360"/>
                <a:chExt cx="915840" cy="52812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7203960" y="3659400"/>
                  <a:ext cx="915840" cy="44208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9ea1"/>
                    </a:gs>
                    <a:gs pos="50000">
                      <a:srgbClr val="b1e0e1"/>
                    </a:gs>
                    <a:gs pos="100000">
                      <a:srgbClr val="009ea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209000" y="3573360"/>
                  <a:ext cx="902160" cy="189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9ea1"/>
                    </a:gs>
                    <a:gs pos="50000">
                      <a:srgbClr val="b1e0e1"/>
                    </a:gs>
                    <a:gs pos="100000">
                      <a:srgbClr val="009ea1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7" name=""/>
            <p:cNvSpPr/>
            <p:nvPr/>
          </p:nvSpPr>
          <p:spPr>
            <a:xfrm>
              <a:off x="4160880" y="2136600"/>
              <a:ext cx="1398600" cy="92736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Node A running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WI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969696"/>
                  </a:solidFill>
                  <a:latin typeface="Arial Narrow"/>
                </a:rPr>
                <a:t>DH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205160" y="4906800"/>
              <a:ext cx="1398600" cy="541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Node B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Exchange Fai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215040" y="1660680"/>
              <a:ext cx="1868400" cy="1739880"/>
            </a:xfrm>
            <a:prstGeom prst="ellipse">
              <a:avLst/>
            </a:prstGeom>
            <a:gradFill rotWithShape="0">
              <a:gsLst>
                <a:gs pos="0">
                  <a:srgbClr val="fecaa8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6458400" y="1900080"/>
              <a:ext cx="761400" cy="1190520"/>
              <a:chOff x="6458400" y="1900080"/>
              <a:chExt cx="761400" cy="1190520"/>
            </a:xfrm>
          </p:grpSpPr>
          <p:sp>
            <p:nvSpPr>
              <p:cNvPr id="1371" name=""/>
              <p:cNvSpPr/>
              <p:nvPr/>
            </p:nvSpPr>
            <p:spPr>
              <a:xfrm>
                <a:off x="6797880" y="1971720"/>
                <a:ext cx="421920" cy="1118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462000" y="2078640"/>
                <a:ext cx="336600" cy="101196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3" name=""/>
              <p:cNvGrpSpPr/>
              <p:nvPr/>
            </p:nvGrpSpPr>
            <p:grpSpPr>
              <a:xfrm>
                <a:off x="6501240" y="2140560"/>
                <a:ext cx="244080" cy="898920"/>
                <a:chOff x="6501240" y="2140560"/>
                <a:chExt cx="244080" cy="89892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6501240" y="2140560"/>
                  <a:ext cx="244080" cy="898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6504480" y="2929680"/>
                  <a:ext cx="234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02680" y="2262960"/>
                  <a:ext cx="242640" cy="42264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08440" y="2355480"/>
                  <a:ext cx="231840" cy="5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08440" y="2449080"/>
                  <a:ext cx="234000" cy="6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6508440" y="2535120"/>
                  <a:ext cx="230040" cy="5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6538320" y="231552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538320" y="2407320"/>
                  <a:ext cx="168840" cy="370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6538320" y="249984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6538320" y="2592000"/>
                  <a:ext cx="16884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6528960" y="2184480"/>
                  <a:ext cx="38520" cy="237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6573600" y="2312280"/>
                  <a:ext cx="90720" cy="482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6573600" y="2400120"/>
                  <a:ext cx="90720" cy="471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6573600" y="2493360"/>
                  <a:ext cx="90720" cy="4788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6573600" y="2584080"/>
                  <a:ext cx="90720" cy="489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504480" y="2883600"/>
                  <a:ext cx="23400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6504480" y="2838240"/>
                  <a:ext cx="23400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1" name=""/>
              <p:cNvSpPr/>
              <p:nvPr/>
            </p:nvSpPr>
            <p:spPr>
              <a:xfrm>
                <a:off x="6458400" y="1900080"/>
                <a:ext cx="760680" cy="26172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2" name=""/>
            <p:cNvSpPr/>
            <p:nvPr/>
          </p:nvSpPr>
          <p:spPr>
            <a:xfrm>
              <a:off x="7089840" y="2130480"/>
              <a:ext cx="1123920" cy="7142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Virtual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running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316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HC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4919760" y="2727000"/>
              <a:ext cx="2284200" cy="173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4" name=""/>
          <p:cNvGrpSpPr/>
          <p:nvPr/>
        </p:nvGrpSpPr>
        <p:grpSpPr>
          <a:xfrm>
            <a:off x="1239840" y="1600200"/>
            <a:ext cx="6519960" cy="4008600"/>
            <a:chOff x="1239840" y="1600200"/>
            <a:chExt cx="6519960" cy="4008600"/>
          </a:xfrm>
        </p:grpSpPr>
        <p:sp>
          <p:nvSpPr>
            <p:cNvPr id="1395" name=""/>
            <p:cNvSpPr/>
            <p:nvPr/>
          </p:nvSpPr>
          <p:spPr>
            <a:xfrm>
              <a:off x="1371600" y="1600200"/>
              <a:ext cx="6388200" cy="40086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40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3486240" y="3819600"/>
              <a:ext cx="1581120" cy="1095480"/>
              <a:chOff x="3486240" y="3819600"/>
              <a:chExt cx="1581120" cy="1095480"/>
            </a:xfrm>
          </p:grpSpPr>
          <p:sp>
            <p:nvSpPr>
              <p:cNvPr id="1397" name=""/>
              <p:cNvSpPr/>
              <p:nvPr/>
            </p:nvSpPr>
            <p:spPr>
              <a:xfrm>
                <a:off x="3486240" y="3819600"/>
                <a:ext cx="1581120" cy="1095480"/>
              </a:xfrm>
              <a:custGeom>
                <a:avLst/>
                <a:gdLst/>
                <a:ahLst/>
                <a:rect l="l" t="t" r="r" b="b"/>
                <a:pathLst>
                  <a:path w="996" h="690">
                    <a:moveTo>
                      <a:pt x="12" y="246"/>
                    </a:moveTo>
                    <a:lnTo>
                      <a:pt x="720" y="0"/>
                    </a:lnTo>
                    <a:lnTo>
                      <a:pt x="996" y="168"/>
                    </a:lnTo>
                    <a:lnTo>
                      <a:pt x="972" y="300"/>
                    </a:lnTo>
                    <a:lnTo>
                      <a:pt x="126" y="690"/>
                    </a:lnTo>
                    <a:lnTo>
                      <a:pt x="0" y="594"/>
                    </a:lnTo>
                    <a:lnTo>
                      <a:pt x="12" y="246"/>
                    </a:lnTo>
                    <a:close/>
                  </a:path>
                </a:pathLst>
              </a:custGeom>
              <a:solidFill>
                <a:srgbClr val="cecece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489480" y="4096080"/>
                <a:ext cx="1549080" cy="657000"/>
              </a:xfrm>
              <a:custGeom>
                <a:avLst/>
                <a:gdLst/>
                <a:ahLst/>
                <a:rect l="l" t="t" r="r" b="b"/>
                <a:pathLst>
                  <a:path w="976" h="414">
                    <a:moveTo>
                      <a:pt x="976" y="0"/>
                    </a:moveTo>
                    <a:lnTo>
                      <a:pt x="0" y="41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600360" y="42292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914640" y="41151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229280" y="4000680"/>
                <a:ext cx="28548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638520" y="4381560"/>
                <a:ext cx="285840" cy="17172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971880" y="423900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305240" y="40960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648320" y="3981600"/>
                <a:ext cx="145800" cy="9540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543560" y="3905640"/>
                <a:ext cx="161640" cy="10476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041720" y="4131000"/>
                <a:ext cx="996840" cy="476280"/>
              </a:xfrm>
              <a:custGeom>
                <a:avLst/>
                <a:gdLst/>
                <a:ahLst/>
                <a:rect l="l" t="t" r="r" b="b"/>
                <a:pathLst>
                  <a:path w="628" h="300">
                    <a:moveTo>
                      <a:pt x="0" y="300"/>
                    </a:moveTo>
                    <a:lnTo>
                      <a:pt x="628" y="0"/>
                    </a:lnTo>
                    <a:lnTo>
                      <a:pt x="620" y="6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2455920" y="1805040"/>
              <a:ext cx="2066400" cy="2467080"/>
              <a:chOff x="2455920" y="1805040"/>
              <a:chExt cx="2066400" cy="2467080"/>
            </a:xfrm>
          </p:grpSpPr>
          <p:grpSp>
            <p:nvGrpSpPr>
              <p:cNvPr id="1409" name=""/>
              <p:cNvGrpSpPr/>
              <p:nvPr/>
            </p:nvGrpSpPr>
            <p:grpSpPr>
              <a:xfrm>
                <a:off x="2465280" y="3166920"/>
                <a:ext cx="2057040" cy="1105200"/>
                <a:chOff x="2465280" y="3166920"/>
                <a:chExt cx="2057040" cy="110520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2474280" y="3243240"/>
                  <a:ext cx="2047680" cy="1028880"/>
                </a:xfrm>
                <a:custGeom>
                  <a:avLst/>
                  <a:gdLst/>
                  <a:ahLst/>
                  <a:rect l="l" t="t" r="r" b="b"/>
                  <a:pathLst>
                    <a:path w="1290" h="648">
                      <a:moveTo>
                        <a:pt x="1290" y="0"/>
                      </a:moveTo>
                      <a:lnTo>
                        <a:pt x="474" y="252"/>
                      </a:lnTo>
                      <a:lnTo>
                        <a:pt x="0" y="102"/>
                      </a:lnTo>
                      <a:lnTo>
                        <a:pt x="24" y="342"/>
                      </a:lnTo>
                      <a:lnTo>
                        <a:pt x="402" y="648"/>
                      </a:lnTo>
                      <a:lnTo>
                        <a:pt x="1242" y="240"/>
                      </a:lnTo>
                      <a:lnTo>
                        <a:pt x="1290" y="0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1" name=""/>
                <p:cNvGrpSpPr/>
                <p:nvPr/>
              </p:nvGrpSpPr>
              <p:grpSpPr>
                <a:xfrm>
                  <a:off x="2465280" y="3166920"/>
                  <a:ext cx="2057040" cy="1095480"/>
                  <a:chOff x="2465280" y="3166920"/>
                  <a:chExt cx="2057040" cy="1095480"/>
                </a:xfrm>
              </p:grpSpPr>
              <p:grpSp>
                <p:nvGrpSpPr>
                  <p:cNvPr id="1412" name=""/>
                  <p:cNvGrpSpPr/>
                  <p:nvPr/>
                </p:nvGrpSpPr>
                <p:grpSpPr>
                  <a:xfrm>
                    <a:off x="2465280" y="3166920"/>
                    <a:ext cx="2057040" cy="1095480"/>
                    <a:chOff x="2465280" y="3166920"/>
                    <a:chExt cx="2057040" cy="1095480"/>
                  </a:xfrm>
                </p:grpSpPr>
                <p:sp>
                  <p:nvSpPr>
                    <p:cNvPr id="1413" name=""/>
                    <p:cNvSpPr/>
                    <p:nvPr/>
                  </p:nvSpPr>
                  <p:spPr>
                    <a:xfrm>
                      <a:off x="3264840" y="3395520"/>
                      <a:ext cx="11426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0" h="432">
                          <a:moveTo>
                            <a:pt x="48" y="192"/>
                          </a:moveTo>
                          <a:lnTo>
                            <a:pt x="0" y="432"/>
                          </a:lnTo>
                          <a:lnTo>
                            <a:pt x="720" y="48"/>
                          </a:lnTo>
                          <a:lnTo>
                            <a:pt x="720" y="0"/>
                          </a:lnTo>
                          <a:lnTo>
                            <a:pt x="48" y="19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4" name=""/>
                    <p:cNvSpPr/>
                    <p:nvPr/>
                  </p:nvSpPr>
                  <p:spPr>
                    <a:xfrm>
                      <a:off x="2693520" y="3624120"/>
                      <a:ext cx="456840" cy="4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88">
                          <a:moveTo>
                            <a:pt x="0" y="0"/>
                          </a:moveTo>
                          <a:lnTo>
                            <a:pt x="288" y="48"/>
                          </a:lnTo>
                          <a:lnTo>
                            <a:pt x="240" y="288"/>
                          </a:lnTo>
                          <a:lnTo>
                            <a:pt x="48" y="1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5" name=""/>
                    <p:cNvSpPr/>
                    <p:nvPr/>
                  </p:nvSpPr>
                  <p:spPr>
                    <a:xfrm>
                      <a:off x="3407760" y="3643200"/>
                      <a:ext cx="38052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44">
                          <a:moveTo>
                            <a:pt x="0" y="96"/>
                          </a:moveTo>
                          <a:lnTo>
                            <a:pt x="240" y="0"/>
                          </a:lnTo>
                          <a:lnTo>
                            <a:pt x="240" y="48"/>
                          </a:lnTo>
                          <a:lnTo>
                            <a:pt x="0" y="144"/>
                          </a:lnTo>
                          <a:lnTo>
                            <a:pt x="0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6" name=""/>
                    <p:cNvSpPr/>
                    <p:nvPr/>
                  </p:nvSpPr>
                  <p:spPr>
                    <a:xfrm>
                      <a:off x="2465280" y="3166920"/>
                      <a:ext cx="205704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6" h="312">
                          <a:moveTo>
                            <a:pt x="0" y="144"/>
                          </a:moveTo>
                          <a:lnTo>
                            <a:pt x="510" y="312"/>
                          </a:lnTo>
                          <a:lnTo>
                            <a:pt x="1296" y="48"/>
                          </a:lnTo>
                          <a:lnTo>
                            <a:pt x="720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7" name=""/>
                    <p:cNvSpPr/>
                    <p:nvPr/>
                  </p:nvSpPr>
                  <p:spPr>
                    <a:xfrm flipH="1">
                      <a:off x="3112560" y="3662280"/>
                      <a:ext cx="151920" cy="6001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8" name=""/>
                  <p:cNvSpPr/>
                  <p:nvPr/>
                </p:nvSpPr>
                <p:spPr>
                  <a:xfrm>
                    <a:off x="2490120" y="3414600"/>
                    <a:ext cx="444240" cy="38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44">
                        <a:moveTo>
                          <a:pt x="280" y="84"/>
                        </a:moveTo>
                        <a:lnTo>
                          <a:pt x="60" y="76"/>
                        </a:lnTo>
                        <a:lnTo>
                          <a:pt x="36" y="244"/>
                        </a:lnTo>
                        <a:lnTo>
                          <a:pt x="8" y="180"/>
                        </a:lnTo>
                        <a:lnTo>
                          <a:pt x="0" y="0"/>
                        </a:lnTo>
                        <a:lnTo>
                          <a:pt x="280" y="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9" name=""/>
              <p:cNvGrpSpPr/>
              <p:nvPr/>
            </p:nvGrpSpPr>
            <p:grpSpPr>
              <a:xfrm>
                <a:off x="2455920" y="1805040"/>
                <a:ext cx="1785600" cy="1743120"/>
                <a:chOff x="2455920" y="1805040"/>
                <a:chExt cx="1785600" cy="174312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3151080" y="3129120"/>
                  <a:ext cx="875880" cy="419040"/>
                </a:xfrm>
                <a:custGeom>
                  <a:avLst/>
                  <a:gdLst/>
                  <a:ahLst/>
                  <a:rect l="l" t="t" r="r" b="b"/>
                  <a:pathLst>
                    <a:path w="552" h="264">
                      <a:moveTo>
                        <a:pt x="552" y="0"/>
                      </a:moveTo>
                      <a:lnTo>
                        <a:pt x="444" y="162"/>
                      </a:lnTo>
                      <a:lnTo>
                        <a:pt x="0" y="264"/>
                      </a:lnTo>
                      <a:lnTo>
                        <a:pt x="0" y="168"/>
                      </a:lnTo>
                      <a:lnTo>
                        <a:pt x="5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2455920" y="1805040"/>
                  <a:ext cx="1785600" cy="1712880"/>
                </a:xfrm>
                <a:custGeom>
                  <a:avLst/>
                  <a:gdLst/>
                  <a:ahLst/>
                  <a:rect l="l" t="t" r="r" b="b"/>
                  <a:pathLst>
                    <a:path w="1125" h="1079">
                      <a:moveTo>
                        <a:pt x="1069" y="208"/>
                      </a:moveTo>
                      <a:lnTo>
                        <a:pt x="274" y="0"/>
                      </a:lnTo>
                      <a:lnTo>
                        <a:pt x="0" y="186"/>
                      </a:lnTo>
                      <a:lnTo>
                        <a:pt x="53" y="890"/>
                      </a:lnTo>
                      <a:lnTo>
                        <a:pt x="365" y="1079"/>
                      </a:lnTo>
                      <a:lnTo>
                        <a:pt x="1125" y="846"/>
                      </a:lnTo>
                      <a:lnTo>
                        <a:pt x="1069" y="20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3151080" y="2071800"/>
                  <a:ext cx="914040" cy="1150920"/>
                </a:xfrm>
                <a:custGeom>
                  <a:avLst/>
                  <a:gdLst/>
                  <a:ahLst/>
                  <a:rect l="l" t="t" r="r" b="b"/>
                  <a:pathLst>
                    <a:path w="576" h="725">
                      <a:moveTo>
                        <a:pt x="0" y="0"/>
                      </a:moveTo>
                      <a:lnTo>
                        <a:pt x="534" y="84"/>
                      </a:lnTo>
                      <a:lnTo>
                        <a:pt x="576" y="594"/>
                      </a:lnTo>
                      <a:lnTo>
                        <a:pt x="20" y="7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2643120" y="1967040"/>
                  <a:ext cx="269280" cy="1380960"/>
                </a:xfrm>
                <a:custGeom>
                  <a:avLst/>
                  <a:gdLst/>
                  <a:ahLst/>
                  <a:rect l="l" t="t" r="r" b="b"/>
                  <a:pathLst>
                    <a:path w="170" h="870">
                      <a:moveTo>
                        <a:pt x="4" y="136"/>
                      </a:moveTo>
                      <a:lnTo>
                        <a:pt x="0" y="684"/>
                      </a:lnTo>
                      <a:lnTo>
                        <a:pt x="170" y="870"/>
                      </a:lnTo>
                      <a:lnTo>
                        <a:pt x="98" y="0"/>
                      </a:lnTo>
                      <a:lnTo>
                        <a:pt x="4" y="13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3103560" y="2081160"/>
                  <a:ext cx="837720" cy="1162080"/>
                </a:xfrm>
                <a:custGeom>
                  <a:avLst/>
                  <a:gdLst/>
                  <a:ahLst/>
                  <a:rect l="l" t="t" r="r" b="b"/>
                  <a:pathLst>
                    <a:path w="528" h="732">
                      <a:moveTo>
                        <a:pt x="0" y="0"/>
                      </a:moveTo>
                      <a:lnTo>
                        <a:pt x="510" y="114"/>
                      </a:lnTo>
                      <a:lnTo>
                        <a:pt x="528" y="528"/>
                      </a:lnTo>
                      <a:lnTo>
                        <a:pt x="30" y="7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903400" y="1814400"/>
                  <a:ext cx="123480" cy="1704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465280" y="2068560"/>
                  <a:ext cx="551880" cy="1434960"/>
                </a:xfrm>
                <a:custGeom>
                  <a:avLst/>
                  <a:gdLst/>
                  <a:ahLst/>
                  <a:rect l="l" t="t" r="r" b="b"/>
                  <a:pathLst>
                    <a:path w="348" h="904">
                      <a:moveTo>
                        <a:pt x="0" y="12"/>
                      </a:moveTo>
                      <a:lnTo>
                        <a:pt x="24" y="0"/>
                      </a:lnTo>
                      <a:lnTo>
                        <a:pt x="80" y="612"/>
                      </a:lnTo>
                      <a:lnTo>
                        <a:pt x="348" y="904"/>
                      </a:lnTo>
                      <a:lnTo>
                        <a:pt x="44" y="70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7" name=""/>
            <p:cNvGrpSpPr/>
            <p:nvPr/>
          </p:nvGrpSpPr>
          <p:grpSpPr>
            <a:xfrm>
              <a:off x="1239840" y="4119480"/>
              <a:ext cx="2070000" cy="1193760"/>
              <a:chOff x="1239840" y="4119480"/>
              <a:chExt cx="2070000" cy="1193760"/>
            </a:xfrm>
          </p:grpSpPr>
          <p:sp>
            <p:nvSpPr>
              <p:cNvPr id="1428" name=""/>
              <p:cNvSpPr/>
              <p:nvPr/>
            </p:nvSpPr>
            <p:spPr>
              <a:xfrm>
                <a:off x="1239840" y="4341960"/>
                <a:ext cx="2070000" cy="971280"/>
              </a:xfrm>
              <a:custGeom>
                <a:avLst/>
                <a:gdLst/>
                <a:ahLst/>
                <a:rect l="l" t="t" r="r" b="b"/>
                <a:pathLst>
                  <a:path w="1304" h="612">
                    <a:moveTo>
                      <a:pt x="0" y="208"/>
                    </a:moveTo>
                    <a:lnTo>
                      <a:pt x="348" y="612"/>
                    </a:lnTo>
                    <a:lnTo>
                      <a:pt x="696" y="460"/>
                    </a:lnTo>
                    <a:lnTo>
                      <a:pt x="796" y="436"/>
                    </a:lnTo>
                    <a:lnTo>
                      <a:pt x="832" y="444"/>
                    </a:lnTo>
                    <a:lnTo>
                      <a:pt x="904" y="388"/>
                    </a:lnTo>
                    <a:lnTo>
                      <a:pt x="1304" y="336"/>
                    </a:lnTo>
                    <a:lnTo>
                      <a:pt x="936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808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14560" y="4119480"/>
                <a:ext cx="1284120" cy="800280"/>
              </a:xfrm>
              <a:custGeom>
                <a:avLst/>
                <a:gdLst/>
                <a:ahLst/>
                <a:rect l="l" t="t" r="r" b="b"/>
                <a:pathLst>
                  <a:path w="809" h="504">
                    <a:moveTo>
                      <a:pt x="16" y="124"/>
                    </a:moveTo>
                    <a:cubicBezTo>
                      <a:pt x="45" y="134"/>
                      <a:pt x="32" y="130"/>
                      <a:pt x="56" y="136"/>
                    </a:cubicBezTo>
                    <a:cubicBezTo>
                      <a:pt x="64" y="141"/>
                      <a:pt x="72" y="146"/>
                      <a:pt x="80" y="152"/>
                    </a:cubicBezTo>
                    <a:cubicBezTo>
                      <a:pt x="87" y="157"/>
                      <a:pt x="93" y="163"/>
                      <a:pt x="100" y="168"/>
                    </a:cubicBezTo>
                    <a:cubicBezTo>
                      <a:pt x="110" y="175"/>
                      <a:pt x="132" y="188"/>
                      <a:pt x="132" y="188"/>
                    </a:cubicBezTo>
                    <a:cubicBezTo>
                      <a:pt x="146" y="206"/>
                      <a:pt x="161" y="215"/>
                      <a:pt x="176" y="232"/>
                    </a:cubicBezTo>
                    <a:cubicBezTo>
                      <a:pt x="201" y="262"/>
                      <a:pt x="222" y="296"/>
                      <a:pt x="244" y="328"/>
                    </a:cubicBezTo>
                    <a:cubicBezTo>
                      <a:pt x="257" y="348"/>
                      <a:pt x="280" y="373"/>
                      <a:pt x="288" y="396"/>
                    </a:cubicBezTo>
                    <a:cubicBezTo>
                      <a:pt x="300" y="431"/>
                      <a:pt x="308" y="474"/>
                      <a:pt x="328" y="504"/>
                    </a:cubicBezTo>
                    <a:cubicBezTo>
                      <a:pt x="357" y="494"/>
                      <a:pt x="381" y="473"/>
                      <a:pt x="412" y="464"/>
                    </a:cubicBezTo>
                    <a:cubicBezTo>
                      <a:pt x="436" y="457"/>
                      <a:pt x="463" y="456"/>
                      <a:pt x="488" y="452"/>
                    </a:cubicBezTo>
                    <a:cubicBezTo>
                      <a:pt x="588" y="437"/>
                      <a:pt x="686" y="424"/>
                      <a:pt x="788" y="416"/>
                    </a:cubicBezTo>
                    <a:cubicBezTo>
                      <a:pt x="795" y="415"/>
                      <a:pt x="804" y="417"/>
                      <a:pt x="808" y="412"/>
                    </a:cubicBezTo>
                    <a:cubicBezTo>
                      <a:pt x="809" y="411"/>
                      <a:pt x="796" y="395"/>
                      <a:pt x="788" y="384"/>
                    </a:cubicBezTo>
                    <a:cubicBezTo>
                      <a:pt x="775" y="366"/>
                      <a:pt x="763" y="345"/>
                      <a:pt x="748" y="328"/>
                    </a:cubicBezTo>
                    <a:cubicBezTo>
                      <a:pt x="745" y="325"/>
                      <a:pt x="676" y="247"/>
                      <a:pt x="672" y="244"/>
                    </a:cubicBezTo>
                    <a:cubicBezTo>
                      <a:pt x="656" y="231"/>
                      <a:pt x="641" y="216"/>
                      <a:pt x="624" y="204"/>
                    </a:cubicBezTo>
                    <a:cubicBezTo>
                      <a:pt x="606" y="191"/>
                      <a:pt x="585" y="183"/>
                      <a:pt x="568" y="168"/>
                    </a:cubicBezTo>
                    <a:cubicBezTo>
                      <a:pt x="544" y="147"/>
                      <a:pt x="518" y="117"/>
                      <a:pt x="492" y="100"/>
                    </a:cubicBezTo>
                    <a:cubicBezTo>
                      <a:pt x="460" y="52"/>
                      <a:pt x="418" y="71"/>
                      <a:pt x="360" y="68"/>
                    </a:cubicBezTo>
                    <a:cubicBezTo>
                      <a:pt x="292" y="64"/>
                      <a:pt x="168" y="0"/>
                      <a:pt x="84" y="48"/>
                    </a:cubicBezTo>
                    <a:cubicBezTo>
                      <a:pt x="0" y="96"/>
                      <a:pt x="44" y="100"/>
                      <a:pt x="20" y="108"/>
                    </a:cubicBezTo>
                    <a:cubicBezTo>
                      <a:pt x="16" y="121"/>
                      <a:pt x="16" y="116"/>
                      <a:pt x="16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322280" y="4249800"/>
                <a:ext cx="1219320" cy="955440"/>
              </a:xfrm>
              <a:custGeom>
                <a:avLst/>
                <a:gdLst/>
                <a:ahLst/>
                <a:rect l="l" t="t" r="r" b="b"/>
                <a:pathLst>
                  <a:path w="768" h="602">
                    <a:moveTo>
                      <a:pt x="768" y="446"/>
                    </a:moveTo>
                    <a:cubicBezTo>
                      <a:pt x="752" y="425"/>
                      <a:pt x="695" y="274"/>
                      <a:pt x="648" y="210"/>
                    </a:cubicBezTo>
                    <a:cubicBezTo>
                      <a:pt x="601" y="146"/>
                      <a:pt x="528" y="93"/>
                      <a:pt x="488" y="62"/>
                    </a:cubicBezTo>
                    <a:cubicBezTo>
                      <a:pt x="448" y="31"/>
                      <a:pt x="428" y="31"/>
                      <a:pt x="408" y="22"/>
                    </a:cubicBezTo>
                    <a:cubicBezTo>
                      <a:pt x="395" y="17"/>
                      <a:pt x="381" y="14"/>
                      <a:pt x="368" y="10"/>
                    </a:cubicBezTo>
                    <a:cubicBezTo>
                      <a:pt x="364" y="9"/>
                      <a:pt x="356" y="6"/>
                      <a:pt x="356" y="6"/>
                    </a:cubicBezTo>
                    <a:cubicBezTo>
                      <a:pt x="316" y="8"/>
                      <a:pt x="274" y="0"/>
                      <a:pt x="236" y="14"/>
                    </a:cubicBezTo>
                    <a:cubicBezTo>
                      <a:pt x="178" y="43"/>
                      <a:pt x="41" y="143"/>
                      <a:pt x="8" y="178"/>
                    </a:cubicBezTo>
                    <a:cubicBezTo>
                      <a:pt x="0" y="202"/>
                      <a:pt x="21" y="207"/>
                      <a:pt x="36" y="226"/>
                    </a:cubicBezTo>
                    <a:cubicBezTo>
                      <a:pt x="63" y="262"/>
                      <a:pt x="128" y="338"/>
                      <a:pt x="168" y="394"/>
                    </a:cubicBezTo>
                    <a:cubicBezTo>
                      <a:pt x="191" y="429"/>
                      <a:pt x="257" y="531"/>
                      <a:pt x="276" y="562"/>
                    </a:cubicBezTo>
                    <a:cubicBezTo>
                      <a:pt x="298" y="597"/>
                      <a:pt x="295" y="593"/>
                      <a:pt x="300" y="602"/>
                    </a:cubicBezTo>
                    <a:cubicBezTo>
                      <a:pt x="311" y="599"/>
                      <a:pt x="327" y="544"/>
                      <a:pt x="400" y="518"/>
                    </a:cubicBezTo>
                    <a:cubicBezTo>
                      <a:pt x="473" y="492"/>
                      <a:pt x="675" y="460"/>
                      <a:pt x="736" y="446"/>
                    </a:cubicBezTo>
                    <a:cubicBezTo>
                      <a:pt x="760" y="441"/>
                      <a:pt x="751" y="447"/>
                      <a:pt x="764" y="43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268360" y="4386240"/>
                <a:ext cx="527400" cy="49536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0" y="0"/>
                    </a:moveTo>
                    <a:lnTo>
                      <a:pt x="108" y="116"/>
                    </a:lnTo>
                    <a:lnTo>
                      <a:pt x="180" y="312"/>
                    </a:lnTo>
                    <a:lnTo>
                      <a:pt x="248" y="284"/>
                    </a:lnTo>
                    <a:lnTo>
                      <a:pt x="332" y="264"/>
                    </a:lnTo>
                    <a:lnTo>
                      <a:pt x="248" y="128"/>
                    </a:lnTo>
                    <a:lnTo>
                      <a:pt x="200" y="172"/>
                    </a:lnTo>
                    <a:lnTo>
                      <a:pt x="144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620720" y="4316400"/>
                <a:ext cx="863640" cy="635040"/>
              </a:xfrm>
              <a:custGeom>
                <a:avLst/>
                <a:gdLst/>
                <a:ahLst/>
                <a:rect l="l" t="t" r="r" b="b"/>
                <a:pathLst>
                  <a:path w="544" h="400">
                    <a:moveTo>
                      <a:pt x="0" y="32"/>
                    </a:moveTo>
                    <a:lnTo>
                      <a:pt x="228" y="136"/>
                    </a:lnTo>
                    <a:lnTo>
                      <a:pt x="376" y="300"/>
                    </a:lnTo>
                    <a:lnTo>
                      <a:pt x="424" y="400"/>
                    </a:lnTo>
                    <a:lnTo>
                      <a:pt x="468" y="388"/>
                    </a:lnTo>
                    <a:lnTo>
                      <a:pt x="388" y="228"/>
                    </a:lnTo>
                    <a:lnTo>
                      <a:pt x="508" y="388"/>
                    </a:lnTo>
                    <a:lnTo>
                      <a:pt x="544" y="380"/>
                    </a:lnTo>
                    <a:lnTo>
                      <a:pt x="372" y="156"/>
                    </a:lnTo>
                    <a:lnTo>
                      <a:pt x="260" y="76"/>
                    </a:lnTo>
                    <a:lnTo>
                      <a:pt x="212" y="28"/>
                    </a:lnTo>
                    <a:lnTo>
                      <a:pt x="164" y="48"/>
                    </a:lnTo>
                    <a:lnTo>
                      <a:pt x="116" y="40"/>
                    </a:lnTo>
                    <a:lnTo>
                      <a:pt x="4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246320" y="4506840"/>
                <a:ext cx="787320" cy="730440"/>
              </a:xfrm>
              <a:custGeom>
                <a:avLst/>
                <a:gdLst/>
                <a:ahLst/>
                <a:rect l="l" t="t" r="r" b="b"/>
                <a:pathLst>
                  <a:path w="496" h="460">
                    <a:moveTo>
                      <a:pt x="0" y="12"/>
                    </a:moveTo>
                    <a:lnTo>
                      <a:pt x="56" y="0"/>
                    </a:lnTo>
                    <a:lnTo>
                      <a:pt x="64" y="4"/>
                    </a:lnTo>
                    <a:lnTo>
                      <a:pt x="212" y="88"/>
                    </a:lnTo>
                    <a:lnTo>
                      <a:pt x="328" y="300"/>
                    </a:lnTo>
                    <a:lnTo>
                      <a:pt x="496" y="332"/>
                    </a:lnTo>
                    <a:lnTo>
                      <a:pt x="392" y="380"/>
                    </a:lnTo>
                    <a:lnTo>
                      <a:pt x="336" y="460"/>
                    </a:lnTo>
                    <a:lnTo>
                      <a:pt x="200" y="204"/>
                    </a:lnTo>
                    <a:lnTo>
                      <a:pt x="56" y="6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35960" y="2116080"/>
              <a:ext cx="3507840" cy="3357720"/>
              <a:chOff x="4035960" y="2116080"/>
              <a:chExt cx="3507840" cy="3357720"/>
            </a:xfrm>
          </p:grpSpPr>
          <p:grpSp>
            <p:nvGrpSpPr>
              <p:cNvPr id="1435" name=""/>
              <p:cNvGrpSpPr/>
              <p:nvPr/>
            </p:nvGrpSpPr>
            <p:grpSpPr>
              <a:xfrm>
                <a:off x="4192560" y="3116160"/>
                <a:ext cx="1263600" cy="563400"/>
                <a:chOff x="4192560" y="3116160"/>
                <a:chExt cx="1263600" cy="56340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4192560" y="3116160"/>
                  <a:ext cx="739800" cy="423720"/>
                </a:xfrm>
                <a:custGeom>
                  <a:avLst/>
                  <a:gdLst/>
                  <a:ahLst/>
                  <a:rect l="l" t="t" r="r" b="b"/>
                  <a:pathLst>
                    <a:path w="466" h="267">
                      <a:moveTo>
                        <a:pt x="0" y="120"/>
                      </a:moveTo>
                      <a:cubicBezTo>
                        <a:pt x="29" y="108"/>
                        <a:pt x="144" y="40"/>
                        <a:pt x="202" y="24"/>
                      </a:cubicBezTo>
                      <a:cubicBezTo>
                        <a:pt x="260" y="8"/>
                        <a:pt x="351" y="0"/>
                        <a:pt x="364" y="30"/>
                      </a:cubicBezTo>
                      <a:cubicBezTo>
                        <a:pt x="377" y="60"/>
                        <a:pt x="274" y="170"/>
                        <a:pt x="280" y="204"/>
                      </a:cubicBezTo>
                      <a:cubicBezTo>
                        <a:pt x="293" y="267"/>
                        <a:pt x="330" y="238"/>
                        <a:pt x="400" y="234"/>
                      </a:cubicBezTo>
                      <a:cubicBezTo>
                        <a:pt x="426" y="229"/>
                        <a:pt x="447" y="229"/>
                        <a:pt x="466" y="21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4859280" y="3344760"/>
                  <a:ext cx="596880" cy="334800"/>
                </a:xfrm>
                <a:custGeom>
                  <a:avLst/>
                  <a:gdLst/>
                  <a:ahLst/>
                  <a:rect l="l" t="t" r="r" b="b"/>
                  <a:pathLst>
                    <a:path w="376" h="211">
                      <a:moveTo>
                        <a:pt x="10" y="138"/>
                      </a:moveTo>
                      <a:cubicBezTo>
                        <a:pt x="12" y="113"/>
                        <a:pt x="0" y="53"/>
                        <a:pt x="46" y="30"/>
                      </a:cubicBezTo>
                      <a:cubicBezTo>
                        <a:pt x="92" y="7"/>
                        <a:pt x="233" y="1"/>
                        <a:pt x="286" y="0"/>
                      </a:cubicBezTo>
                      <a:lnTo>
                        <a:pt x="364" y="24"/>
                      </a:lnTo>
                      <a:lnTo>
                        <a:pt x="376" y="84"/>
                      </a:lnTo>
                      <a:cubicBezTo>
                        <a:pt x="370" y="112"/>
                        <a:pt x="356" y="173"/>
                        <a:pt x="328" y="192"/>
                      </a:cubicBezTo>
                      <a:cubicBezTo>
                        <a:pt x="300" y="211"/>
                        <a:pt x="243" y="202"/>
                        <a:pt x="208" y="198"/>
                      </a:cubicBezTo>
                      <a:cubicBezTo>
                        <a:pt x="173" y="194"/>
                        <a:pt x="147" y="171"/>
                        <a:pt x="118" y="168"/>
                      </a:cubicBezTo>
                      <a:cubicBezTo>
                        <a:pt x="89" y="165"/>
                        <a:pt x="52" y="185"/>
                        <a:pt x="34" y="180"/>
                      </a:cubicBezTo>
                      <a:cubicBezTo>
                        <a:pt x="16" y="175"/>
                        <a:pt x="8" y="163"/>
                        <a:pt x="10" y="1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>
                  <a:off x="5008320" y="3430440"/>
                  <a:ext cx="11412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 flipV="1">
                  <a:off x="4970160" y="3487680"/>
                  <a:ext cx="1047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145120" y="3471840"/>
                  <a:ext cx="24120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0" y="28"/>
                      </a:moveTo>
                      <a:lnTo>
                        <a:pt x="100" y="40"/>
                      </a:lnTo>
                      <a:lnTo>
                        <a:pt x="140" y="0"/>
                      </a:lnTo>
                      <a:lnTo>
                        <a:pt x="152" y="44"/>
                      </a:lnTo>
                      <a:lnTo>
                        <a:pt x="112" y="96"/>
                      </a:lnTo>
                      <a:lnTo>
                        <a:pt x="24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1" name=""/>
              <p:cNvSpPr/>
              <p:nvPr/>
            </p:nvSpPr>
            <p:spPr>
              <a:xfrm>
                <a:off x="4237200" y="211608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210" y="0"/>
                    </a:lnTo>
                    <a:lnTo>
                      <a:pt x="240" y="5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398840" y="2440080"/>
                <a:ext cx="40968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0" y="54"/>
                    </a:moveTo>
                    <a:lnTo>
                      <a:pt x="258" y="0"/>
                    </a:lnTo>
                    <a:lnTo>
                      <a:pt x="24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379760" y="2782800"/>
                <a:ext cx="257400" cy="162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0" y="0"/>
                    </a:moveTo>
                    <a:lnTo>
                      <a:pt x="162" y="60"/>
                    </a:lnTo>
                    <a:lnTo>
                      <a:pt x="12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4" name=""/>
              <p:cNvGrpSpPr/>
              <p:nvPr/>
            </p:nvGrpSpPr>
            <p:grpSpPr>
              <a:xfrm>
                <a:off x="4035960" y="3966120"/>
                <a:ext cx="1084320" cy="709200"/>
                <a:chOff x="4035960" y="3966120"/>
                <a:chExt cx="1084320" cy="709200"/>
              </a:xfrm>
            </p:grpSpPr>
            <p:sp>
              <p:nvSpPr>
                <p:cNvPr id="1445" name=""/>
                <p:cNvSpPr/>
                <p:nvPr/>
              </p:nvSpPr>
              <p:spPr>
                <a:xfrm rot="105000">
                  <a:off x="4542480" y="3969720"/>
                  <a:ext cx="254160" cy="300600"/>
                </a:xfrm>
                <a:custGeom>
                  <a:avLst/>
                  <a:gdLst/>
                  <a:ahLst/>
                  <a:rect l="l" t="t" r="r" b="b"/>
                  <a:pathLst>
                    <a:path w="183" h="224">
                      <a:moveTo>
                        <a:pt x="27" y="100"/>
                      </a:moveTo>
                      <a:cubicBezTo>
                        <a:pt x="5" y="67"/>
                        <a:pt x="0" y="31"/>
                        <a:pt x="31" y="0"/>
                      </a:cubicBezTo>
                      <a:lnTo>
                        <a:pt x="119" y="80"/>
                      </a:lnTo>
                      <a:lnTo>
                        <a:pt x="183" y="224"/>
                      </a:lnTo>
                      <a:lnTo>
                        <a:pt x="27" y="1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rot="105000">
                  <a:off x="4044240" y="4084560"/>
                  <a:ext cx="1067040" cy="574200"/>
                </a:xfrm>
                <a:custGeom>
                  <a:avLst/>
                  <a:gdLst/>
                  <a:ahLst/>
                  <a:rect l="l" t="t" r="r" b="b"/>
                  <a:pathLst>
                    <a:path w="768" h="428">
                      <a:moveTo>
                        <a:pt x="0" y="116"/>
                      </a:moveTo>
                      <a:lnTo>
                        <a:pt x="264" y="16"/>
                      </a:lnTo>
                      <a:lnTo>
                        <a:pt x="524" y="0"/>
                      </a:lnTo>
                      <a:lnTo>
                        <a:pt x="660" y="240"/>
                      </a:lnTo>
                      <a:cubicBezTo>
                        <a:pt x="701" y="292"/>
                        <a:pt x="765" y="294"/>
                        <a:pt x="768" y="312"/>
                      </a:cubicBezTo>
                      <a:cubicBezTo>
                        <a:pt x="708" y="332"/>
                        <a:pt x="718" y="318"/>
                        <a:pt x="680" y="348"/>
                      </a:cubicBezTo>
                      <a:cubicBezTo>
                        <a:pt x="637" y="375"/>
                        <a:pt x="636" y="376"/>
                        <a:pt x="612" y="428"/>
                      </a:cubicBezTo>
                      <a:cubicBezTo>
                        <a:pt x="564" y="352"/>
                        <a:pt x="569" y="373"/>
                        <a:pt x="536" y="352"/>
                      </a:cubicBezTo>
                      <a:cubicBezTo>
                        <a:pt x="503" y="331"/>
                        <a:pt x="447" y="330"/>
                        <a:pt x="412" y="300"/>
                      </a:cubicBezTo>
                      <a:cubicBezTo>
                        <a:pt x="392" y="278"/>
                        <a:pt x="382" y="187"/>
                        <a:pt x="328" y="172"/>
                      </a:cubicBezTo>
                      <a:lnTo>
                        <a:pt x="64" y="168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7" name=""/>
              <p:cNvSpPr/>
              <p:nvPr/>
            </p:nvSpPr>
            <p:spPr>
              <a:xfrm>
                <a:off x="5977080" y="2278080"/>
                <a:ext cx="799920" cy="1485720"/>
              </a:xfrm>
              <a:custGeom>
                <a:avLst/>
                <a:gdLst/>
                <a:ahLst/>
                <a:rect l="l" t="t" r="r" b="b"/>
                <a:pathLst>
                  <a:path w="504" h="936">
                    <a:moveTo>
                      <a:pt x="192" y="936"/>
                    </a:moveTo>
                    <a:lnTo>
                      <a:pt x="152" y="882"/>
                    </a:lnTo>
                    <a:lnTo>
                      <a:pt x="183" y="782"/>
                    </a:lnTo>
                    <a:cubicBezTo>
                      <a:pt x="182" y="737"/>
                      <a:pt x="168" y="746"/>
                      <a:pt x="108" y="731"/>
                    </a:cubicBezTo>
                    <a:cubicBezTo>
                      <a:pt x="95" y="712"/>
                      <a:pt x="55" y="673"/>
                      <a:pt x="45" y="651"/>
                    </a:cubicBezTo>
                    <a:cubicBezTo>
                      <a:pt x="22" y="599"/>
                      <a:pt x="4" y="512"/>
                      <a:pt x="0" y="457"/>
                    </a:cubicBezTo>
                    <a:cubicBezTo>
                      <a:pt x="1" y="397"/>
                      <a:pt x="0" y="206"/>
                      <a:pt x="49" y="131"/>
                    </a:cubicBezTo>
                    <a:cubicBezTo>
                      <a:pt x="57" y="97"/>
                      <a:pt x="85" y="83"/>
                      <a:pt x="103" y="54"/>
                    </a:cubicBezTo>
                    <a:cubicBezTo>
                      <a:pt x="125" y="20"/>
                      <a:pt x="146" y="8"/>
                      <a:pt x="187" y="0"/>
                    </a:cubicBezTo>
                    <a:cubicBezTo>
                      <a:pt x="226" y="3"/>
                      <a:pt x="264" y="6"/>
                      <a:pt x="303" y="14"/>
                    </a:cubicBezTo>
                    <a:cubicBezTo>
                      <a:pt x="367" y="46"/>
                      <a:pt x="416" y="75"/>
                      <a:pt x="446" y="145"/>
                    </a:cubicBezTo>
                    <a:cubicBezTo>
                      <a:pt x="456" y="168"/>
                      <a:pt x="457" y="193"/>
                      <a:pt x="468" y="217"/>
                    </a:cubicBezTo>
                    <a:cubicBezTo>
                      <a:pt x="479" y="271"/>
                      <a:pt x="484" y="326"/>
                      <a:pt x="495" y="380"/>
                    </a:cubicBezTo>
                    <a:cubicBezTo>
                      <a:pt x="504" y="475"/>
                      <a:pt x="500" y="413"/>
                      <a:pt x="500" y="565"/>
                    </a:cubicBezTo>
                    <a:lnTo>
                      <a:pt x="500" y="719"/>
                    </a:lnTo>
                    <a:lnTo>
                      <a:pt x="303" y="877"/>
                    </a:lnTo>
                    <a:lnTo>
                      <a:pt x="192" y="9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904000" y="2160720"/>
                <a:ext cx="1189080" cy="1182600"/>
              </a:xfrm>
              <a:custGeom>
                <a:avLst/>
                <a:gdLst/>
                <a:ahLst/>
                <a:rect l="l" t="t" r="r" b="b"/>
                <a:pathLst>
                  <a:path w="749" h="745">
                    <a:moveTo>
                      <a:pt x="563" y="679"/>
                    </a:moveTo>
                    <a:lnTo>
                      <a:pt x="643" y="602"/>
                    </a:lnTo>
                    <a:lnTo>
                      <a:pt x="719" y="498"/>
                    </a:lnTo>
                    <a:lnTo>
                      <a:pt x="749" y="360"/>
                    </a:lnTo>
                    <a:lnTo>
                      <a:pt x="683" y="150"/>
                    </a:lnTo>
                    <a:lnTo>
                      <a:pt x="623" y="48"/>
                    </a:lnTo>
                    <a:lnTo>
                      <a:pt x="515" y="0"/>
                    </a:lnTo>
                    <a:lnTo>
                      <a:pt x="149" y="72"/>
                    </a:lnTo>
                    <a:lnTo>
                      <a:pt x="0" y="159"/>
                    </a:lnTo>
                    <a:lnTo>
                      <a:pt x="1" y="289"/>
                    </a:lnTo>
                    <a:lnTo>
                      <a:pt x="88" y="385"/>
                    </a:lnTo>
                    <a:lnTo>
                      <a:pt x="184" y="415"/>
                    </a:lnTo>
                    <a:lnTo>
                      <a:pt x="160" y="505"/>
                    </a:lnTo>
                    <a:lnTo>
                      <a:pt x="229" y="535"/>
                    </a:lnTo>
                    <a:lnTo>
                      <a:pt x="238" y="643"/>
                    </a:lnTo>
                    <a:lnTo>
                      <a:pt x="358" y="730"/>
                    </a:lnTo>
                    <a:lnTo>
                      <a:pt x="484" y="745"/>
                    </a:lnTo>
                    <a:lnTo>
                      <a:pt x="563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097680" y="2254320"/>
                <a:ext cx="809640" cy="322200"/>
              </a:xfrm>
              <a:custGeom>
                <a:avLst/>
                <a:gdLst/>
                <a:ahLst/>
                <a:rect l="l" t="t" r="r" b="b"/>
                <a:pathLst>
                  <a:path w="456" h="180">
                    <a:moveTo>
                      <a:pt x="64" y="32"/>
                    </a:moveTo>
                    <a:lnTo>
                      <a:pt x="4" y="52"/>
                    </a:lnTo>
                    <a:lnTo>
                      <a:pt x="0" y="116"/>
                    </a:lnTo>
                    <a:lnTo>
                      <a:pt x="96" y="124"/>
                    </a:lnTo>
                    <a:lnTo>
                      <a:pt x="140" y="76"/>
                    </a:lnTo>
                    <a:lnTo>
                      <a:pt x="244" y="180"/>
                    </a:lnTo>
                    <a:lnTo>
                      <a:pt x="244" y="92"/>
                    </a:lnTo>
                    <a:lnTo>
                      <a:pt x="332" y="88"/>
                    </a:lnTo>
                    <a:lnTo>
                      <a:pt x="448" y="152"/>
                    </a:lnTo>
                    <a:lnTo>
                      <a:pt x="456" y="84"/>
                    </a:lnTo>
                    <a:lnTo>
                      <a:pt x="408" y="24"/>
                    </a:lnTo>
                    <a:lnTo>
                      <a:pt x="312" y="0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962680" y="2600280"/>
                <a:ext cx="480960" cy="1092240"/>
              </a:xfrm>
              <a:custGeom>
                <a:avLst/>
                <a:gdLst/>
                <a:ahLst/>
                <a:rect l="l" t="t" r="r" b="b"/>
                <a:pathLst>
                  <a:path w="303" h="688">
                    <a:moveTo>
                      <a:pt x="51" y="18"/>
                    </a:moveTo>
                    <a:lnTo>
                      <a:pt x="18" y="126"/>
                    </a:lnTo>
                    <a:lnTo>
                      <a:pt x="33" y="303"/>
                    </a:lnTo>
                    <a:lnTo>
                      <a:pt x="65" y="439"/>
                    </a:lnTo>
                    <a:lnTo>
                      <a:pt x="117" y="513"/>
                    </a:lnTo>
                    <a:lnTo>
                      <a:pt x="210" y="516"/>
                    </a:lnTo>
                    <a:lnTo>
                      <a:pt x="303" y="498"/>
                    </a:lnTo>
                    <a:lnTo>
                      <a:pt x="228" y="561"/>
                    </a:lnTo>
                    <a:lnTo>
                      <a:pt x="193" y="688"/>
                    </a:lnTo>
                    <a:cubicBezTo>
                      <a:pt x="183" y="686"/>
                      <a:pt x="184" y="575"/>
                      <a:pt x="165" y="549"/>
                    </a:cubicBezTo>
                    <a:cubicBezTo>
                      <a:pt x="150" y="546"/>
                      <a:pt x="106" y="570"/>
                      <a:pt x="78" y="531"/>
                    </a:cubicBezTo>
                    <a:lnTo>
                      <a:pt x="0" y="315"/>
                    </a:lnTo>
                    <a:lnTo>
                      <a:pt x="3" y="99"/>
                    </a:lnTo>
                    <a:lnTo>
                      <a:pt x="18" y="0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607080" y="2922480"/>
                <a:ext cx="44640" cy="1126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8"/>
                    </a:moveTo>
                    <a:lnTo>
                      <a:pt x="28" y="0"/>
                    </a:lnTo>
                    <a:lnTo>
                      <a:pt x="16" y="7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729480" y="2936880"/>
                <a:ext cx="268200" cy="244440"/>
              </a:xfrm>
              <a:custGeom>
                <a:avLst/>
                <a:gdLst/>
                <a:ahLst/>
                <a:rect l="l" t="t" r="r" b="b"/>
                <a:pathLst>
                  <a:path w="169" h="154">
                    <a:moveTo>
                      <a:pt x="9" y="154"/>
                    </a:moveTo>
                    <a:lnTo>
                      <a:pt x="0" y="73"/>
                    </a:lnTo>
                    <a:lnTo>
                      <a:pt x="67" y="6"/>
                    </a:lnTo>
                    <a:lnTo>
                      <a:pt x="79" y="60"/>
                    </a:lnTo>
                    <a:lnTo>
                      <a:pt x="115" y="27"/>
                    </a:lnTo>
                    <a:lnTo>
                      <a:pt x="169" y="0"/>
                    </a:lnTo>
                    <a:lnTo>
                      <a:pt x="121" y="60"/>
                    </a:lnTo>
                    <a:lnTo>
                      <a:pt x="9" y="15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979880" y="3452760"/>
                <a:ext cx="2540160" cy="2021040"/>
              </a:xfrm>
              <a:custGeom>
                <a:avLst/>
                <a:gdLst/>
                <a:ahLst/>
                <a:rect l="l" t="t" r="r" b="b"/>
                <a:pathLst>
                  <a:path w="1600" h="1273">
                    <a:moveTo>
                      <a:pt x="1404" y="112"/>
                    </a:moveTo>
                    <a:lnTo>
                      <a:pt x="1152" y="0"/>
                    </a:lnTo>
                    <a:lnTo>
                      <a:pt x="926" y="164"/>
                    </a:lnTo>
                    <a:lnTo>
                      <a:pt x="845" y="200"/>
                    </a:lnTo>
                    <a:lnTo>
                      <a:pt x="746" y="245"/>
                    </a:lnTo>
                    <a:lnTo>
                      <a:pt x="575" y="311"/>
                    </a:lnTo>
                    <a:lnTo>
                      <a:pt x="476" y="380"/>
                    </a:lnTo>
                    <a:lnTo>
                      <a:pt x="296" y="688"/>
                    </a:lnTo>
                    <a:cubicBezTo>
                      <a:pt x="296" y="688"/>
                      <a:pt x="275" y="749"/>
                      <a:pt x="255" y="811"/>
                    </a:cubicBezTo>
                    <a:cubicBezTo>
                      <a:pt x="222" y="848"/>
                      <a:pt x="141" y="859"/>
                      <a:pt x="99" y="910"/>
                    </a:cubicBezTo>
                    <a:cubicBezTo>
                      <a:pt x="57" y="961"/>
                      <a:pt x="46" y="965"/>
                      <a:pt x="0" y="1120"/>
                    </a:cubicBezTo>
                    <a:cubicBezTo>
                      <a:pt x="130" y="1193"/>
                      <a:pt x="449" y="1273"/>
                      <a:pt x="584" y="1220"/>
                    </a:cubicBezTo>
                    <a:cubicBezTo>
                      <a:pt x="656" y="1172"/>
                      <a:pt x="684" y="908"/>
                      <a:pt x="840" y="812"/>
                    </a:cubicBezTo>
                    <a:cubicBezTo>
                      <a:pt x="996" y="716"/>
                      <a:pt x="1136" y="680"/>
                      <a:pt x="1304" y="672"/>
                    </a:cubicBezTo>
                    <a:cubicBezTo>
                      <a:pt x="1472" y="664"/>
                      <a:pt x="1552" y="764"/>
                      <a:pt x="1592" y="824"/>
                    </a:cubicBezTo>
                    <a:cubicBezTo>
                      <a:pt x="1596" y="684"/>
                      <a:pt x="1600" y="544"/>
                      <a:pt x="1600" y="544"/>
                    </a:cubicBezTo>
                    <a:lnTo>
                      <a:pt x="1512" y="188"/>
                    </a:lnTo>
                    <a:lnTo>
                      <a:pt x="1404" y="11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91280" y="3745080"/>
                <a:ext cx="1288800" cy="1371600"/>
              </a:xfrm>
              <a:custGeom>
                <a:avLst/>
                <a:gdLst/>
                <a:ahLst/>
                <a:rect l="l" t="t" r="r" b="b"/>
                <a:pathLst>
                  <a:path w="812" h="864">
                    <a:moveTo>
                      <a:pt x="576" y="32"/>
                    </a:moveTo>
                    <a:lnTo>
                      <a:pt x="364" y="112"/>
                    </a:lnTo>
                    <a:lnTo>
                      <a:pt x="260" y="180"/>
                    </a:lnTo>
                    <a:lnTo>
                      <a:pt x="68" y="492"/>
                    </a:lnTo>
                    <a:lnTo>
                      <a:pt x="0" y="864"/>
                    </a:lnTo>
                    <a:lnTo>
                      <a:pt x="116" y="648"/>
                    </a:lnTo>
                    <a:lnTo>
                      <a:pt x="116" y="540"/>
                    </a:lnTo>
                    <a:lnTo>
                      <a:pt x="356" y="160"/>
                    </a:lnTo>
                    <a:lnTo>
                      <a:pt x="532" y="92"/>
                    </a:lnTo>
                    <a:lnTo>
                      <a:pt x="812" y="52"/>
                    </a:lnTo>
                    <a:lnTo>
                      <a:pt x="620" y="0"/>
                    </a:lnTo>
                    <a:lnTo>
                      <a:pt x="57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797520" y="3436920"/>
                <a:ext cx="690840" cy="727200"/>
              </a:xfrm>
              <a:custGeom>
                <a:avLst/>
                <a:gdLst/>
                <a:ahLst/>
                <a:rect l="l" t="t" r="r" b="b"/>
                <a:pathLst>
                  <a:path w="435" h="458">
                    <a:moveTo>
                      <a:pt x="6" y="0"/>
                    </a:moveTo>
                    <a:lnTo>
                      <a:pt x="387" y="178"/>
                    </a:lnTo>
                    <a:lnTo>
                      <a:pt x="435" y="458"/>
                    </a:lnTo>
                    <a:lnTo>
                      <a:pt x="331" y="198"/>
                    </a:lnTo>
                    <a:lnTo>
                      <a:pt x="247" y="210"/>
                    </a:lnTo>
                    <a:lnTo>
                      <a:pt x="167" y="142"/>
                    </a:lnTo>
                    <a:lnTo>
                      <a:pt x="255" y="326"/>
                    </a:lnTo>
                    <a:lnTo>
                      <a:pt x="83" y="170"/>
                    </a:lnTo>
                    <a:lnTo>
                      <a:pt x="73" y="92"/>
                    </a:lnTo>
                    <a:lnTo>
                      <a:pt x="109" y="74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551560" y="4290840"/>
                <a:ext cx="234720" cy="444600"/>
              </a:xfrm>
              <a:custGeom>
                <a:avLst/>
                <a:gdLst/>
                <a:ahLst/>
                <a:rect l="l" t="t" r="r" b="b"/>
                <a:pathLst>
                  <a:path w="148" h="280">
                    <a:moveTo>
                      <a:pt x="136" y="0"/>
                    </a:moveTo>
                    <a:lnTo>
                      <a:pt x="12" y="188"/>
                    </a:lnTo>
                    <a:lnTo>
                      <a:pt x="0" y="264"/>
                    </a:lnTo>
                    <a:lnTo>
                      <a:pt x="68" y="280"/>
                    </a:lnTo>
                    <a:lnTo>
                      <a:pt x="148" y="216"/>
                    </a:lnTo>
                    <a:lnTo>
                      <a:pt x="136" y="156"/>
                    </a:lnTo>
                    <a:lnTo>
                      <a:pt x="120" y="204"/>
                    </a:lnTo>
                    <a:lnTo>
                      <a:pt x="56" y="22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859280" y="4462560"/>
                <a:ext cx="569880" cy="628560"/>
              </a:xfrm>
              <a:custGeom>
                <a:avLst/>
                <a:gdLst/>
                <a:ahLst/>
                <a:rect l="l" t="t" r="r" b="b"/>
                <a:pathLst>
                  <a:path w="359" h="396">
                    <a:moveTo>
                      <a:pt x="172" y="20"/>
                    </a:moveTo>
                    <a:cubicBezTo>
                      <a:pt x="128" y="0"/>
                      <a:pt x="109" y="25"/>
                      <a:pt x="80" y="44"/>
                    </a:cubicBezTo>
                    <a:cubicBezTo>
                      <a:pt x="51" y="63"/>
                      <a:pt x="15" y="109"/>
                      <a:pt x="0" y="136"/>
                    </a:cubicBezTo>
                    <a:lnTo>
                      <a:pt x="0" y="204"/>
                    </a:lnTo>
                    <a:lnTo>
                      <a:pt x="100" y="396"/>
                    </a:lnTo>
                    <a:lnTo>
                      <a:pt x="160" y="292"/>
                    </a:lnTo>
                    <a:lnTo>
                      <a:pt x="253" y="211"/>
                    </a:lnTo>
                    <a:cubicBezTo>
                      <a:pt x="334" y="183"/>
                      <a:pt x="359" y="193"/>
                      <a:pt x="344" y="164"/>
                    </a:cubicBezTo>
                    <a:lnTo>
                      <a:pt x="172" y="20"/>
                    </a:lnTo>
                    <a:close/>
                  </a:path>
                </a:pathLst>
              </a:custGeom>
              <a:solidFill>
                <a:srgbClr val="9933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859280" y="4557600"/>
                <a:ext cx="247680" cy="559080"/>
              </a:xfrm>
              <a:custGeom>
                <a:avLst/>
                <a:gdLst/>
                <a:ahLst/>
                <a:rect l="l" t="t" r="r" b="b"/>
                <a:pathLst>
                  <a:path w="156" h="352">
                    <a:moveTo>
                      <a:pt x="72" y="0"/>
                    </a:moveTo>
                    <a:lnTo>
                      <a:pt x="44" y="100"/>
                    </a:lnTo>
                    <a:lnTo>
                      <a:pt x="92" y="168"/>
                    </a:lnTo>
                    <a:lnTo>
                      <a:pt x="100" y="240"/>
                    </a:lnTo>
                    <a:lnTo>
                      <a:pt x="156" y="240"/>
                    </a:lnTo>
                    <a:lnTo>
                      <a:pt x="96" y="352"/>
                    </a:lnTo>
                    <a:lnTo>
                      <a:pt x="0" y="124"/>
                    </a:lnTo>
                    <a:lnTo>
                      <a:pt x="12" y="6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398920" y="4735440"/>
                <a:ext cx="41940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81" y="72"/>
                    </a:moveTo>
                    <a:lnTo>
                      <a:pt x="0" y="204"/>
                    </a:lnTo>
                    <a:lnTo>
                      <a:pt x="6" y="276"/>
                    </a:lnTo>
                    <a:lnTo>
                      <a:pt x="93" y="324"/>
                    </a:lnTo>
                    <a:lnTo>
                      <a:pt x="186" y="279"/>
                    </a:lnTo>
                    <a:lnTo>
                      <a:pt x="183" y="216"/>
                    </a:lnTo>
                    <a:lnTo>
                      <a:pt x="105" y="255"/>
                    </a:lnTo>
                    <a:lnTo>
                      <a:pt x="45" y="213"/>
                    </a:lnTo>
                    <a:lnTo>
                      <a:pt x="126" y="150"/>
                    </a:lnTo>
                    <a:lnTo>
                      <a:pt x="123" y="108"/>
                    </a:lnTo>
                    <a:lnTo>
                      <a:pt x="240" y="84"/>
                    </a:lnTo>
                    <a:lnTo>
                      <a:pt x="264" y="0"/>
                    </a:lnTo>
                    <a:lnTo>
                      <a:pt x="189" y="66"/>
                    </a:lnTo>
                    <a:lnTo>
                      <a:pt x="8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965840" y="4057560"/>
                <a:ext cx="2577960" cy="1403280"/>
              </a:xfrm>
              <a:custGeom>
                <a:avLst/>
                <a:gdLst/>
                <a:ahLst/>
                <a:rect l="l" t="t" r="r" b="b"/>
                <a:pathLst>
                  <a:path w="1624" h="884">
                    <a:moveTo>
                      <a:pt x="1580" y="36"/>
                    </a:moveTo>
                    <a:lnTo>
                      <a:pt x="1624" y="164"/>
                    </a:lnTo>
                    <a:lnTo>
                      <a:pt x="1600" y="460"/>
                    </a:lnTo>
                    <a:lnTo>
                      <a:pt x="1472" y="344"/>
                    </a:lnTo>
                    <a:lnTo>
                      <a:pt x="1160" y="312"/>
                    </a:lnTo>
                    <a:lnTo>
                      <a:pt x="848" y="440"/>
                    </a:lnTo>
                    <a:lnTo>
                      <a:pt x="692" y="672"/>
                    </a:lnTo>
                    <a:lnTo>
                      <a:pt x="612" y="852"/>
                    </a:lnTo>
                    <a:lnTo>
                      <a:pt x="404" y="884"/>
                    </a:lnTo>
                    <a:lnTo>
                      <a:pt x="344" y="848"/>
                    </a:lnTo>
                    <a:lnTo>
                      <a:pt x="264" y="844"/>
                    </a:lnTo>
                    <a:lnTo>
                      <a:pt x="0" y="780"/>
                    </a:lnTo>
                    <a:lnTo>
                      <a:pt x="32" y="664"/>
                    </a:lnTo>
                    <a:lnTo>
                      <a:pt x="52" y="712"/>
                    </a:lnTo>
                    <a:lnTo>
                      <a:pt x="56" y="748"/>
                    </a:lnTo>
                    <a:lnTo>
                      <a:pt x="276" y="796"/>
                    </a:lnTo>
                    <a:lnTo>
                      <a:pt x="452" y="836"/>
                    </a:lnTo>
                    <a:lnTo>
                      <a:pt x="560" y="732"/>
                    </a:lnTo>
                    <a:lnTo>
                      <a:pt x="612" y="716"/>
                    </a:lnTo>
                    <a:lnTo>
                      <a:pt x="800" y="392"/>
                    </a:lnTo>
                    <a:lnTo>
                      <a:pt x="924" y="360"/>
                    </a:lnTo>
                    <a:lnTo>
                      <a:pt x="1020" y="284"/>
                    </a:lnTo>
                    <a:lnTo>
                      <a:pt x="1328" y="260"/>
                    </a:lnTo>
                    <a:lnTo>
                      <a:pt x="1540" y="328"/>
                    </a:lnTo>
                    <a:lnTo>
                      <a:pt x="1584" y="396"/>
                    </a:lnTo>
                    <a:lnTo>
                      <a:pt x="1572" y="172"/>
                    </a:lnTo>
                    <a:lnTo>
                      <a:pt x="1512" y="136"/>
                    </a:lnTo>
                    <a:lnTo>
                      <a:pt x="1564" y="0"/>
                    </a:lnTo>
                    <a:lnTo>
                      <a:pt x="158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175440" y="3186000"/>
                <a:ext cx="671400" cy="628920"/>
              </a:xfrm>
              <a:custGeom>
                <a:avLst/>
                <a:gdLst/>
                <a:ahLst/>
                <a:rect l="l" t="t" r="r" b="b"/>
                <a:pathLst>
                  <a:path w="423" h="396">
                    <a:moveTo>
                      <a:pt x="373" y="0"/>
                    </a:moveTo>
                    <a:lnTo>
                      <a:pt x="423" y="170"/>
                    </a:lnTo>
                    <a:lnTo>
                      <a:pt x="239" y="333"/>
                    </a:lnTo>
                    <a:lnTo>
                      <a:pt x="51" y="382"/>
                    </a:lnTo>
                    <a:lnTo>
                      <a:pt x="2" y="396"/>
                    </a:lnTo>
                    <a:lnTo>
                      <a:pt x="0" y="299"/>
                    </a:lnTo>
                    <a:lnTo>
                      <a:pt x="67" y="211"/>
                    </a:lnTo>
                    <a:lnTo>
                      <a:pt x="47" y="312"/>
                    </a:lnTo>
                    <a:lnTo>
                      <a:pt x="74" y="346"/>
                    </a:lnTo>
                    <a:lnTo>
                      <a:pt x="342" y="116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915160" y="2876400"/>
                <a:ext cx="185760" cy="8100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45" y="0"/>
                    </a:moveTo>
                    <a:lnTo>
                      <a:pt x="84" y="18"/>
                    </a:lnTo>
                    <a:lnTo>
                      <a:pt x="117" y="30"/>
                    </a:lnTo>
                    <a:lnTo>
                      <a:pt x="57" y="51"/>
                    </a:lnTo>
                    <a:lnTo>
                      <a:pt x="0" y="1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471920" y="4172040"/>
                <a:ext cx="185760" cy="47520"/>
              </a:xfrm>
              <a:custGeom>
                <a:avLst/>
                <a:gdLst/>
                <a:ahLst/>
                <a:rect l="l" t="t" r="r" b="b"/>
                <a:pathLst>
                  <a:path w="117" h="30">
                    <a:moveTo>
                      <a:pt x="0" y="12"/>
                    </a:moveTo>
                    <a:lnTo>
                      <a:pt x="117" y="0"/>
                    </a:lnTo>
                    <a:lnTo>
                      <a:pt x="9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Lab A: Configuring Advanced Server for Cluster Installatio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-Installation Require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ing Hardware Consider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signing IP Addresses Within a Clus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signing Names Within a Clus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ing Domain Consider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ing Services and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-Installation Require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ing Hardware Consider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signing IP Addresses Within a Clus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signing Names Within a Clus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ing Domain Consider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ing Services and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Pre-Installation Requiremen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24717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57080" y="146160"/>
            <a:ext cx="6685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111320" y="1751040"/>
            <a:ext cx="7116840" cy="4295520"/>
            <a:chOff x="1111320" y="1751040"/>
            <a:chExt cx="7116840" cy="4295520"/>
          </a:xfrm>
        </p:grpSpPr>
        <p:sp>
          <p:nvSpPr>
            <p:cNvPr id="54" name=""/>
            <p:cNvSpPr/>
            <p:nvPr/>
          </p:nvSpPr>
          <p:spPr>
            <a:xfrm>
              <a:off x="4533840" y="5789520"/>
              <a:ext cx="36943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01840" y="3058920"/>
              <a:ext cx="3724560" cy="1071720"/>
            </a:xfrm>
            <a:custGeom>
              <a:avLst/>
              <a:gdLst/>
              <a:ahLst/>
              <a:rect l="l" t="t" r="r" b="b"/>
              <a:pathLst>
                <a:path w="2616" h="636">
                  <a:moveTo>
                    <a:pt x="0" y="0"/>
                  </a:moveTo>
                  <a:lnTo>
                    <a:pt x="2616" y="636"/>
                  </a:lnTo>
                </a:path>
              </a:pathLst>
            </a:cu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01840" y="2831760"/>
              <a:ext cx="255600" cy="2206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61040" y="3136320"/>
              <a:ext cx="349200" cy="2667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5661000" y="3480840"/>
              <a:ext cx="344520" cy="2746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926400" y="3846240"/>
              <a:ext cx="349200" cy="284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2471760" y="3803400"/>
              <a:ext cx="2435040" cy="10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1677960" y="3976560"/>
              <a:ext cx="1066320" cy="1670040"/>
              <a:chOff x="1677960" y="3976560"/>
              <a:chExt cx="1066320" cy="1670040"/>
            </a:xfrm>
          </p:grpSpPr>
          <p:sp>
            <p:nvSpPr>
              <p:cNvPr id="62" name=""/>
              <p:cNvSpPr/>
              <p:nvPr/>
            </p:nvSpPr>
            <p:spPr>
              <a:xfrm>
                <a:off x="2153160" y="4077360"/>
                <a:ext cx="591120" cy="156924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82280" y="4227120"/>
                <a:ext cx="471600" cy="141912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1738440" y="4313880"/>
                <a:ext cx="341640" cy="1260720"/>
                <a:chOff x="1738440" y="4313880"/>
                <a:chExt cx="341640" cy="1260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1738440" y="4313880"/>
                  <a:ext cx="341640" cy="12607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742760" y="5420880"/>
                  <a:ext cx="327600" cy="87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740600" y="4485960"/>
                  <a:ext cx="339480" cy="5929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748520" y="4615560"/>
                  <a:ext cx="32472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748520" y="4746600"/>
                  <a:ext cx="32760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748520" y="4867200"/>
                  <a:ext cx="322200" cy="81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790640" y="4559040"/>
                  <a:ext cx="236160" cy="53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790640" y="4688280"/>
                  <a:ext cx="236160" cy="522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790640" y="4817880"/>
                  <a:ext cx="236160" cy="53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790640" y="4946760"/>
                  <a:ext cx="23616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777320" y="4375440"/>
                  <a:ext cx="53640" cy="33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1839600" y="4554720"/>
                  <a:ext cx="127080" cy="6768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839600" y="4677840"/>
                  <a:ext cx="127080" cy="6624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839600" y="4808520"/>
                  <a:ext cx="127080" cy="6696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839600" y="4935960"/>
                  <a:ext cx="127080" cy="687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742760" y="5355720"/>
                  <a:ext cx="32760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742760" y="5292360"/>
                  <a:ext cx="32760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1677960" y="3976560"/>
                <a:ext cx="1065240" cy="36720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416480" y="3440160"/>
              <a:ext cx="1209600" cy="485640"/>
              <a:chOff x="4416480" y="3440160"/>
              <a:chExt cx="1209600" cy="485640"/>
            </a:xfrm>
          </p:grpSpPr>
          <p:sp>
            <p:nvSpPr>
              <p:cNvPr id="84" name=""/>
              <p:cNvSpPr/>
              <p:nvPr/>
            </p:nvSpPr>
            <p:spPr>
              <a:xfrm>
                <a:off x="4416480" y="3440160"/>
                <a:ext cx="1209600" cy="485640"/>
              </a:xfrm>
              <a:custGeom>
                <a:avLst/>
                <a:gdLst/>
                <a:ahLst/>
                <a:rect l="l" t="t" r="r" b="b"/>
                <a:pathLst>
                  <a:path w="762" h="306">
                    <a:moveTo>
                      <a:pt x="762" y="72"/>
                    </a:moveTo>
                    <a:lnTo>
                      <a:pt x="762" y="170"/>
                    </a:lnTo>
                    <a:lnTo>
                      <a:pt x="412" y="306"/>
                    </a:lnTo>
                    <a:lnTo>
                      <a:pt x="0" y="210"/>
                    </a:lnTo>
                    <a:lnTo>
                      <a:pt x="0" y="112"/>
                    </a:lnTo>
                    <a:lnTo>
                      <a:pt x="338" y="0"/>
                    </a:lnTo>
                    <a:lnTo>
                      <a:pt x="762" y="72"/>
                    </a:lnTo>
                    <a:close/>
                  </a:path>
                </a:pathLst>
              </a:custGeom>
              <a:solidFill>
                <a:srgbClr val="f5f5e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76720" y="3573360"/>
                <a:ext cx="540000" cy="339120"/>
              </a:xfrm>
              <a:custGeom>
                <a:avLst/>
                <a:gdLst/>
                <a:ahLst/>
                <a:rect l="l" t="t" r="r" b="b"/>
                <a:pathLst>
                  <a:path w="340" h="214">
                    <a:moveTo>
                      <a:pt x="0" y="134"/>
                    </a:moveTo>
                    <a:lnTo>
                      <a:pt x="0" y="214"/>
                    </a:lnTo>
                    <a:lnTo>
                      <a:pt x="340" y="82"/>
                    </a:lnTo>
                    <a:lnTo>
                      <a:pt x="34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29080" y="3630600"/>
                <a:ext cx="635040" cy="288360"/>
              </a:xfrm>
              <a:custGeom>
                <a:avLst/>
                <a:gdLst/>
                <a:ahLst/>
                <a:rect l="l" t="t" r="r" b="b"/>
                <a:pathLst>
                  <a:path w="400" h="182">
                    <a:moveTo>
                      <a:pt x="400" y="96"/>
                    </a:moveTo>
                    <a:lnTo>
                      <a:pt x="400" y="182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400" y="9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606920" y="36972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714920" y="372888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829040" y="375408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50000" y="378900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2746440" y="5148360"/>
              <a:ext cx="1120320" cy="853200"/>
              <a:chOff x="2746440" y="5148360"/>
              <a:chExt cx="1120320" cy="853200"/>
            </a:xfrm>
          </p:grpSpPr>
          <p:sp>
            <p:nvSpPr>
              <p:cNvPr id="92" name=""/>
              <p:cNvSpPr/>
              <p:nvPr/>
            </p:nvSpPr>
            <p:spPr>
              <a:xfrm>
                <a:off x="2752560" y="5148360"/>
                <a:ext cx="320760" cy="561600"/>
              </a:xfrm>
              <a:custGeom>
                <a:avLst/>
                <a:gdLst/>
                <a:ahLst/>
                <a:rect l="l" t="t" r="r" b="b"/>
                <a:pathLst>
                  <a:path w="146" h="291">
                    <a:moveTo>
                      <a:pt x="0" y="0"/>
                    </a:moveTo>
                    <a:cubicBezTo>
                      <a:pt x="10" y="3"/>
                      <a:pt x="45" y="13"/>
                      <a:pt x="60" y="22"/>
                    </a:cubicBezTo>
                    <a:cubicBezTo>
                      <a:pt x="75" y="31"/>
                      <a:pt x="86" y="44"/>
                      <a:pt x="93" y="52"/>
                    </a:cubicBezTo>
                    <a:cubicBezTo>
                      <a:pt x="100" y="60"/>
                      <a:pt x="100" y="64"/>
                      <a:pt x="102" y="72"/>
                    </a:cubicBezTo>
                    <a:cubicBezTo>
                      <a:pt x="104" y="80"/>
                      <a:pt x="107" y="91"/>
                      <a:pt x="106" y="102"/>
                    </a:cubicBezTo>
                    <a:cubicBezTo>
                      <a:pt x="105" y="113"/>
                      <a:pt x="101" y="126"/>
                      <a:pt x="97" y="136"/>
                    </a:cubicBezTo>
                    <a:cubicBezTo>
                      <a:pt x="93" y="146"/>
                      <a:pt x="88" y="154"/>
                      <a:pt x="84" y="163"/>
                    </a:cubicBezTo>
                    <a:cubicBezTo>
                      <a:pt x="80" y="172"/>
                      <a:pt x="74" y="180"/>
                      <a:pt x="72" y="190"/>
                    </a:cubicBezTo>
                    <a:cubicBezTo>
                      <a:pt x="70" y="200"/>
                      <a:pt x="63" y="216"/>
                      <a:pt x="73" y="226"/>
                    </a:cubicBezTo>
                    <a:cubicBezTo>
                      <a:pt x="83" y="236"/>
                      <a:pt x="120" y="241"/>
                      <a:pt x="130" y="252"/>
                    </a:cubicBezTo>
                    <a:cubicBezTo>
                      <a:pt x="140" y="263"/>
                      <a:pt x="146" y="289"/>
                      <a:pt x="133" y="290"/>
                    </a:cubicBezTo>
                    <a:cubicBezTo>
                      <a:pt x="120" y="291"/>
                      <a:pt x="70" y="268"/>
                      <a:pt x="52" y="257"/>
                    </a:cubicBezTo>
                    <a:cubicBezTo>
                      <a:pt x="34" y="246"/>
                      <a:pt x="30" y="234"/>
                      <a:pt x="25" y="223"/>
                    </a:cubicBezTo>
                    <a:cubicBezTo>
                      <a:pt x="20" y="212"/>
                      <a:pt x="22" y="200"/>
                      <a:pt x="24" y="190"/>
                    </a:cubicBezTo>
                    <a:cubicBezTo>
                      <a:pt x="26" y="180"/>
                      <a:pt x="31" y="171"/>
                      <a:pt x="36" y="162"/>
                    </a:cubicBezTo>
                    <a:cubicBezTo>
                      <a:pt x="41" y="153"/>
                      <a:pt x="47" y="146"/>
                      <a:pt x="52" y="136"/>
                    </a:cubicBezTo>
                    <a:cubicBezTo>
                      <a:pt x="57" y="126"/>
                      <a:pt x="64" y="111"/>
                      <a:pt x="64" y="100"/>
                    </a:cubicBezTo>
                    <a:cubicBezTo>
                      <a:pt x="64" y="89"/>
                      <a:pt x="60" y="76"/>
                      <a:pt x="51" y="67"/>
                    </a:cubicBezTo>
                    <a:cubicBezTo>
                      <a:pt x="42" y="58"/>
                      <a:pt x="18" y="52"/>
                      <a:pt x="9" y="48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746440" y="5163840"/>
                <a:ext cx="299880" cy="555480"/>
              </a:xfrm>
              <a:custGeom>
                <a:avLst/>
                <a:gdLst/>
                <a:ahLst/>
                <a:rect l="l" t="t" r="r" b="b"/>
                <a:pathLst>
                  <a:path w="137" h="288">
                    <a:moveTo>
                      <a:pt x="3" y="0"/>
                    </a:moveTo>
                    <a:cubicBezTo>
                      <a:pt x="11" y="3"/>
                      <a:pt x="38" y="11"/>
                      <a:pt x="51" y="19"/>
                    </a:cubicBezTo>
                    <a:cubicBezTo>
                      <a:pt x="64" y="27"/>
                      <a:pt x="77" y="41"/>
                      <a:pt x="84" y="49"/>
                    </a:cubicBezTo>
                    <a:cubicBezTo>
                      <a:pt x="91" y="57"/>
                      <a:pt x="91" y="61"/>
                      <a:pt x="93" y="69"/>
                    </a:cubicBezTo>
                    <a:cubicBezTo>
                      <a:pt x="95" y="77"/>
                      <a:pt x="98" y="88"/>
                      <a:pt x="97" y="99"/>
                    </a:cubicBezTo>
                    <a:cubicBezTo>
                      <a:pt x="96" y="110"/>
                      <a:pt x="92" y="123"/>
                      <a:pt x="88" y="133"/>
                    </a:cubicBezTo>
                    <a:cubicBezTo>
                      <a:pt x="84" y="143"/>
                      <a:pt x="79" y="151"/>
                      <a:pt x="75" y="160"/>
                    </a:cubicBezTo>
                    <a:cubicBezTo>
                      <a:pt x="71" y="169"/>
                      <a:pt x="65" y="177"/>
                      <a:pt x="63" y="187"/>
                    </a:cubicBezTo>
                    <a:cubicBezTo>
                      <a:pt x="61" y="197"/>
                      <a:pt x="54" y="213"/>
                      <a:pt x="64" y="223"/>
                    </a:cubicBezTo>
                    <a:cubicBezTo>
                      <a:pt x="74" y="233"/>
                      <a:pt x="111" y="238"/>
                      <a:pt x="121" y="249"/>
                    </a:cubicBezTo>
                    <a:cubicBezTo>
                      <a:pt x="131" y="260"/>
                      <a:pt x="137" y="286"/>
                      <a:pt x="124" y="287"/>
                    </a:cubicBezTo>
                    <a:cubicBezTo>
                      <a:pt x="111" y="288"/>
                      <a:pt x="61" y="265"/>
                      <a:pt x="43" y="254"/>
                    </a:cubicBezTo>
                    <a:cubicBezTo>
                      <a:pt x="25" y="243"/>
                      <a:pt x="21" y="231"/>
                      <a:pt x="16" y="220"/>
                    </a:cubicBezTo>
                    <a:cubicBezTo>
                      <a:pt x="11" y="209"/>
                      <a:pt x="13" y="197"/>
                      <a:pt x="15" y="187"/>
                    </a:cubicBezTo>
                    <a:cubicBezTo>
                      <a:pt x="17" y="177"/>
                      <a:pt x="22" y="168"/>
                      <a:pt x="27" y="159"/>
                    </a:cubicBezTo>
                    <a:cubicBezTo>
                      <a:pt x="32" y="150"/>
                      <a:pt x="38" y="143"/>
                      <a:pt x="43" y="133"/>
                    </a:cubicBezTo>
                    <a:cubicBezTo>
                      <a:pt x="48" y="123"/>
                      <a:pt x="55" y="108"/>
                      <a:pt x="55" y="97"/>
                    </a:cubicBezTo>
                    <a:cubicBezTo>
                      <a:pt x="55" y="86"/>
                      <a:pt x="51" y="73"/>
                      <a:pt x="42" y="64"/>
                    </a:cubicBezTo>
                    <a:cubicBezTo>
                      <a:pt x="33" y="55"/>
                      <a:pt x="9" y="49"/>
                      <a:pt x="0" y="45"/>
                    </a:cubicBez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81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3005280" y="5533920"/>
                <a:ext cx="861480" cy="467640"/>
                <a:chOff x="3005280" y="5533920"/>
                <a:chExt cx="861480" cy="46764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3005280" y="5533920"/>
                  <a:ext cx="684000" cy="463680"/>
                </a:xfrm>
                <a:custGeom>
                  <a:avLst/>
                  <a:gdLst/>
                  <a:ahLst/>
                  <a:rect l="l" t="t" r="r" b="b"/>
                  <a:pathLst>
                    <a:path w="312" h="240">
                      <a:moveTo>
                        <a:pt x="0" y="48"/>
                      </a:moveTo>
                      <a:lnTo>
                        <a:pt x="120" y="0"/>
                      </a:lnTo>
                      <a:lnTo>
                        <a:pt x="174" y="15"/>
                      </a:lnTo>
                      <a:lnTo>
                        <a:pt x="312" y="30"/>
                      </a:lnTo>
                      <a:lnTo>
                        <a:pt x="312" y="141"/>
                      </a:lnTo>
                      <a:lnTo>
                        <a:pt x="156" y="240"/>
                      </a:lnTo>
                      <a:lnTo>
                        <a:pt x="42" y="159"/>
                      </a:lnTo>
                      <a:lnTo>
                        <a:pt x="0" y="159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022920" y="5637960"/>
                  <a:ext cx="324000" cy="338400"/>
                </a:xfrm>
                <a:custGeom>
                  <a:avLst/>
                  <a:gdLst/>
                  <a:ahLst/>
                  <a:rect l="l" t="t" r="r" b="b"/>
                  <a:pathLst>
                    <a:path w="148" h="175">
                      <a:moveTo>
                        <a:pt x="148" y="175"/>
                      </a:moveTo>
                      <a:lnTo>
                        <a:pt x="148" y="61"/>
                      </a:lnTo>
                      <a:lnTo>
                        <a:pt x="40" y="13"/>
                      </a:lnTo>
                      <a:lnTo>
                        <a:pt x="0" y="0"/>
                      </a:lnTo>
                      <a:lnTo>
                        <a:pt x="1" y="97"/>
                      </a:lnTo>
                      <a:lnTo>
                        <a:pt x="37" y="94"/>
                      </a:lnTo>
                      <a:lnTo>
                        <a:pt x="148" y="175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051360" y="5553000"/>
                  <a:ext cx="604800" cy="191520"/>
                </a:xfrm>
                <a:custGeom>
                  <a:avLst/>
                  <a:gdLst/>
                  <a:ahLst/>
                  <a:rect l="l" t="t" r="r" b="b"/>
                  <a:pathLst>
                    <a:path w="276" h="99">
                      <a:moveTo>
                        <a:pt x="0" y="39"/>
                      </a:moveTo>
                      <a:lnTo>
                        <a:pt x="102" y="0"/>
                      </a:lnTo>
                      <a:lnTo>
                        <a:pt x="156" y="18"/>
                      </a:lnTo>
                      <a:lnTo>
                        <a:pt x="276" y="27"/>
                      </a:lnTo>
                      <a:lnTo>
                        <a:pt x="138" y="99"/>
                      </a:lnTo>
                      <a:lnTo>
                        <a:pt x="30" y="51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57520" y="5657400"/>
                  <a:ext cx="85320" cy="203040"/>
                </a:xfrm>
                <a:custGeom>
                  <a:avLst/>
                  <a:gdLst/>
                  <a:ahLst/>
                  <a:rect l="l" t="t" r="r" b="b"/>
                  <a:pathLst>
                    <a:path w="39" h="105">
                      <a:moveTo>
                        <a:pt x="0" y="21"/>
                      </a:moveTo>
                      <a:lnTo>
                        <a:pt x="39" y="0"/>
                      </a:lnTo>
                      <a:lnTo>
                        <a:pt x="39" y="78"/>
                      </a:lnTo>
                      <a:lnTo>
                        <a:pt x="0" y="105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582000" y="5738400"/>
                  <a:ext cx="284760" cy="183600"/>
                </a:xfrm>
                <a:custGeom>
                  <a:avLst/>
                  <a:gdLst/>
                  <a:ahLst/>
                  <a:rect l="l" t="t" r="r" b="b"/>
                  <a:pathLst>
                    <a:path w="130" h="95">
                      <a:moveTo>
                        <a:pt x="5" y="0"/>
                      </a:moveTo>
                      <a:lnTo>
                        <a:pt x="0" y="52"/>
                      </a:lnTo>
                      <a:lnTo>
                        <a:pt x="97" y="95"/>
                      </a:lnTo>
                      <a:lnTo>
                        <a:pt x="130" y="80"/>
                      </a:lnTo>
                      <a:lnTo>
                        <a:pt x="129" y="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588480" y="5698080"/>
                  <a:ext cx="252000" cy="195120"/>
                </a:xfrm>
                <a:custGeom>
                  <a:avLst/>
                  <a:gdLst/>
                  <a:ahLst/>
                  <a:rect l="l" t="t" r="r" b="b"/>
                  <a:pathLst>
                    <a:path w="115" h="101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93" y="101"/>
                      </a:lnTo>
                      <a:lnTo>
                        <a:pt x="114" y="92"/>
                      </a:lnTo>
                      <a:lnTo>
                        <a:pt x="11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06320" y="5736960"/>
                  <a:ext cx="85320" cy="203040"/>
                </a:xfrm>
                <a:custGeom>
                  <a:avLst/>
                  <a:gdLst/>
                  <a:ahLst/>
                  <a:rect l="l" t="t" r="r" b="b"/>
                  <a:pathLst>
                    <a:path w="39" h="105">
                      <a:moveTo>
                        <a:pt x="0" y="21"/>
                      </a:moveTo>
                      <a:lnTo>
                        <a:pt x="39" y="0"/>
                      </a:lnTo>
                      <a:lnTo>
                        <a:pt x="39" y="78"/>
                      </a:lnTo>
                      <a:lnTo>
                        <a:pt x="0" y="105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3430800" y="5817960"/>
                  <a:ext cx="284760" cy="183600"/>
                </a:xfrm>
                <a:custGeom>
                  <a:avLst/>
                  <a:gdLst/>
                  <a:ahLst/>
                  <a:rect l="l" t="t" r="r" b="b"/>
                  <a:pathLst>
                    <a:path w="130" h="95">
                      <a:moveTo>
                        <a:pt x="5" y="0"/>
                      </a:moveTo>
                      <a:lnTo>
                        <a:pt x="0" y="52"/>
                      </a:lnTo>
                      <a:lnTo>
                        <a:pt x="97" y="95"/>
                      </a:lnTo>
                      <a:lnTo>
                        <a:pt x="130" y="80"/>
                      </a:lnTo>
                      <a:lnTo>
                        <a:pt x="129" y="35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437280" y="5777640"/>
                  <a:ext cx="252000" cy="195120"/>
                </a:xfrm>
                <a:custGeom>
                  <a:avLst/>
                  <a:gdLst/>
                  <a:ahLst/>
                  <a:rect l="l" t="t" r="r" b="b"/>
                  <a:pathLst>
                    <a:path w="115" h="101">
                      <a:moveTo>
                        <a:pt x="0" y="0"/>
                      </a:moveTo>
                      <a:lnTo>
                        <a:pt x="0" y="60"/>
                      </a:lnTo>
                      <a:lnTo>
                        <a:pt x="93" y="101"/>
                      </a:lnTo>
                      <a:lnTo>
                        <a:pt x="114" y="92"/>
                      </a:lnTo>
                      <a:lnTo>
                        <a:pt x="115" y="4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4" name=""/>
            <p:cNvGrpSpPr/>
            <p:nvPr/>
          </p:nvGrpSpPr>
          <p:grpSpPr>
            <a:xfrm>
              <a:off x="6926400" y="2784240"/>
              <a:ext cx="1056240" cy="1164600"/>
              <a:chOff x="6926400" y="2784240"/>
              <a:chExt cx="1056240" cy="11646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6926400" y="3397320"/>
                <a:ext cx="1022040" cy="551520"/>
                <a:chOff x="6926400" y="3397320"/>
                <a:chExt cx="1022040" cy="55152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594920" y="3540600"/>
                  <a:ext cx="35208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6926400" y="3397320"/>
                  <a:ext cx="102204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926400" y="357156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75960" y="3705120"/>
                  <a:ext cx="26244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281360" y="3773520"/>
                  <a:ext cx="25272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275960" y="370404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298640" y="374148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472880" y="384624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363080" y="375480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943680" y="3611520"/>
                  <a:ext cx="27000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43680" y="364104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43680" y="3671640"/>
                  <a:ext cx="27000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943680" y="370116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278480" y="378432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026480" y="2784240"/>
                <a:ext cx="956160" cy="899640"/>
                <a:chOff x="7026480" y="2784240"/>
                <a:chExt cx="956160" cy="899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098480" y="336924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107840" y="3376080"/>
                  <a:ext cx="72072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287480" y="344448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82640" y="3449520"/>
                  <a:ext cx="60516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227360" y="2784240"/>
                  <a:ext cx="75528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98960" y="293796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026480" y="2791800"/>
                  <a:ext cx="82368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026480" y="286020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078680" y="292716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113600" y="2968920"/>
                  <a:ext cx="49788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157520" y="301320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5643720" y="2440080"/>
              <a:ext cx="1056240" cy="1164600"/>
              <a:chOff x="5643720" y="2440080"/>
              <a:chExt cx="1056240" cy="11646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5643720" y="3053160"/>
                <a:ext cx="1022040" cy="551520"/>
                <a:chOff x="5643720" y="3053160"/>
                <a:chExt cx="1022040" cy="5515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312240" y="3196440"/>
                  <a:ext cx="35208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43720" y="3053160"/>
                  <a:ext cx="102204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5643720" y="32274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993280" y="3360960"/>
                  <a:ext cx="26244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998680" y="3429000"/>
                  <a:ext cx="25272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993280" y="335952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015960" y="33973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190200" y="350172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080400" y="34106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661000" y="3267360"/>
                  <a:ext cx="27000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61000" y="329688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61000" y="3327480"/>
                  <a:ext cx="27000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661000" y="335700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995800" y="344016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743800" y="2440080"/>
                <a:ext cx="956160" cy="899280"/>
                <a:chOff x="5743800" y="2440080"/>
                <a:chExt cx="956160" cy="8992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815800" y="302508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825160" y="3031560"/>
                  <a:ext cx="72072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04800" y="309996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799960" y="3105360"/>
                  <a:ext cx="60516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5944680" y="2440080"/>
                  <a:ext cx="75528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416280" y="259380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743800" y="2447640"/>
                  <a:ext cx="82368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743800" y="251604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796000" y="258300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5830920" y="2624400"/>
                  <a:ext cx="49788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874840" y="266868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" name=""/>
            <p:cNvGrpSpPr/>
            <p:nvPr/>
          </p:nvGrpSpPr>
          <p:grpSpPr>
            <a:xfrm>
              <a:off x="4361040" y="2095560"/>
              <a:ext cx="1056240" cy="1164600"/>
              <a:chOff x="4361040" y="2095560"/>
              <a:chExt cx="1056240" cy="116460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4361040" y="2708640"/>
                <a:ext cx="1022040" cy="551520"/>
                <a:chOff x="4361040" y="2708640"/>
                <a:chExt cx="1022040" cy="5515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5029560" y="2851920"/>
                  <a:ext cx="35208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361040" y="2708640"/>
                  <a:ext cx="102204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361040" y="288288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710600" y="3016440"/>
                  <a:ext cx="26244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716000" y="3084480"/>
                  <a:ext cx="25272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600" y="301500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733280" y="305280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907520" y="315720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797720" y="306612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378320" y="2922840"/>
                  <a:ext cx="27000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378320" y="295236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378320" y="2982960"/>
                  <a:ext cx="27000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78320" y="301248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713120" y="309564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461120" y="2095560"/>
                <a:ext cx="956160" cy="899280"/>
                <a:chOff x="4461120" y="2095560"/>
                <a:chExt cx="956160" cy="8992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533120" y="268056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542480" y="2687040"/>
                  <a:ext cx="72072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722120" y="275544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517280" y="2760840"/>
                  <a:ext cx="60516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662000" y="2095560"/>
                  <a:ext cx="75528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33600" y="224928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461120" y="2103120"/>
                  <a:ext cx="82368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461120" y="217152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513320" y="223848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548240" y="2279880"/>
                  <a:ext cx="49788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92160" y="232416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3078000" y="1751040"/>
              <a:ext cx="1056600" cy="1164600"/>
              <a:chOff x="3078000" y="1751040"/>
              <a:chExt cx="1056600" cy="116460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3078000" y="2364120"/>
                <a:ext cx="1022400" cy="551520"/>
                <a:chOff x="3078000" y="2364120"/>
                <a:chExt cx="1022400" cy="5515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746520" y="250740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078000" y="2364120"/>
                  <a:ext cx="102240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78000" y="253836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427560" y="267192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432960" y="274032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427560" y="267084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450240" y="270828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624840" y="281304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14680" y="272160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095280" y="257832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095280" y="260784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95280" y="263844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095280" y="266796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430440" y="275112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178080" y="1751040"/>
                <a:ext cx="956520" cy="899640"/>
                <a:chOff x="3178080" y="1751040"/>
                <a:chExt cx="956520" cy="8996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250080" y="233604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259800" y="234288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439080" y="241128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234240" y="2416320"/>
                  <a:ext cx="60552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378960" y="175104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850560" y="190476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178080" y="175860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178080" y="182700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230280" y="189396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265200" y="1935720"/>
                  <a:ext cx="49824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309120" y="198000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" name=""/>
            <p:cNvSpPr txBox="1"/>
            <p:nvPr/>
          </p:nvSpPr>
          <p:spPr>
            <a:xfrm rot="5400000">
              <a:off x="4749480" y="3366720"/>
              <a:ext cx="623880" cy="712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X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 rot="5400000">
              <a:off x="3011400" y="5352840"/>
              <a:ext cx="623880" cy="712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X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2430000" y="242712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5101920" y="209556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381360" y="250200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353000" y="348120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974840" y="4064040"/>
              <a:ext cx="7801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110960" y="4689360"/>
              <a:ext cx="7693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879720" y="5465880"/>
              <a:ext cx="74664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Network Requiremen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blic Networ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vate Networ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xed Networ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7680" y="1528920"/>
            <a:ext cx="5216400" cy="4187520"/>
            <a:chOff x="2857680" y="1528920"/>
            <a:chExt cx="5216400" cy="4187520"/>
          </a:xfrm>
        </p:grpSpPr>
        <p:grpSp>
          <p:nvGrpSpPr>
            <p:cNvPr id="229" name=""/>
            <p:cNvGrpSpPr/>
            <p:nvPr/>
          </p:nvGrpSpPr>
          <p:grpSpPr>
            <a:xfrm>
              <a:off x="6924600" y="3268800"/>
              <a:ext cx="895320" cy="837360"/>
              <a:chOff x="6924600" y="3268800"/>
              <a:chExt cx="895320" cy="83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924600" y="3591000"/>
                <a:ext cx="895320" cy="515160"/>
                <a:chOff x="6924600" y="3591000"/>
                <a:chExt cx="895320" cy="515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924600" y="3674880"/>
                  <a:ext cx="895320" cy="43128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929280" y="3591000"/>
                  <a:ext cx="882000" cy="18468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924600" y="3268800"/>
                <a:ext cx="895320" cy="515520"/>
                <a:chOff x="6924600" y="3268800"/>
                <a:chExt cx="895320" cy="5155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924600" y="335268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d90"/>
                    </a:gs>
                    <a:gs pos="50000">
                      <a:srgbClr val="009ea1"/>
                    </a:gs>
                    <a:gs pos="100000">
                      <a:srgbClr val="008d90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929280" y="3268800"/>
                  <a:ext cx="882000" cy="1850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6" name=""/>
            <p:cNvSpPr/>
            <p:nvPr/>
          </p:nvSpPr>
          <p:spPr>
            <a:xfrm>
              <a:off x="5553000" y="2583000"/>
              <a:ext cx="0" cy="2057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j0286851" descr=""/>
            <p:cNvPicPr/>
            <p:nvPr/>
          </p:nvPicPr>
          <p:blipFill>
            <a:blip r:embed="rId1"/>
            <a:stretch/>
          </p:blipFill>
          <p:spPr>
            <a:xfrm>
              <a:off x="5172120" y="319248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334040" y="3649680"/>
              <a:ext cx="53316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419640" y="3116160"/>
              <a:ext cx="1056240" cy="1164600"/>
              <a:chOff x="3419640" y="3116160"/>
              <a:chExt cx="1056240" cy="116460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3419640" y="3729240"/>
                <a:ext cx="1022040" cy="551520"/>
                <a:chOff x="3419640" y="3729240"/>
                <a:chExt cx="1022040" cy="5515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4088160" y="3872520"/>
                  <a:ext cx="35208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419640" y="3729240"/>
                  <a:ext cx="102204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419640" y="390348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769200" y="4037040"/>
                  <a:ext cx="26244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774600" y="4105440"/>
                  <a:ext cx="25272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69200" y="403596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791880" y="407340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966120" y="41781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856320" y="408672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436920" y="3943440"/>
                  <a:ext cx="27000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436920" y="397296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436920" y="4003560"/>
                  <a:ext cx="27000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436920" y="403308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771720" y="411624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519720" y="3116160"/>
                <a:ext cx="956160" cy="899640"/>
                <a:chOff x="3519720" y="3116160"/>
                <a:chExt cx="956160" cy="899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591720" y="370116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601080" y="3708000"/>
                  <a:ext cx="72072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780720" y="37764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575880" y="3781440"/>
                  <a:ext cx="60516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720600" y="3116160"/>
                  <a:ext cx="75528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92200" y="326988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519720" y="3123720"/>
                  <a:ext cx="82368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519720" y="319212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571920" y="325908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606840" y="3300840"/>
                  <a:ext cx="49788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650760" y="33451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7" name=""/>
            <p:cNvSpPr/>
            <p:nvPr/>
          </p:nvSpPr>
          <p:spPr>
            <a:xfrm>
              <a:off x="4867200" y="2658960"/>
              <a:ext cx="533520" cy="1981440"/>
            </a:xfrm>
            <a:custGeom>
              <a:avLst/>
              <a:gdLst/>
              <a:ahLst/>
              <a:rect l="l" t="t" r="r" b="b"/>
              <a:pathLst>
                <a:path w="33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336" y="1248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5248800" y="1668600"/>
              <a:ext cx="729720" cy="1142640"/>
              <a:chOff x="5248800" y="1668600"/>
              <a:chExt cx="729720" cy="1142640"/>
            </a:xfrm>
          </p:grpSpPr>
          <p:sp>
            <p:nvSpPr>
              <p:cNvPr id="269" name=""/>
              <p:cNvSpPr/>
              <p:nvPr/>
            </p:nvSpPr>
            <p:spPr>
              <a:xfrm>
                <a:off x="5573880" y="173736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252040" y="183996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5289840" y="1899720"/>
                <a:ext cx="234000" cy="862920"/>
                <a:chOff x="5289840" y="1899720"/>
                <a:chExt cx="234000" cy="86292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5289840" y="189972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292720" y="265752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291280" y="201744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296680" y="210636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296680" y="219600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296680" y="227844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325480" y="20674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5325480" y="215604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5325480" y="22446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325480" y="23331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316480" y="194184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359320" y="206460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359320" y="214884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59320" y="223848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359320" y="232560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92720" y="261288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292720" y="256968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5248800" y="166860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5248800" y="4259160"/>
              <a:ext cx="729720" cy="1142640"/>
              <a:chOff x="5248800" y="4259160"/>
              <a:chExt cx="729720" cy="1142640"/>
            </a:xfrm>
          </p:grpSpPr>
          <p:sp>
            <p:nvSpPr>
              <p:cNvPr id="291" name=""/>
              <p:cNvSpPr/>
              <p:nvPr/>
            </p:nvSpPr>
            <p:spPr>
              <a:xfrm>
                <a:off x="5573880" y="43279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252040" y="443052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289840" y="4490280"/>
                <a:ext cx="234000" cy="862920"/>
                <a:chOff x="5289840" y="4490280"/>
                <a:chExt cx="234000" cy="8629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289840" y="44902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92720" y="52480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291280" y="46080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296680" y="46969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296680" y="47865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296680" y="48690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325480" y="46580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325480" y="47466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325480" y="48351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325480" y="49237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316480" y="45324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359320" y="46551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359320" y="47394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59320" y="48290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359320" y="49161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292720" y="52034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292720" y="51602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1" name=""/>
              <p:cNvSpPr/>
              <p:nvPr/>
            </p:nvSpPr>
            <p:spPr>
              <a:xfrm>
                <a:off x="5248800" y="425916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5857920" y="2278080"/>
              <a:ext cx="533520" cy="2514600"/>
            </a:xfrm>
            <a:custGeom>
              <a:avLst/>
              <a:gdLst/>
              <a:ahLst/>
              <a:rect l="l" t="t" r="r" b="b"/>
              <a:pathLst>
                <a:path w="432" h="1584">
                  <a:moveTo>
                    <a:pt x="0" y="0"/>
                  </a:moveTo>
                  <a:lnTo>
                    <a:pt x="432" y="0"/>
                  </a:lnTo>
                  <a:lnTo>
                    <a:pt x="432" y="1584"/>
                  </a:lnTo>
                  <a:lnTo>
                    <a:pt x="0" y="1584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391440" y="3649680"/>
              <a:ext cx="53316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0200" y="1528920"/>
              <a:ext cx="1523880" cy="755640"/>
            </a:xfrm>
            <a:prstGeom prst="wedgeEllipseCallout">
              <a:avLst>
                <a:gd name="adj1" fmla="val -115314"/>
                <a:gd name="adj2" fmla="val 14390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57680" y="4740120"/>
              <a:ext cx="1857240" cy="976320"/>
            </a:xfrm>
            <a:prstGeom prst="wedgeEllipseCallout">
              <a:avLst>
                <a:gd name="adj1" fmla="val 57694"/>
                <a:gd name="adj2" fmla="val -107074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ublic or Mix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Disk Requiremen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l Disks on Shared B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ks Can Be Seen from All Nod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sic Disks, not Dynamic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l Disk Partitions must be NTF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rdware RAID not Software RAI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Data Storage Requiremen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42840" y="1257480"/>
            <a:ext cx="7793640" cy="4333680"/>
            <a:chOff x="942840" y="1257480"/>
            <a:chExt cx="7793640" cy="4333680"/>
          </a:xfrm>
        </p:grpSpPr>
        <p:grpSp>
          <p:nvGrpSpPr>
            <p:cNvPr id="321" name=""/>
            <p:cNvGrpSpPr/>
            <p:nvPr/>
          </p:nvGrpSpPr>
          <p:grpSpPr>
            <a:xfrm>
              <a:off x="6275520" y="2604960"/>
              <a:ext cx="895320" cy="516240"/>
              <a:chOff x="6275520" y="2604960"/>
              <a:chExt cx="895320" cy="516240"/>
            </a:xfrm>
          </p:grpSpPr>
          <p:sp>
            <p:nvSpPr>
              <p:cNvPr id="322" name=""/>
              <p:cNvSpPr/>
              <p:nvPr/>
            </p:nvSpPr>
            <p:spPr>
              <a:xfrm>
                <a:off x="6275520" y="2689200"/>
                <a:ext cx="895320" cy="43200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280200" y="2604960"/>
                <a:ext cx="882000" cy="18504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4946760" y="2414520"/>
              <a:ext cx="0" cy="2030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5" name="j0286851" descr=""/>
            <p:cNvPicPr/>
            <p:nvPr/>
          </p:nvPicPr>
          <p:blipFill>
            <a:blip r:embed="rId1"/>
            <a:stretch/>
          </p:blipFill>
          <p:spPr>
            <a:xfrm>
              <a:off x="4565520" y="2997360"/>
              <a:ext cx="685800" cy="6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4184640" y="4673520"/>
              <a:ext cx="53352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641480" y="4064040"/>
              <a:ext cx="730440" cy="1142640"/>
              <a:chOff x="4641480" y="4064040"/>
              <a:chExt cx="730440" cy="1142640"/>
            </a:xfrm>
          </p:grpSpPr>
          <p:sp>
            <p:nvSpPr>
              <p:cNvPr id="328" name=""/>
              <p:cNvSpPr/>
              <p:nvPr/>
            </p:nvSpPr>
            <p:spPr>
              <a:xfrm>
                <a:off x="4967280" y="413280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645080" y="423540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682880" y="4295160"/>
                <a:ext cx="234000" cy="862920"/>
                <a:chOff x="4682880" y="4295160"/>
                <a:chExt cx="234000" cy="8629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682880" y="429516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685760" y="505296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684320" y="441288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689720" y="450180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689720" y="459144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689720" y="467388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718520" y="44629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718520" y="455148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718520" y="46400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718520" y="47286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9520" y="433728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52360" y="446004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752360" y="454428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752360" y="463392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752360" y="472104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685760" y="500832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85760" y="496512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641480" y="406404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3286080" y="4691160"/>
              <a:ext cx="895320" cy="515520"/>
              <a:chOff x="3286080" y="4691160"/>
              <a:chExt cx="895320" cy="515520"/>
            </a:xfrm>
          </p:grpSpPr>
          <p:sp>
            <p:nvSpPr>
              <p:cNvPr id="350" name=""/>
              <p:cNvSpPr/>
              <p:nvPr/>
            </p:nvSpPr>
            <p:spPr>
              <a:xfrm>
                <a:off x="3286080" y="477504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290760" y="4691160"/>
                <a:ext cx="882000" cy="18504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286080" y="4282920"/>
              <a:ext cx="895320" cy="516240"/>
              <a:chOff x="3286080" y="4282920"/>
              <a:chExt cx="895320" cy="516240"/>
            </a:xfrm>
          </p:grpSpPr>
          <p:sp>
            <p:nvSpPr>
              <p:cNvPr id="353" name=""/>
              <p:cNvSpPr/>
              <p:nvPr/>
            </p:nvSpPr>
            <p:spPr>
              <a:xfrm>
                <a:off x="3286080" y="4367160"/>
                <a:ext cx="895320" cy="43200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90760" y="4282920"/>
                <a:ext cx="882000" cy="18504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570840" y="448164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64360" y="484488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92560" y="2122560"/>
              <a:ext cx="53352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301920" y="1830240"/>
              <a:ext cx="895320" cy="516240"/>
              <a:chOff x="3301920" y="1830240"/>
              <a:chExt cx="895320" cy="516240"/>
            </a:xfrm>
          </p:grpSpPr>
          <p:sp>
            <p:nvSpPr>
              <p:cNvPr id="359" name=""/>
              <p:cNvSpPr/>
              <p:nvPr/>
            </p:nvSpPr>
            <p:spPr>
              <a:xfrm>
                <a:off x="3301920" y="1914480"/>
                <a:ext cx="895320" cy="43200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06600" y="1830240"/>
                <a:ext cx="882000" cy="18504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3578760" y="2014560"/>
              <a:ext cx="35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C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4641480" y="1473120"/>
              <a:ext cx="730440" cy="1142640"/>
              <a:chOff x="4641480" y="1473120"/>
              <a:chExt cx="730440" cy="1142640"/>
            </a:xfrm>
          </p:grpSpPr>
          <p:sp>
            <p:nvSpPr>
              <p:cNvPr id="363" name=""/>
              <p:cNvSpPr/>
              <p:nvPr/>
            </p:nvSpPr>
            <p:spPr>
              <a:xfrm>
                <a:off x="4967280" y="154188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645080" y="164448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5" name=""/>
              <p:cNvGrpSpPr/>
              <p:nvPr/>
            </p:nvGrpSpPr>
            <p:grpSpPr>
              <a:xfrm>
                <a:off x="4682880" y="1704240"/>
                <a:ext cx="234000" cy="862920"/>
                <a:chOff x="4682880" y="1704240"/>
                <a:chExt cx="234000" cy="8629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682880" y="170424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685760" y="246204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684320" y="182196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689720" y="191088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689720" y="200052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89720" y="208296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718520" y="18720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718520" y="196056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718520" y="20491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718520" y="21376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709520" y="174636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752360" y="186912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752360" y="195336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752360" y="204300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752360" y="213012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685760" y="241740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685760" y="237420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641480" y="147312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141880" y="2225520"/>
              <a:ext cx="609480" cy="2240280"/>
            </a:xfrm>
            <a:custGeom>
              <a:avLst/>
              <a:gdLst/>
              <a:ahLst/>
              <a:rect l="l" t="t" r="r" b="b"/>
              <a:pathLst>
                <a:path w="384" h="1411">
                  <a:moveTo>
                    <a:pt x="0" y="0"/>
                  </a:moveTo>
                  <a:lnTo>
                    <a:pt x="384" y="0"/>
                  </a:lnTo>
                  <a:lnTo>
                    <a:pt x="384" y="1411"/>
                  </a:lnTo>
                  <a:lnTo>
                    <a:pt x="33" y="1411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69000" y="3857760"/>
              <a:ext cx="53352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76920" y="2697120"/>
              <a:ext cx="53352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91360" y="3571920"/>
              <a:ext cx="895320" cy="515520"/>
              <a:chOff x="6291360" y="3571920"/>
              <a:chExt cx="895320" cy="515520"/>
            </a:xfrm>
          </p:grpSpPr>
          <p:sp>
            <p:nvSpPr>
              <p:cNvPr id="388" name=""/>
              <p:cNvSpPr/>
              <p:nvPr/>
            </p:nvSpPr>
            <p:spPr>
              <a:xfrm>
                <a:off x="6291360" y="365580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96040" y="3571920"/>
                <a:ext cx="882000" cy="18504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6567840" y="3755880"/>
              <a:ext cx="3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Y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59920" y="2781360"/>
              <a:ext cx="34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X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3108960" y="1614600"/>
              <a:ext cx="128016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 Disk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5108040" y="466416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299360" y="3575160"/>
              <a:ext cx="143712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uster Dis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 Part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293600" y="2373480"/>
              <a:ext cx="143712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uster Dis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Parti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49320" y="1257480"/>
              <a:ext cx="2003400" cy="1626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Node A D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onfigur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Local Disk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W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luster Dis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X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luster Dis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Y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luster Dis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42840" y="3781440"/>
              <a:ext cx="2009880" cy="180972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Node B Di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onfigur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Local Disk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Local Dis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W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luster Dis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X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luster Dis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44520"/>
                  <a:tab algn="l" pos="635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Y: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Cluster Disk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6275520" y="2286000"/>
              <a:ext cx="895320" cy="515520"/>
              <a:chOff x="6275520" y="2286000"/>
              <a:chExt cx="895320" cy="515520"/>
            </a:xfrm>
          </p:grpSpPr>
          <p:sp>
            <p:nvSpPr>
              <p:cNvPr id="399" name=""/>
              <p:cNvSpPr/>
              <p:nvPr/>
            </p:nvSpPr>
            <p:spPr>
              <a:xfrm>
                <a:off x="6275520" y="236988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80200" y="2286000"/>
                <a:ext cx="882000" cy="185040"/>
              </a:xfrm>
              <a:prstGeom prst="ellipse">
                <a:avLst/>
              </a:prstGeom>
              <a:gradFill rotWithShape="0">
                <a:gsLst>
                  <a:gs pos="0">
                    <a:srgbClr val="dc0081"/>
                  </a:gs>
                  <a:gs pos="50000">
                    <a:srgbClr val="f2a8d3"/>
                  </a:gs>
                  <a:gs pos="100000">
                    <a:srgbClr val="dc0081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6522120" y="2462040"/>
              <a:ext cx="39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W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266800" y="185436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3108960" y="4003560"/>
              <a:ext cx="128016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 Disk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3108960" y="5111640"/>
              <a:ext cx="128016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al Disk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dentifying Hardware Consider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ing a Cluster Service Compatible Syste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uters, Switches, and Hub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work Car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 Dis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 Data Acces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luster Service Compatible Systems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ual PCI B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I Disk Controll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parate Disk Controller for the shared bu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CI Network Adap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ternal Hard Dis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bles and Terminato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outers, Switches, and Hub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800280" y="1163520"/>
            <a:ext cx="753084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33520" y="5967360"/>
            <a:ext cx="941400" cy="357120"/>
            <a:chOff x="533520" y="5967360"/>
            <a:chExt cx="941400" cy="357120"/>
          </a:xfrm>
        </p:grpSpPr>
        <p:grpSp>
          <p:nvGrpSpPr>
            <p:cNvPr id="412" name=""/>
            <p:cNvGrpSpPr/>
            <p:nvPr/>
          </p:nvGrpSpPr>
          <p:grpSpPr>
            <a:xfrm>
              <a:off x="533520" y="5967360"/>
              <a:ext cx="442800" cy="357120"/>
              <a:chOff x="533520" y="5967360"/>
              <a:chExt cx="442800" cy="357120"/>
            </a:xfrm>
          </p:grpSpPr>
          <p:sp>
            <p:nvSpPr>
              <p:cNvPr id="413" name=""/>
              <p:cNvSpPr/>
              <p:nvPr/>
            </p:nvSpPr>
            <p:spPr>
              <a:xfrm>
                <a:off x="533520" y="5967360"/>
                <a:ext cx="44280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88960" y="6049800"/>
                <a:ext cx="331920" cy="192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96880" y="6056280"/>
                <a:ext cx="208440" cy="7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629" y="19664"/>
                    </a:moveTo>
                    <a:arcTo wR="10800" hR="10800" stAng="7490636" swAng="88239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629" y="19664"/>
                    </a:moveTo>
                    <a:arcTo wR="10800" hR="10800" stAng="7490636" swAng="8823993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3680" y="6105600"/>
                <a:ext cx="20988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1421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142173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031760" y="5967360"/>
              <a:ext cx="443160" cy="357120"/>
              <a:chOff x="1031760" y="5967360"/>
              <a:chExt cx="443160" cy="357120"/>
            </a:xfrm>
          </p:grpSpPr>
          <p:sp>
            <p:nvSpPr>
              <p:cNvPr id="418" name=""/>
              <p:cNvSpPr/>
              <p:nvPr/>
            </p:nvSpPr>
            <p:spPr>
              <a:xfrm>
                <a:off x="1031760" y="5967360"/>
                <a:ext cx="443160" cy="357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087560" y="6049800"/>
                <a:ext cx="331560" cy="1922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143000" y="6105600"/>
                <a:ext cx="20844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949" y="19878"/>
                    </a:moveTo>
                    <a:arcTo wR="10800" hR="10800" stAng="7368319" swAng="89463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949" y="19878"/>
                    </a:moveTo>
                    <a:arcTo wR="10800" hR="10800" stAng="7368319" swAng="8946310"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  <a:effectLst>
                <a:outerShdw dist="12600" dir="5400000" blurRad="0" rotWithShape="0">
                  <a:srgbClr val="0000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143000" y="6105600"/>
                <a:ext cx="209160" cy="7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5139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513965"/>
                  </a:path>
                </a:pathLst>
              </a:custGeom>
              <a:solidFill>
                <a:srgbClr val="cc0000"/>
              </a:solidFill>
              <a:ln w="9360">
                <a:solidFill>
                  <a:srgbClr val="cc0000"/>
                </a:solidFill>
                <a:miter/>
              </a:ln>
              <a:effectLst>
                <a:outerShdw dist="12600" dir="5400000" blurRad="0" rotWithShape="0">
                  <a:srgbClr val="99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874800" y="6049800"/>
              <a:ext cx="257040" cy="209880"/>
            </a:xfrm>
            <a:prstGeom prst="rightArrow">
              <a:avLst>
                <a:gd name="adj1" fmla="val 54546"/>
                <a:gd name="adj2" fmla="val 90718"/>
              </a:avLst>
            </a:prstGeom>
            <a:solidFill>
              <a:srgbClr val="d6009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909720" y="1022400"/>
            <a:ext cx="8258400" cy="5262480"/>
            <a:chOff x="909720" y="1022400"/>
            <a:chExt cx="8258400" cy="5262480"/>
          </a:xfrm>
        </p:grpSpPr>
        <p:sp>
          <p:nvSpPr>
            <p:cNvPr id="424" name=""/>
            <p:cNvSpPr/>
            <p:nvPr/>
          </p:nvSpPr>
          <p:spPr>
            <a:xfrm flipH="1">
              <a:off x="4038120" y="3581280"/>
              <a:ext cx="304920" cy="914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2057040" y="350532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41760" y="1022400"/>
              <a:ext cx="10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Accou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IP 10.0.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666800" y="3726000"/>
              <a:ext cx="890640" cy="97128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92880" y="4572000"/>
              <a:ext cx="16149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R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IP 192.168.5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MAC 00-D8-60-33-F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92760" y="1244520"/>
              <a:ext cx="1815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Nod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IP 10.0.0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MAC 00-40-96-32-37-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03480" y="5410080"/>
              <a:ext cx="180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Nod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IP 10.0.0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MAC 00-D0-59-12-0F-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127320" y="4191120"/>
              <a:ext cx="1056600" cy="1164600"/>
              <a:chOff x="3127320" y="4191120"/>
              <a:chExt cx="1056600" cy="116460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3127320" y="4804200"/>
                <a:ext cx="1022400" cy="551520"/>
                <a:chOff x="3127320" y="4804200"/>
                <a:chExt cx="1022400" cy="5515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795840" y="494748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27320" y="4804200"/>
                  <a:ext cx="102240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127320" y="497844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76880" y="511200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2280" y="518004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476880" y="511056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499560" y="514836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674160" y="52527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64000" y="516168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144600" y="501840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144600" y="504792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144600" y="507852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144600" y="510804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479760" y="519120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3227400" y="4191120"/>
                <a:ext cx="956520" cy="899280"/>
                <a:chOff x="3227400" y="4191120"/>
                <a:chExt cx="956520" cy="8992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299400" y="477612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309120" y="478260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488400" y="48510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283560" y="4856400"/>
                  <a:ext cx="60552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428280" y="419112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899880" y="434484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227400" y="419868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227400" y="426708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279600" y="433404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314520" y="4375440"/>
                  <a:ext cx="49824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358440" y="44197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7459560" y="3114720"/>
              <a:ext cx="895320" cy="837360"/>
              <a:chOff x="7459560" y="3114720"/>
              <a:chExt cx="895320" cy="83736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7459560" y="3436920"/>
                <a:ext cx="895320" cy="515160"/>
                <a:chOff x="7459560" y="3436920"/>
                <a:chExt cx="895320" cy="51516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7459560" y="3520800"/>
                  <a:ext cx="895320" cy="43128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464240" y="3436920"/>
                  <a:ext cx="882000" cy="18468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7459560" y="3114720"/>
                <a:ext cx="895320" cy="515520"/>
                <a:chOff x="7459560" y="3114720"/>
                <a:chExt cx="895320" cy="5155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7459560" y="319860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d90"/>
                    </a:gs>
                    <a:gs pos="50000">
                      <a:srgbClr val="009ea1"/>
                    </a:gs>
                    <a:gs pos="100000">
                      <a:srgbClr val="008d90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7464240" y="3114720"/>
                  <a:ext cx="882000" cy="1850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>
              <a:off x="6087960" y="2428920"/>
              <a:ext cx="0" cy="2057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7" name="j0286851" descr=""/>
            <p:cNvPicPr/>
            <p:nvPr/>
          </p:nvPicPr>
          <p:blipFill>
            <a:blip r:embed="rId8"/>
            <a:stretch/>
          </p:blipFill>
          <p:spPr>
            <a:xfrm>
              <a:off x="5707080" y="303840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1716120" y="3495600"/>
              <a:ext cx="368604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402160" y="2505240"/>
              <a:ext cx="533520" cy="1981080"/>
            </a:xfrm>
            <a:custGeom>
              <a:avLst/>
              <a:gdLst/>
              <a:ahLst/>
              <a:rect l="l" t="t" r="r" b="b"/>
              <a:pathLst>
                <a:path w="336" h="1248">
                  <a:moveTo>
                    <a:pt x="288" y="0"/>
                  </a:moveTo>
                  <a:lnTo>
                    <a:pt x="0" y="0"/>
                  </a:lnTo>
                  <a:lnTo>
                    <a:pt x="0" y="1248"/>
                  </a:lnTo>
                  <a:lnTo>
                    <a:pt x="336" y="1248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783760" y="1514520"/>
              <a:ext cx="729720" cy="1142640"/>
              <a:chOff x="5783760" y="1514520"/>
              <a:chExt cx="729720" cy="1142640"/>
            </a:xfrm>
          </p:grpSpPr>
          <p:sp>
            <p:nvSpPr>
              <p:cNvPr id="471" name=""/>
              <p:cNvSpPr/>
              <p:nvPr/>
            </p:nvSpPr>
            <p:spPr>
              <a:xfrm>
                <a:off x="6108840" y="158328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87000" y="168588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5824800" y="1745640"/>
                <a:ext cx="234000" cy="862920"/>
                <a:chOff x="5824800" y="1745640"/>
                <a:chExt cx="234000" cy="862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5824800" y="174564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827680" y="250344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826240" y="186336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831640" y="195228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831640" y="204192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831640" y="212436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860440" y="19134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860440" y="200196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5860440" y="20905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5860440" y="21790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851440" y="178776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5894280" y="191052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5894280" y="199476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894280" y="208440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894280" y="217152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5827680" y="245880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5827680" y="241560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5783760" y="151452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5783760" y="4105440"/>
              <a:ext cx="729720" cy="1142640"/>
              <a:chOff x="5783760" y="4105440"/>
              <a:chExt cx="729720" cy="1142640"/>
            </a:xfrm>
          </p:grpSpPr>
          <p:sp>
            <p:nvSpPr>
              <p:cNvPr id="493" name=""/>
              <p:cNvSpPr/>
              <p:nvPr/>
            </p:nvSpPr>
            <p:spPr>
              <a:xfrm>
                <a:off x="6108840" y="417420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787000" y="427680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5" name=""/>
              <p:cNvGrpSpPr/>
              <p:nvPr/>
            </p:nvGrpSpPr>
            <p:grpSpPr>
              <a:xfrm>
                <a:off x="5824800" y="4336560"/>
                <a:ext cx="234000" cy="862920"/>
                <a:chOff x="5824800" y="4336560"/>
                <a:chExt cx="234000" cy="8629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824800" y="433656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827680" y="509436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826240" y="445428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831640" y="454320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831640" y="463284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831640" y="471528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860440" y="45043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860440" y="459288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860440" y="46814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860440" y="47700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5851440" y="437868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894280" y="450144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5894280" y="458568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5894280" y="467532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894280" y="476244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827680" y="504972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827680" y="500652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3" name=""/>
              <p:cNvSpPr/>
              <p:nvPr/>
            </p:nvSpPr>
            <p:spPr>
              <a:xfrm>
                <a:off x="5783760" y="410544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392880" y="2124000"/>
              <a:ext cx="533520" cy="2514600"/>
            </a:xfrm>
            <a:custGeom>
              <a:avLst/>
              <a:gdLst/>
              <a:ahLst/>
              <a:rect l="l" t="t" r="r" b="b"/>
              <a:pathLst>
                <a:path w="432" h="1584">
                  <a:moveTo>
                    <a:pt x="0" y="0"/>
                  </a:moveTo>
                  <a:lnTo>
                    <a:pt x="432" y="0"/>
                  </a:lnTo>
                  <a:lnTo>
                    <a:pt x="432" y="1584"/>
                  </a:lnTo>
                  <a:lnTo>
                    <a:pt x="0" y="1584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26400" y="3495600"/>
              <a:ext cx="53316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973080" y="2990880"/>
              <a:ext cx="1056600" cy="1164600"/>
              <a:chOff x="973080" y="2990880"/>
              <a:chExt cx="1056600" cy="1164600"/>
            </a:xfrm>
          </p:grpSpPr>
          <p:grpSp>
            <p:nvGrpSpPr>
              <p:cNvPr id="517" name=""/>
              <p:cNvGrpSpPr/>
              <p:nvPr/>
            </p:nvGrpSpPr>
            <p:grpSpPr>
              <a:xfrm>
                <a:off x="973080" y="3603960"/>
                <a:ext cx="1022400" cy="551520"/>
                <a:chOff x="973080" y="3603960"/>
                <a:chExt cx="1022400" cy="5515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641600" y="374724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973080" y="3603960"/>
                  <a:ext cx="1022400" cy="35352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973080" y="37782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322640" y="391176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328040" y="398016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322640" y="3910680"/>
                  <a:ext cx="261000" cy="11268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345320" y="39481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519920" y="405288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409760" y="39614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990360" y="381816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990360" y="3847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990360" y="387828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990360" y="390780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325520" y="3990960"/>
                  <a:ext cx="264960" cy="11232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1073160" y="2990880"/>
                <a:ext cx="956520" cy="899640"/>
                <a:chOff x="1073160" y="2990880"/>
                <a:chExt cx="956520" cy="89964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1145160" y="3575880"/>
                  <a:ext cx="744840" cy="31464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154880" y="358272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1334160" y="365112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1129320" y="3656160"/>
                  <a:ext cx="605520" cy="16884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274040" y="299088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1745640" y="3144600"/>
                  <a:ext cx="151200" cy="67752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073160" y="299844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073160" y="3066840"/>
                  <a:ext cx="672480" cy="75816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1125360" y="3133800"/>
                  <a:ext cx="569160" cy="62172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160280" y="3175560"/>
                  <a:ext cx="498240" cy="53568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1204200" y="321984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44" name=""/>
            <p:cNvSpPr/>
            <p:nvPr/>
          </p:nvSpPr>
          <p:spPr>
            <a:xfrm>
              <a:off x="1830240" y="5370480"/>
              <a:ext cx="2171880" cy="914400"/>
            </a:xfrm>
            <a:prstGeom prst="wedgeEllipseCallout">
              <a:avLst>
                <a:gd name="adj1" fmla="val 35527"/>
                <a:gd name="adj2" fmla="val -78995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\\Accounting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IP 10.0.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MAC 00-40-96-32-37-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09720" y="1373040"/>
              <a:ext cx="2171520" cy="914400"/>
            </a:xfrm>
            <a:prstGeom prst="wedgeEllipseCallout">
              <a:avLst>
                <a:gd name="adj1" fmla="val -26754"/>
                <a:gd name="adj2" fmla="val 131250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\\Accounting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IP 10.0.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MAC 00-D8-60-33-F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863800" y="2097000"/>
              <a:ext cx="2171880" cy="914400"/>
            </a:xfrm>
            <a:prstGeom prst="wedgeEllipseCallout">
              <a:avLst>
                <a:gd name="adj1" fmla="val -40791"/>
                <a:gd name="adj2" fmla="val 92013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\\Accounting=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IP 10.0.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MAC 00-40-96-32-37-B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374920" y="3343320"/>
              <a:ext cx="1076400" cy="431640"/>
              <a:chOff x="2374920" y="3343320"/>
              <a:chExt cx="1076400" cy="431640"/>
            </a:xfrm>
          </p:grpSpPr>
          <p:sp>
            <p:nvSpPr>
              <p:cNvPr id="548" name=""/>
              <p:cNvSpPr/>
              <p:nvPr/>
            </p:nvSpPr>
            <p:spPr>
              <a:xfrm>
                <a:off x="2374920" y="3343320"/>
                <a:ext cx="1076400" cy="431640"/>
              </a:xfrm>
              <a:custGeom>
                <a:avLst/>
                <a:gdLst/>
                <a:ahLst/>
                <a:rect l="l" t="t" r="r" b="b"/>
                <a:pathLst>
                  <a:path w="762" h="306">
                    <a:moveTo>
                      <a:pt x="762" y="72"/>
                    </a:moveTo>
                    <a:lnTo>
                      <a:pt x="762" y="170"/>
                    </a:lnTo>
                    <a:lnTo>
                      <a:pt x="412" y="306"/>
                    </a:lnTo>
                    <a:lnTo>
                      <a:pt x="0" y="210"/>
                    </a:lnTo>
                    <a:lnTo>
                      <a:pt x="0" y="112"/>
                    </a:lnTo>
                    <a:lnTo>
                      <a:pt x="338" y="0"/>
                    </a:lnTo>
                    <a:lnTo>
                      <a:pt x="762" y="72"/>
                    </a:lnTo>
                    <a:close/>
                  </a:path>
                </a:pathLst>
              </a:custGeom>
              <a:solidFill>
                <a:srgbClr val="f5f5e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962440" y="3461760"/>
                <a:ext cx="480240" cy="301320"/>
              </a:xfrm>
              <a:custGeom>
                <a:avLst/>
                <a:gdLst/>
                <a:ahLst/>
                <a:rect l="l" t="t" r="r" b="b"/>
                <a:pathLst>
                  <a:path w="340" h="214">
                    <a:moveTo>
                      <a:pt x="0" y="134"/>
                    </a:moveTo>
                    <a:lnTo>
                      <a:pt x="0" y="214"/>
                    </a:lnTo>
                    <a:lnTo>
                      <a:pt x="340" y="82"/>
                    </a:lnTo>
                    <a:lnTo>
                      <a:pt x="340" y="0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86080" y="3512520"/>
                <a:ext cx="564840" cy="256320"/>
              </a:xfrm>
              <a:custGeom>
                <a:avLst/>
                <a:gdLst/>
                <a:ahLst/>
                <a:rect l="l" t="t" r="r" b="b"/>
                <a:pathLst>
                  <a:path w="400" h="182">
                    <a:moveTo>
                      <a:pt x="400" y="96"/>
                    </a:moveTo>
                    <a:lnTo>
                      <a:pt x="400" y="182"/>
                    </a:lnTo>
                    <a:lnTo>
                      <a:pt x="0" y="84"/>
                    </a:lnTo>
                    <a:lnTo>
                      <a:pt x="0" y="0"/>
                    </a:lnTo>
                    <a:lnTo>
                      <a:pt x="400" y="9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544120" y="3571920"/>
                <a:ext cx="6624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640240" y="3600000"/>
                <a:ext cx="66240" cy="65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741760" y="3622320"/>
                <a:ext cx="66600" cy="66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849400" y="3653280"/>
                <a:ext cx="66240" cy="662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914640" y="3273480"/>
              <a:ext cx="868320" cy="489960"/>
              <a:chOff x="3914640" y="3273480"/>
              <a:chExt cx="868320" cy="489960"/>
            </a:xfrm>
          </p:grpSpPr>
          <p:sp>
            <p:nvSpPr>
              <p:cNvPr id="556" name=""/>
              <p:cNvSpPr/>
              <p:nvPr/>
            </p:nvSpPr>
            <p:spPr>
              <a:xfrm>
                <a:off x="4417920" y="3395520"/>
                <a:ext cx="365040" cy="367920"/>
              </a:xfrm>
              <a:custGeom>
                <a:avLst/>
                <a:gdLst/>
                <a:ahLst/>
                <a:rect l="l" t="t" r="r" b="b"/>
                <a:pathLst>
                  <a:path w="230" h="232">
                    <a:moveTo>
                      <a:pt x="0" y="146"/>
                    </a:moveTo>
                    <a:lnTo>
                      <a:pt x="230" y="0"/>
                    </a:lnTo>
                    <a:lnTo>
                      <a:pt x="230" y="85"/>
                    </a:lnTo>
                    <a:lnTo>
                      <a:pt x="0" y="232"/>
                    </a:lnTo>
                    <a:lnTo>
                      <a:pt x="0" y="146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e5e5e5"/>
                  </a:gs>
                </a:gsLst>
                <a:lin ang="8100000"/>
              </a:gra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914640" y="3500280"/>
                <a:ext cx="504720" cy="263160"/>
              </a:xfrm>
              <a:custGeom>
                <a:avLst/>
                <a:gdLst/>
                <a:ahLst/>
                <a:rect l="l" t="t" r="r" b="b"/>
                <a:pathLst>
                  <a:path w="318" h="166">
                    <a:moveTo>
                      <a:pt x="318" y="80"/>
                    </a:moveTo>
                    <a:lnTo>
                      <a:pt x="318" y="166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e5e5e5"/>
                  </a:gs>
                </a:gsLst>
                <a:lin ang="8100000"/>
              </a:gra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63680" y="3582720"/>
                <a:ext cx="57240" cy="56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144680" y="3606480"/>
                <a:ext cx="57240" cy="56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32160" y="3625560"/>
                <a:ext cx="56880" cy="56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11360" y="3652560"/>
                <a:ext cx="57240" cy="56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914640" y="3273480"/>
                <a:ext cx="868320" cy="355320"/>
              </a:xfrm>
              <a:custGeom>
                <a:avLst/>
                <a:gdLst/>
                <a:ahLst/>
                <a:rect l="l" t="t" r="r" b="b"/>
                <a:pathLst>
                  <a:path w="547" h="224">
                    <a:moveTo>
                      <a:pt x="0" y="141"/>
                    </a:moveTo>
                    <a:lnTo>
                      <a:pt x="230" y="0"/>
                    </a:lnTo>
                    <a:lnTo>
                      <a:pt x="547" y="78"/>
                    </a:lnTo>
                    <a:lnTo>
                      <a:pt x="318" y="224"/>
                    </a:lnTo>
                    <a:lnTo>
                      <a:pt x="2" y="146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e5e5e5"/>
                  </a:gs>
                </a:gsLst>
                <a:lin ang="8100000"/>
              </a:gra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7389360" y="5702400"/>
              <a:ext cx="1069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Accou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IP 10.0.0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6270480" y="1400400"/>
              <a:ext cx="2897640" cy="4338360"/>
              <a:chOff x="6270480" y="1400400"/>
              <a:chExt cx="2897640" cy="4338360"/>
            </a:xfrm>
          </p:grpSpPr>
          <p:grpSp>
            <p:nvGrpSpPr>
              <p:cNvPr id="565" name=""/>
              <p:cNvGrpSpPr/>
              <p:nvPr/>
            </p:nvGrpSpPr>
            <p:grpSpPr>
              <a:xfrm>
                <a:off x="6270480" y="3998880"/>
                <a:ext cx="1868760" cy="1739880"/>
                <a:chOff x="6270480" y="3998880"/>
                <a:chExt cx="1868760" cy="17398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6270480" y="3998880"/>
                  <a:ext cx="1868760" cy="173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a8d3"/>
                    </a:gs>
                    <a:gs pos="100000">
                      <a:srgbClr val="dc0081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7" name=""/>
                <p:cNvGrpSpPr/>
                <p:nvPr/>
              </p:nvGrpSpPr>
              <p:grpSpPr>
                <a:xfrm>
                  <a:off x="6512400" y="4237560"/>
                  <a:ext cx="761400" cy="1191600"/>
                  <a:chOff x="6512400" y="4237560"/>
                  <a:chExt cx="761400" cy="119160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>
                    <a:off x="6851880" y="4309200"/>
                    <a:ext cx="421920" cy="11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7" h="2008">
                        <a:moveTo>
                          <a:pt x="0" y="335"/>
                        </a:moveTo>
                        <a:lnTo>
                          <a:pt x="0" y="2007"/>
                        </a:lnTo>
                        <a:lnTo>
                          <a:pt x="756" y="1532"/>
                        </a:lnTo>
                        <a:lnTo>
                          <a:pt x="756" y="0"/>
                        </a:lnTo>
                        <a:lnTo>
                          <a:pt x="0" y="335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6516360" y="4416480"/>
                    <a:ext cx="336600" cy="10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1816">
                        <a:moveTo>
                          <a:pt x="603" y="143"/>
                        </a:moveTo>
                        <a:lnTo>
                          <a:pt x="603" y="1815"/>
                        </a:lnTo>
                        <a:lnTo>
                          <a:pt x="1" y="1648"/>
                        </a:lnTo>
                        <a:lnTo>
                          <a:pt x="0" y="0"/>
                        </a:lnTo>
                        <a:lnTo>
                          <a:pt x="603" y="14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0" name=""/>
                  <p:cNvGrpSpPr/>
                  <p:nvPr/>
                </p:nvGrpSpPr>
                <p:grpSpPr>
                  <a:xfrm>
                    <a:off x="6555240" y="4478400"/>
                    <a:ext cx="244080" cy="899640"/>
                    <a:chOff x="6555240" y="4478400"/>
                    <a:chExt cx="244080" cy="899640"/>
                  </a:xfrm>
                </p:grpSpPr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6555240" y="4478400"/>
                      <a:ext cx="244080" cy="89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" h="1613">
                          <a:moveTo>
                            <a:pt x="0" y="16"/>
                          </a:moveTo>
                          <a:lnTo>
                            <a:pt x="0" y="1490"/>
                          </a:lnTo>
                          <a:lnTo>
                            <a:pt x="437" y="1612"/>
                          </a:lnTo>
                          <a:lnTo>
                            <a:pt x="435" y="10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adada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>
                      <a:off x="6558480" y="5268240"/>
                      <a:ext cx="234000" cy="62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6556680" y="4601160"/>
                      <a:ext cx="24264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5" h="759">
                          <a:moveTo>
                            <a:pt x="0" y="0"/>
                          </a:moveTo>
                          <a:lnTo>
                            <a:pt x="434" y="105"/>
                          </a:lnTo>
                          <a:lnTo>
                            <a:pt x="434" y="758"/>
                          </a:lnTo>
                          <a:lnTo>
                            <a:pt x="0" y="6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6562440" y="4693680"/>
                      <a:ext cx="231840" cy="51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6562440" y="4787280"/>
                      <a:ext cx="234000" cy="60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>
                      <a:off x="6562440" y="4873320"/>
                      <a:ext cx="230040" cy="58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6592320" y="4653360"/>
                      <a:ext cx="168840" cy="3816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6592320" y="4745520"/>
                      <a:ext cx="168840" cy="3708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6592320" y="4838040"/>
                      <a:ext cx="168840" cy="3816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6592320" y="4930200"/>
                      <a:ext cx="168840" cy="3852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6582960" y="4522320"/>
                      <a:ext cx="38520" cy="23760"/>
                    </a:xfrm>
                    <a:prstGeom prst="ellipse">
                      <a:avLst/>
                    </a:prstGeom>
                    <a:solidFill>
                      <a:srgbClr val="dc008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6627600" y="4650120"/>
                      <a:ext cx="90720" cy="4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7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162" y="86"/>
                          </a:lnTo>
                          <a:lnTo>
                            <a:pt x="162" y="3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" bIns="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6627600" y="4738320"/>
                      <a:ext cx="9072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5">
                          <a:moveTo>
                            <a:pt x="0" y="0"/>
                          </a:moveTo>
                          <a:lnTo>
                            <a:pt x="0" y="49"/>
                          </a:lnTo>
                          <a:lnTo>
                            <a:pt x="162" y="84"/>
                          </a:lnTo>
                          <a:lnTo>
                            <a:pt x="162" y="3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6627600" y="4831560"/>
                      <a:ext cx="9072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6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62" y="85"/>
                          </a:lnTo>
                          <a:lnTo>
                            <a:pt x="162" y="3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6627600" y="4922280"/>
                      <a:ext cx="9072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8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162" y="87"/>
                          </a:lnTo>
                          <a:lnTo>
                            <a:pt x="162" y="3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6558480" y="5221800"/>
                      <a:ext cx="234000" cy="61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6558480" y="5176800"/>
                      <a:ext cx="234000" cy="619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8" name=""/>
                  <p:cNvSpPr/>
                  <p:nvPr/>
                </p:nvSpPr>
                <p:spPr>
                  <a:xfrm>
                    <a:off x="6512400" y="4237560"/>
                    <a:ext cx="76032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470">
                        <a:moveTo>
                          <a:pt x="0" y="321"/>
                        </a:moveTo>
                        <a:lnTo>
                          <a:pt x="610" y="469"/>
                        </a:lnTo>
                        <a:lnTo>
                          <a:pt x="1363" y="133"/>
                        </a:lnTo>
                        <a:lnTo>
                          <a:pt x="769" y="0"/>
                        </a:lnTo>
                        <a:lnTo>
                          <a:pt x="0" y="32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" name=""/>
                <p:cNvGrpSpPr/>
                <p:nvPr/>
              </p:nvGrpSpPr>
              <p:grpSpPr>
                <a:xfrm>
                  <a:off x="7054920" y="4237560"/>
                  <a:ext cx="595440" cy="471600"/>
                  <a:chOff x="7054920" y="4237560"/>
                  <a:chExt cx="595440" cy="4716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7160040" y="4237560"/>
                    <a:ext cx="490320" cy="39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8" h="996">
                        <a:moveTo>
                          <a:pt x="0" y="996"/>
                        </a:moveTo>
                        <a:lnTo>
                          <a:pt x="0" y="94"/>
                        </a:lnTo>
                        <a:lnTo>
                          <a:pt x="79" y="0"/>
                        </a:lnTo>
                        <a:lnTo>
                          <a:pt x="467" y="0"/>
                        </a:lnTo>
                        <a:lnTo>
                          <a:pt x="526" y="93"/>
                        </a:lnTo>
                        <a:lnTo>
                          <a:pt x="1248" y="94"/>
                        </a:lnTo>
                        <a:lnTo>
                          <a:pt x="1248" y="996"/>
                        </a:lnTo>
                        <a:lnTo>
                          <a:pt x="0" y="9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ff99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45929" dir="2028877" blurRad="0" rotWithShape="0">
                      <a:srgbClr val="969696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7054920" y="4489920"/>
                    <a:ext cx="511200" cy="219240"/>
                    <a:chOff x="7054920" y="4489920"/>
                    <a:chExt cx="511200" cy="219240"/>
                  </a:xfrm>
                </p:grpSpPr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7058520" y="4501080"/>
                      <a:ext cx="507600" cy="208080"/>
                      <a:chOff x="7058520" y="4501080"/>
                      <a:chExt cx="507600" cy="208080"/>
                    </a:xfrm>
                  </p:grpSpPr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7207920" y="4541040"/>
                        <a:ext cx="35820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4" h="176">
                            <a:moveTo>
                              <a:pt x="0" y="0"/>
                            </a:moveTo>
                            <a:lnTo>
                              <a:pt x="136" y="0"/>
                            </a:lnTo>
                            <a:lnTo>
                              <a:pt x="199" y="15"/>
                            </a:lnTo>
                            <a:lnTo>
                              <a:pt x="278" y="64"/>
                            </a:lnTo>
                            <a:lnTo>
                              <a:pt x="290" y="74"/>
                            </a:lnTo>
                            <a:lnTo>
                              <a:pt x="281" y="92"/>
                            </a:lnTo>
                            <a:lnTo>
                              <a:pt x="264" y="100"/>
                            </a:lnTo>
                            <a:lnTo>
                              <a:pt x="238" y="96"/>
                            </a:lnTo>
                            <a:lnTo>
                              <a:pt x="206" y="84"/>
                            </a:lnTo>
                            <a:lnTo>
                              <a:pt x="180" y="68"/>
                            </a:lnTo>
                            <a:lnTo>
                              <a:pt x="178" y="70"/>
                            </a:lnTo>
                            <a:lnTo>
                              <a:pt x="230" y="102"/>
                            </a:lnTo>
                            <a:lnTo>
                              <a:pt x="274" y="110"/>
                            </a:lnTo>
                            <a:lnTo>
                              <a:pt x="320" y="110"/>
                            </a:lnTo>
                            <a:lnTo>
                              <a:pt x="354" y="100"/>
                            </a:lnTo>
                            <a:lnTo>
                              <a:pt x="374" y="106"/>
                            </a:lnTo>
                            <a:lnTo>
                              <a:pt x="374" y="128"/>
                            </a:lnTo>
                            <a:lnTo>
                              <a:pt x="362" y="150"/>
                            </a:lnTo>
                            <a:lnTo>
                              <a:pt x="336" y="164"/>
                            </a:lnTo>
                            <a:lnTo>
                              <a:pt x="306" y="174"/>
                            </a:lnTo>
                            <a:lnTo>
                              <a:pt x="130" y="176"/>
                            </a:lnTo>
                            <a:lnTo>
                              <a:pt x="104" y="158"/>
                            </a:lnTo>
                            <a:lnTo>
                              <a:pt x="74" y="146"/>
                            </a:lnTo>
                            <a:lnTo>
                              <a:pt x="46" y="126"/>
                            </a:lnTo>
                            <a:lnTo>
                              <a:pt x="26" y="110"/>
                            </a:lnTo>
                            <a:lnTo>
                              <a:pt x="2" y="1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7058520" y="4501080"/>
                        <a:ext cx="155880" cy="17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348">
                            <a:moveTo>
                              <a:pt x="0" y="0"/>
                            </a:moveTo>
                            <a:lnTo>
                              <a:pt x="0" y="348"/>
                            </a:lnTo>
                            <a:lnTo>
                              <a:pt x="240" y="348"/>
                            </a:lnTo>
                            <a:lnTo>
                              <a:pt x="240" y="87"/>
                            </a:lnTo>
                            <a:lnTo>
                              <a:pt x="207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7204320" y="4529880"/>
                      <a:ext cx="35820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7054920" y="4489920"/>
                      <a:ext cx="15624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a8a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7060680" y="4495680"/>
                      <a:ext cx="14256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3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219" y="103"/>
                          </a:lnTo>
                          <a:lnTo>
                            <a:pt x="219" y="78"/>
                          </a:lnTo>
                          <a:lnTo>
                            <a:pt x="186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3040" bIns="230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7054920" y="4833720"/>
                  <a:ext cx="972360" cy="543960"/>
                  <a:chOff x="7054920" y="4833720"/>
                  <a:chExt cx="972360" cy="543960"/>
                </a:xfrm>
              </p:grpSpPr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7217280" y="4833720"/>
                    <a:ext cx="810000" cy="512280"/>
                    <a:chOff x="7217280" y="4833720"/>
                    <a:chExt cx="810000" cy="51228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7217280" y="4833720"/>
                      <a:ext cx="810000" cy="37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1" h="761">
                          <a:moveTo>
                            <a:pt x="1661" y="165"/>
                          </a:moveTo>
                          <a:lnTo>
                            <a:pt x="1603" y="150"/>
                          </a:lnTo>
                          <a:lnTo>
                            <a:pt x="1603" y="106"/>
                          </a:lnTo>
                          <a:lnTo>
                            <a:pt x="881" y="0"/>
                          </a:lnTo>
                          <a:lnTo>
                            <a:pt x="799" y="48"/>
                          </a:lnTo>
                          <a:lnTo>
                            <a:pt x="600" y="21"/>
                          </a:lnTo>
                          <a:lnTo>
                            <a:pt x="61" y="301"/>
                          </a:lnTo>
                          <a:lnTo>
                            <a:pt x="0" y="519"/>
                          </a:lnTo>
                          <a:lnTo>
                            <a:pt x="32" y="547"/>
                          </a:lnTo>
                          <a:lnTo>
                            <a:pt x="1150" y="76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flipV="1">
                      <a:off x="7251840" y="4982040"/>
                      <a:ext cx="547920" cy="972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7642800" y="5094720"/>
                      <a:ext cx="1317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79">
                          <a:moveTo>
                            <a:pt x="0" y="38"/>
                          </a:moveTo>
                          <a:lnTo>
                            <a:pt x="10" y="0"/>
                          </a:lnTo>
                          <a:lnTo>
                            <a:pt x="270" y="40"/>
                          </a:lnTo>
                          <a:lnTo>
                            <a:pt x="258" y="78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>
                      <a:off x="7238160" y="5002200"/>
                      <a:ext cx="159120" cy="10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8" h="204">
                          <a:moveTo>
                            <a:pt x="0" y="153"/>
                          </a:moveTo>
                          <a:lnTo>
                            <a:pt x="282" y="203"/>
                          </a:lnTo>
                          <a:lnTo>
                            <a:pt x="327" y="50"/>
                          </a:lnTo>
                          <a:lnTo>
                            <a:pt x="42" y="0"/>
                          </a:lnTo>
                          <a:lnTo>
                            <a:pt x="0" y="15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>
                      <a:off x="7391160" y="4888800"/>
                      <a:ext cx="611280" cy="17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2" h="356">
                          <a:moveTo>
                            <a:pt x="1251" y="0"/>
                          </a:moveTo>
                          <a:lnTo>
                            <a:pt x="821" y="320"/>
                          </a:lnTo>
                          <a:lnTo>
                            <a:pt x="0" y="179"/>
                          </a:lnTo>
                          <a:lnTo>
                            <a:pt x="0" y="213"/>
                          </a:lnTo>
                          <a:lnTo>
                            <a:pt x="818" y="355"/>
                          </a:lnTo>
                          <a:lnTo>
                            <a:pt x="1251" y="35"/>
                          </a:lnTo>
                          <a:lnTo>
                            <a:pt x="1251" y="0"/>
                          </a:lnTo>
                        </a:path>
                      </a:pathLst>
                    </a:custGeom>
                    <a:solidFill>
                      <a:srgbClr val="dadada"/>
                    </a:soli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H="1" flipV="1">
                      <a:off x="7471440" y="4929120"/>
                      <a:ext cx="382320" cy="684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H="1">
                      <a:off x="7388640" y="4855680"/>
                      <a:ext cx="218520" cy="1180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7778160" y="4913280"/>
                      <a:ext cx="248760" cy="38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0" h="794">
                          <a:moveTo>
                            <a:pt x="510" y="0"/>
                          </a:moveTo>
                          <a:lnTo>
                            <a:pt x="510" y="344"/>
                          </a:lnTo>
                          <a:lnTo>
                            <a:pt x="27" y="794"/>
                          </a:lnTo>
                          <a:lnTo>
                            <a:pt x="25" y="615"/>
                          </a:lnTo>
                          <a:lnTo>
                            <a:pt x="0" y="596"/>
                          </a:lnTo>
                          <a:lnTo>
                            <a:pt x="41" y="340"/>
                          </a:lnTo>
                          <a:lnTo>
                            <a:pt x="510" y="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>
                      <a:off x="7263000" y="5179320"/>
                      <a:ext cx="51408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3" h="341">
                          <a:moveTo>
                            <a:pt x="1053" y="244"/>
                          </a:moveTo>
                          <a:lnTo>
                            <a:pt x="932" y="341"/>
                          </a:lnTo>
                          <a:lnTo>
                            <a:pt x="0" y="135"/>
                          </a:lnTo>
                          <a:lnTo>
                            <a:pt x="0" y="0"/>
                          </a:lnTo>
                          <a:lnTo>
                            <a:pt x="1051" y="24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7232760" y="5102280"/>
                      <a:ext cx="559080" cy="19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5" h="409">
                          <a:moveTo>
                            <a:pt x="1145" y="409"/>
                          </a:moveTo>
                          <a:lnTo>
                            <a:pt x="1145" y="226"/>
                          </a:lnTo>
                          <a:lnTo>
                            <a:pt x="1124" y="212"/>
                          </a:lnTo>
                          <a:lnTo>
                            <a:pt x="0" y="0"/>
                          </a:lnTo>
                          <a:lnTo>
                            <a:pt x="0" y="162"/>
                          </a:lnTo>
                          <a:lnTo>
                            <a:pt x="1144" y="40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7293240" y="5212080"/>
                      <a:ext cx="400680" cy="11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1" h="246">
                          <a:moveTo>
                            <a:pt x="821" y="1"/>
                          </a:moveTo>
                          <a:lnTo>
                            <a:pt x="821" y="105"/>
                          </a:lnTo>
                          <a:lnTo>
                            <a:pt x="643" y="235"/>
                          </a:lnTo>
                          <a:lnTo>
                            <a:pt x="616" y="246"/>
                          </a:lnTo>
                          <a:lnTo>
                            <a:pt x="576" y="240"/>
                          </a:lnTo>
                          <a:lnTo>
                            <a:pt x="13" y="117"/>
                          </a:lnTo>
                          <a:lnTo>
                            <a:pt x="0" y="10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7295040" y="5239800"/>
                      <a:ext cx="39528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0" h="136">
                          <a:moveTo>
                            <a:pt x="810" y="0"/>
                          </a:moveTo>
                          <a:lnTo>
                            <a:pt x="637" y="125"/>
                          </a:lnTo>
                          <a:lnTo>
                            <a:pt x="603" y="136"/>
                          </a:lnTo>
                          <a:lnTo>
                            <a:pt x="573" y="133"/>
                          </a:lnTo>
                          <a:lnTo>
                            <a:pt x="9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7293240" y="5154480"/>
                      <a:ext cx="400680" cy="12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1" h="250">
                          <a:moveTo>
                            <a:pt x="186" y="0"/>
                          </a:moveTo>
                          <a:lnTo>
                            <a:pt x="821" y="115"/>
                          </a:lnTo>
                          <a:lnTo>
                            <a:pt x="644" y="238"/>
                          </a:lnTo>
                          <a:lnTo>
                            <a:pt x="625" y="246"/>
                          </a:lnTo>
                          <a:lnTo>
                            <a:pt x="599" y="250"/>
                          </a:lnTo>
                          <a:lnTo>
                            <a:pt x="572" y="245"/>
                          </a:lnTo>
                          <a:lnTo>
                            <a:pt x="13" y="133"/>
                          </a:lnTo>
                          <a:lnTo>
                            <a:pt x="0" y="120"/>
                          </a:lnTo>
                          <a:lnTo>
                            <a:pt x="18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7521840" y="4858200"/>
                      <a:ext cx="13536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173">
                          <a:moveTo>
                            <a:pt x="277" y="0"/>
                          </a:moveTo>
                          <a:lnTo>
                            <a:pt x="277" y="117"/>
                          </a:lnTo>
                          <a:lnTo>
                            <a:pt x="71" y="172"/>
                          </a:lnTo>
                          <a:lnTo>
                            <a:pt x="0" y="164"/>
                          </a:lnTo>
                          <a:lnTo>
                            <a:pt x="277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flipH="1">
                      <a:off x="7800480" y="4902480"/>
                      <a:ext cx="133560" cy="849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7656480" y="4859280"/>
                      <a:ext cx="27432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3" h="185">
                          <a:moveTo>
                            <a:pt x="562" y="89"/>
                          </a:moveTo>
                          <a:lnTo>
                            <a:pt x="0" y="0"/>
                          </a:lnTo>
                          <a:lnTo>
                            <a:pt x="0" y="117"/>
                          </a:lnTo>
                          <a:lnTo>
                            <a:pt x="422" y="184"/>
                          </a:lnTo>
                          <a:lnTo>
                            <a:pt x="562" y="8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7660080" y="4879440"/>
                      <a:ext cx="244440" cy="38160"/>
                    </a:xfrm>
                    <a:prstGeom prst="line">
                      <a:avLst/>
                    </a:prstGeom>
                    <a:ln cap="rnd"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 flipV="1">
                      <a:off x="7714080" y="5287320"/>
                      <a:ext cx="0" cy="583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8" name=""/>
                  <p:cNvGrpSpPr/>
                  <p:nvPr/>
                </p:nvGrpSpPr>
                <p:grpSpPr>
                  <a:xfrm>
                    <a:off x="7054920" y="5158440"/>
                    <a:ext cx="511560" cy="219240"/>
                    <a:chOff x="7054920" y="5158440"/>
                    <a:chExt cx="511560" cy="219240"/>
                  </a:xfrm>
                </p:grpSpPr>
                <p:grpSp>
                  <p:nvGrpSpPr>
                    <p:cNvPr id="619" name=""/>
                    <p:cNvGrpSpPr/>
                    <p:nvPr/>
                  </p:nvGrpSpPr>
                  <p:grpSpPr>
                    <a:xfrm>
                      <a:off x="7058520" y="5169600"/>
                      <a:ext cx="507960" cy="208080"/>
                      <a:chOff x="7058520" y="5169600"/>
                      <a:chExt cx="507960" cy="208080"/>
                    </a:xfrm>
                  </p:grpSpPr>
                  <p:sp>
                    <p:nvSpPr>
                      <p:cNvPr id="620" name=""/>
                      <p:cNvSpPr/>
                      <p:nvPr/>
                    </p:nvSpPr>
                    <p:spPr>
                      <a:xfrm>
                        <a:off x="7207920" y="5209560"/>
                        <a:ext cx="358560" cy="168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4" h="176">
                            <a:moveTo>
                              <a:pt x="0" y="0"/>
                            </a:moveTo>
                            <a:lnTo>
                              <a:pt x="136" y="0"/>
                            </a:lnTo>
                            <a:lnTo>
                              <a:pt x="199" y="15"/>
                            </a:lnTo>
                            <a:lnTo>
                              <a:pt x="278" y="64"/>
                            </a:lnTo>
                            <a:lnTo>
                              <a:pt x="290" y="74"/>
                            </a:lnTo>
                            <a:lnTo>
                              <a:pt x="281" y="92"/>
                            </a:lnTo>
                            <a:lnTo>
                              <a:pt x="264" y="100"/>
                            </a:lnTo>
                            <a:lnTo>
                              <a:pt x="238" y="96"/>
                            </a:lnTo>
                            <a:lnTo>
                              <a:pt x="206" y="84"/>
                            </a:lnTo>
                            <a:lnTo>
                              <a:pt x="180" y="68"/>
                            </a:lnTo>
                            <a:lnTo>
                              <a:pt x="178" y="70"/>
                            </a:lnTo>
                            <a:lnTo>
                              <a:pt x="230" y="102"/>
                            </a:lnTo>
                            <a:lnTo>
                              <a:pt x="274" y="110"/>
                            </a:lnTo>
                            <a:lnTo>
                              <a:pt x="320" y="110"/>
                            </a:lnTo>
                            <a:lnTo>
                              <a:pt x="354" y="100"/>
                            </a:lnTo>
                            <a:lnTo>
                              <a:pt x="374" y="106"/>
                            </a:lnTo>
                            <a:lnTo>
                              <a:pt x="374" y="128"/>
                            </a:lnTo>
                            <a:lnTo>
                              <a:pt x="362" y="150"/>
                            </a:lnTo>
                            <a:lnTo>
                              <a:pt x="336" y="164"/>
                            </a:lnTo>
                            <a:lnTo>
                              <a:pt x="306" y="174"/>
                            </a:lnTo>
                            <a:lnTo>
                              <a:pt x="130" y="176"/>
                            </a:lnTo>
                            <a:lnTo>
                              <a:pt x="104" y="158"/>
                            </a:lnTo>
                            <a:lnTo>
                              <a:pt x="74" y="146"/>
                            </a:lnTo>
                            <a:lnTo>
                              <a:pt x="46" y="126"/>
                            </a:lnTo>
                            <a:lnTo>
                              <a:pt x="26" y="110"/>
                            </a:lnTo>
                            <a:lnTo>
                              <a:pt x="2" y="1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1" name=""/>
                      <p:cNvSpPr/>
                      <p:nvPr/>
                    </p:nvSpPr>
                    <p:spPr>
                      <a:xfrm>
                        <a:off x="7058520" y="5169600"/>
                        <a:ext cx="155880" cy="171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348">
                            <a:moveTo>
                              <a:pt x="0" y="0"/>
                            </a:moveTo>
                            <a:lnTo>
                              <a:pt x="0" y="348"/>
                            </a:lnTo>
                            <a:lnTo>
                              <a:pt x="240" y="348"/>
                            </a:lnTo>
                            <a:lnTo>
                              <a:pt x="240" y="87"/>
                            </a:lnTo>
                            <a:lnTo>
                              <a:pt x="207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7204320" y="5198400"/>
                      <a:ext cx="358560" cy="16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7054920" y="5158440"/>
                      <a:ext cx="15624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a8a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7060680" y="5164200"/>
                      <a:ext cx="1429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3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219" y="103"/>
                          </a:lnTo>
                          <a:lnTo>
                            <a:pt x="219" y="78"/>
                          </a:lnTo>
                          <a:lnTo>
                            <a:pt x="186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3040" bIns="2304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25" name=""/>
              <p:cNvGrpSpPr/>
              <p:nvPr/>
            </p:nvGrpSpPr>
            <p:grpSpPr>
              <a:xfrm>
                <a:off x="6422040" y="1400400"/>
                <a:ext cx="2746080" cy="3338640"/>
                <a:chOff x="6422040" y="1400400"/>
                <a:chExt cx="2746080" cy="3338640"/>
              </a:xfrm>
            </p:grpSpPr>
            <p:sp>
              <p:nvSpPr>
                <p:cNvPr id="626" name=""/>
                <p:cNvSpPr/>
                <p:nvPr/>
              </p:nvSpPr>
              <p:spPr>
                <a:xfrm rot="2557200">
                  <a:off x="6631200" y="1749240"/>
                  <a:ext cx="1500840" cy="1203840"/>
                </a:xfrm>
                <a:custGeom>
                  <a:avLst/>
                  <a:gdLst/>
                  <a:ahLst/>
                  <a:rect l="l" t="t" r="r" b="b"/>
                  <a:pathLst>
                    <a:path w="572" h="434">
                      <a:moveTo>
                        <a:pt x="409" y="0"/>
                      </a:moveTo>
                      <a:lnTo>
                        <a:pt x="403" y="0"/>
                      </a:lnTo>
                      <a:lnTo>
                        <a:pt x="397" y="0"/>
                      </a:lnTo>
                      <a:lnTo>
                        <a:pt x="392" y="0"/>
                      </a:lnTo>
                      <a:lnTo>
                        <a:pt x="386" y="0"/>
                      </a:lnTo>
                      <a:lnTo>
                        <a:pt x="380" y="2"/>
                      </a:lnTo>
                      <a:lnTo>
                        <a:pt x="374" y="2"/>
                      </a:lnTo>
                      <a:lnTo>
                        <a:pt x="369" y="4"/>
                      </a:lnTo>
                      <a:lnTo>
                        <a:pt x="363" y="4"/>
                      </a:lnTo>
                      <a:lnTo>
                        <a:pt x="359" y="4"/>
                      </a:lnTo>
                      <a:lnTo>
                        <a:pt x="355" y="4"/>
                      </a:lnTo>
                      <a:lnTo>
                        <a:pt x="351" y="6"/>
                      </a:lnTo>
                      <a:lnTo>
                        <a:pt x="347" y="6"/>
                      </a:lnTo>
                      <a:lnTo>
                        <a:pt x="344" y="6"/>
                      </a:lnTo>
                      <a:lnTo>
                        <a:pt x="340" y="8"/>
                      </a:lnTo>
                      <a:lnTo>
                        <a:pt x="336" y="8"/>
                      </a:lnTo>
                      <a:lnTo>
                        <a:pt x="332" y="8"/>
                      </a:lnTo>
                      <a:lnTo>
                        <a:pt x="328" y="10"/>
                      </a:lnTo>
                      <a:lnTo>
                        <a:pt x="323" y="11"/>
                      </a:lnTo>
                      <a:lnTo>
                        <a:pt x="317" y="13"/>
                      </a:lnTo>
                      <a:lnTo>
                        <a:pt x="313" y="15"/>
                      </a:lnTo>
                      <a:lnTo>
                        <a:pt x="307" y="17"/>
                      </a:lnTo>
                      <a:lnTo>
                        <a:pt x="303" y="17"/>
                      </a:lnTo>
                      <a:lnTo>
                        <a:pt x="298" y="19"/>
                      </a:lnTo>
                      <a:lnTo>
                        <a:pt x="292" y="21"/>
                      </a:lnTo>
                      <a:lnTo>
                        <a:pt x="286" y="23"/>
                      </a:lnTo>
                      <a:lnTo>
                        <a:pt x="280" y="27"/>
                      </a:lnTo>
                      <a:lnTo>
                        <a:pt x="275" y="29"/>
                      </a:lnTo>
                      <a:lnTo>
                        <a:pt x="269" y="31"/>
                      </a:lnTo>
                      <a:lnTo>
                        <a:pt x="263" y="33"/>
                      </a:lnTo>
                      <a:lnTo>
                        <a:pt x="257" y="34"/>
                      </a:lnTo>
                      <a:lnTo>
                        <a:pt x="251" y="38"/>
                      </a:lnTo>
                      <a:lnTo>
                        <a:pt x="246" y="40"/>
                      </a:lnTo>
                      <a:lnTo>
                        <a:pt x="242" y="42"/>
                      </a:lnTo>
                      <a:lnTo>
                        <a:pt x="238" y="44"/>
                      </a:lnTo>
                      <a:lnTo>
                        <a:pt x="234" y="46"/>
                      </a:lnTo>
                      <a:lnTo>
                        <a:pt x="230" y="50"/>
                      </a:lnTo>
                      <a:lnTo>
                        <a:pt x="225" y="52"/>
                      </a:lnTo>
                      <a:lnTo>
                        <a:pt x="221" y="54"/>
                      </a:lnTo>
                      <a:lnTo>
                        <a:pt x="217" y="58"/>
                      </a:lnTo>
                      <a:lnTo>
                        <a:pt x="213" y="59"/>
                      </a:lnTo>
                      <a:lnTo>
                        <a:pt x="209" y="63"/>
                      </a:lnTo>
                      <a:lnTo>
                        <a:pt x="207" y="65"/>
                      </a:lnTo>
                      <a:lnTo>
                        <a:pt x="203" y="67"/>
                      </a:lnTo>
                      <a:lnTo>
                        <a:pt x="200" y="71"/>
                      </a:lnTo>
                      <a:lnTo>
                        <a:pt x="196" y="73"/>
                      </a:lnTo>
                      <a:lnTo>
                        <a:pt x="192" y="77"/>
                      </a:lnTo>
                      <a:lnTo>
                        <a:pt x="188" y="79"/>
                      </a:lnTo>
                      <a:lnTo>
                        <a:pt x="186" y="82"/>
                      </a:lnTo>
                      <a:lnTo>
                        <a:pt x="179" y="88"/>
                      </a:lnTo>
                      <a:lnTo>
                        <a:pt x="171" y="96"/>
                      </a:lnTo>
                      <a:lnTo>
                        <a:pt x="163" y="104"/>
                      </a:lnTo>
                      <a:lnTo>
                        <a:pt x="157" y="111"/>
                      </a:lnTo>
                      <a:lnTo>
                        <a:pt x="150" y="119"/>
                      </a:lnTo>
                      <a:lnTo>
                        <a:pt x="144" y="127"/>
                      </a:lnTo>
                      <a:lnTo>
                        <a:pt x="136" y="134"/>
                      </a:lnTo>
                      <a:lnTo>
                        <a:pt x="131" y="144"/>
                      </a:lnTo>
                      <a:lnTo>
                        <a:pt x="125" y="152"/>
                      </a:lnTo>
                      <a:lnTo>
                        <a:pt x="119" y="159"/>
                      </a:lnTo>
                      <a:lnTo>
                        <a:pt x="113" y="167"/>
                      </a:lnTo>
                      <a:lnTo>
                        <a:pt x="108" y="177"/>
                      </a:lnTo>
                      <a:lnTo>
                        <a:pt x="102" y="184"/>
                      </a:lnTo>
                      <a:lnTo>
                        <a:pt x="96" y="194"/>
                      </a:lnTo>
                      <a:lnTo>
                        <a:pt x="92" y="201"/>
                      </a:lnTo>
                      <a:lnTo>
                        <a:pt x="84" y="209"/>
                      </a:lnTo>
                      <a:lnTo>
                        <a:pt x="81" y="217"/>
                      </a:lnTo>
                      <a:lnTo>
                        <a:pt x="77" y="224"/>
                      </a:lnTo>
                      <a:lnTo>
                        <a:pt x="73" y="232"/>
                      </a:lnTo>
                      <a:lnTo>
                        <a:pt x="69" y="240"/>
                      </a:lnTo>
                      <a:lnTo>
                        <a:pt x="65" y="248"/>
                      </a:lnTo>
                      <a:lnTo>
                        <a:pt x="61" y="255"/>
                      </a:lnTo>
                      <a:lnTo>
                        <a:pt x="58" y="263"/>
                      </a:lnTo>
                      <a:lnTo>
                        <a:pt x="56" y="271"/>
                      </a:lnTo>
                      <a:lnTo>
                        <a:pt x="52" y="278"/>
                      </a:lnTo>
                      <a:lnTo>
                        <a:pt x="48" y="288"/>
                      </a:lnTo>
                      <a:lnTo>
                        <a:pt x="44" y="296"/>
                      </a:lnTo>
                      <a:lnTo>
                        <a:pt x="40" y="305"/>
                      </a:lnTo>
                      <a:lnTo>
                        <a:pt x="36" y="315"/>
                      </a:lnTo>
                      <a:lnTo>
                        <a:pt x="33" y="322"/>
                      </a:lnTo>
                      <a:lnTo>
                        <a:pt x="31" y="332"/>
                      </a:lnTo>
                      <a:lnTo>
                        <a:pt x="27" y="340"/>
                      </a:lnTo>
                      <a:lnTo>
                        <a:pt x="25" y="347"/>
                      </a:lnTo>
                      <a:lnTo>
                        <a:pt x="21" y="355"/>
                      </a:lnTo>
                      <a:lnTo>
                        <a:pt x="19" y="363"/>
                      </a:lnTo>
                      <a:lnTo>
                        <a:pt x="17" y="370"/>
                      </a:lnTo>
                      <a:lnTo>
                        <a:pt x="13" y="378"/>
                      </a:lnTo>
                      <a:lnTo>
                        <a:pt x="12" y="386"/>
                      </a:lnTo>
                      <a:lnTo>
                        <a:pt x="10" y="395"/>
                      </a:lnTo>
                      <a:lnTo>
                        <a:pt x="8" y="403"/>
                      </a:lnTo>
                      <a:lnTo>
                        <a:pt x="0" y="434"/>
                      </a:lnTo>
                      <a:lnTo>
                        <a:pt x="10" y="420"/>
                      </a:lnTo>
                      <a:lnTo>
                        <a:pt x="17" y="407"/>
                      </a:lnTo>
                      <a:lnTo>
                        <a:pt x="27" y="393"/>
                      </a:lnTo>
                      <a:lnTo>
                        <a:pt x="35" y="380"/>
                      </a:lnTo>
                      <a:lnTo>
                        <a:pt x="44" y="368"/>
                      </a:lnTo>
                      <a:lnTo>
                        <a:pt x="52" y="355"/>
                      </a:lnTo>
                      <a:lnTo>
                        <a:pt x="61" y="342"/>
                      </a:lnTo>
                      <a:lnTo>
                        <a:pt x="69" y="328"/>
                      </a:lnTo>
                      <a:lnTo>
                        <a:pt x="73" y="320"/>
                      </a:lnTo>
                      <a:lnTo>
                        <a:pt x="79" y="315"/>
                      </a:lnTo>
                      <a:lnTo>
                        <a:pt x="83" y="307"/>
                      </a:lnTo>
                      <a:lnTo>
                        <a:pt x="88" y="299"/>
                      </a:lnTo>
                      <a:lnTo>
                        <a:pt x="92" y="294"/>
                      </a:lnTo>
                      <a:lnTo>
                        <a:pt x="98" y="286"/>
                      </a:lnTo>
                      <a:lnTo>
                        <a:pt x="102" y="280"/>
                      </a:lnTo>
                      <a:lnTo>
                        <a:pt x="108" y="272"/>
                      </a:lnTo>
                      <a:lnTo>
                        <a:pt x="113" y="265"/>
                      </a:lnTo>
                      <a:lnTo>
                        <a:pt x="119" y="255"/>
                      </a:lnTo>
                      <a:lnTo>
                        <a:pt x="125" y="248"/>
                      </a:lnTo>
                      <a:lnTo>
                        <a:pt x="132" y="240"/>
                      </a:lnTo>
                      <a:lnTo>
                        <a:pt x="138" y="230"/>
                      </a:lnTo>
                      <a:lnTo>
                        <a:pt x="144" y="223"/>
                      </a:lnTo>
                      <a:lnTo>
                        <a:pt x="152" y="215"/>
                      </a:lnTo>
                      <a:lnTo>
                        <a:pt x="157" y="207"/>
                      </a:lnTo>
                      <a:lnTo>
                        <a:pt x="173" y="188"/>
                      </a:lnTo>
                      <a:lnTo>
                        <a:pt x="188" y="171"/>
                      </a:lnTo>
                      <a:lnTo>
                        <a:pt x="203" y="155"/>
                      </a:lnTo>
                      <a:lnTo>
                        <a:pt x="223" y="138"/>
                      </a:lnTo>
                      <a:lnTo>
                        <a:pt x="240" y="125"/>
                      </a:lnTo>
                      <a:lnTo>
                        <a:pt x="259" y="109"/>
                      </a:lnTo>
                      <a:lnTo>
                        <a:pt x="278" y="96"/>
                      </a:lnTo>
                      <a:lnTo>
                        <a:pt x="298" y="82"/>
                      </a:lnTo>
                      <a:lnTo>
                        <a:pt x="315" y="71"/>
                      </a:lnTo>
                      <a:lnTo>
                        <a:pt x="336" y="59"/>
                      </a:lnTo>
                      <a:lnTo>
                        <a:pt x="357" y="50"/>
                      </a:lnTo>
                      <a:lnTo>
                        <a:pt x="378" y="38"/>
                      </a:lnTo>
                      <a:lnTo>
                        <a:pt x="401" y="31"/>
                      </a:lnTo>
                      <a:lnTo>
                        <a:pt x="422" y="23"/>
                      </a:lnTo>
                      <a:lnTo>
                        <a:pt x="445" y="19"/>
                      </a:lnTo>
                      <a:lnTo>
                        <a:pt x="466" y="15"/>
                      </a:lnTo>
                      <a:lnTo>
                        <a:pt x="572" y="8"/>
                      </a:lnTo>
                      <a:lnTo>
                        <a:pt x="553" y="8"/>
                      </a:lnTo>
                      <a:lnTo>
                        <a:pt x="532" y="6"/>
                      </a:lnTo>
                      <a:lnTo>
                        <a:pt x="511" y="4"/>
                      </a:lnTo>
                      <a:lnTo>
                        <a:pt x="490" y="4"/>
                      </a:lnTo>
                      <a:lnTo>
                        <a:pt x="468" y="2"/>
                      </a:lnTo>
                      <a:lnTo>
                        <a:pt x="449" y="0"/>
                      </a:lnTo>
                      <a:lnTo>
                        <a:pt x="428" y="0"/>
                      </a:lnTo>
                      <a:lnTo>
                        <a:pt x="40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ffe1ff"/>
                    </a:gs>
                    <a:gs pos="100000">
                      <a:srgbClr val="dc0081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rot="2557200">
                  <a:off x="7067160" y="2372040"/>
                  <a:ext cx="1600200" cy="2102760"/>
                </a:xfrm>
                <a:custGeom>
                  <a:avLst/>
                  <a:gdLst/>
                  <a:ahLst/>
                  <a:rect l="l" t="t" r="r" b="b"/>
                  <a:pathLst>
                    <a:path w="610" h="758">
                      <a:moveTo>
                        <a:pt x="414" y="503"/>
                      </a:moveTo>
                      <a:lnTo>
                        <a:pt x="343" y="489"/>
                      </a:lnTo>
                      <a:lnTo>
                        <a:pt x="510" y="758"/>
                      </a:lnTo>
                      <a:lnTo>
                        <a:pt x="610" y="455"/>
                      </a:lnTo>
                      <a:lnTo>
                        <a:pt x="545" y="486"/>
                      </a:lnTo>
                      <a:lnTo>
                        <a:pt x="539" y="453"/>
                      </a:lnTo>
                      <a:lnTo>
                        <a:pt x="531" y="420"/>
                      </a:lnTo>
                      <a:lnTo>
                        <a:pt x="526" y="397"/>
                      </a:lnTo>
                      <a:lnTo>
                        <a:pt x="518" y="370"/>
                      </a:lnTo>
                      <a:lnTo>
                        <a:pt x="510" y="343"/>
                      </a:lnTo>
                      <a:lnTo>
                        <a:pt x="499" y="311"/>
                      </a:lnTo>
                      <a:lnTo>
                        <a:pt x="483" y="278"/>
                      </a:lnTo>
                      <a:lnTo>
                        <a:pt x="466" y="244"/>
                      </a:lnTo>
                      <a:lnTo>
                        <a:pt x="453" y="217"/>
                      </a:lnTo>
                      <a:lnTo>
                        <a:pt x="435" y="190"/>
                      </a:lnTo>
                      <a:lnTo>
                        <a:pt x="416" y="161"/>
                      </a:lnTo>
                      <a:lnTo>
                        <a:pt x="395" y="136"/>
                      </a:lnTo>
                      <a:lnTo>
                        <a:pt x="376" y="117"/>
                      </a:lnTo>
                      <a:lnTo>
                        <a:pt x="349" y="90"/>
                      </a:lnTo>
                      <a:lnTo>
                        <a:pt x="322" y="69"/>
                      </a:lnTo>
                      <a:lnTo>
                        <a:pt x="305" y="56"/>
                      </a:lnTo>
                      <a:lnTo>
                        <a:pt x="286" y="44"/>
                      </a:lnTo>
                      <a:lnTo>
                        <a:pt x="259" y="31"/>
                      </a:lnTo>
                      <a:lnTo>
                        <a:pt x="234" y="21"/>
                      </a:lnTo>
                      <a:lnTo>
                        <a:pt x="215" y="13"/>
                      </a:lnTo>
                      <a:lnTo>
                        <a:pt x="192" y="8"/>
                      </a:lnTo>
                      <a:lnTo>
                        <a:pt x="163" y="2"/>
                      </a:lnTo>
                      <a:lnTo>
                        <a:pt x="130" y="0"/>
                      </a:lnTo>
                      <a:lnTo>
                        <a:pt x="0" y="0"/>
                      </a:lnTo>
                      <a:lnTo>
                        <a:pt x="36" y="2"/>
                      </a:lnTo>
                      <a:lnTo>
                        <a:pt x="69" y="10"/>
                      </a:lnTo>
                      <a:lnTo>
                        <a:pt x="96" y="17"/>
                      </a:lnTo>
                      <a:lnTo>
                        <a:pt x="132" y="33"/>
                      </a:lnTo>
                      <a:lnTo>
                        <a:pt x="163" y="48"/>
                      </a:lnTo>
                      <a:lnTo>
                        <a:pt x="190" y="65"/>
                      </a:lnTo>
                      <a:lnTo>
                        <a:pt x="220" y="90"/>
                      </a:lnTo>
                      <a:lnTo>
                        <a:pt x="247" y="115"/>
                      </a:lnTo>
                      <a:lnTo>
                        <a:pt x="268" y="140"/>
                      </a:lnTo>
                      <a:lnTo>
                        <a:pt x="284" y="159"/>
                      </a:lnTo>
                      <a:lnTo>
                        <a:pt x="305" y="188"/>
                      </a:lnTo>
                      <a:lnTo>
                        <a:pt x="322" y="215"/>
                      </a:lnTo>
                      <a:lnTo>
                        <a:pt x="336" y="238"/>
                      </a:lnTo>
                      <a:lnTo>
                        <a:pt x="347" y="261"/>
                      </a:lnTo>
                      <a:lnTo>
                        <a:pt x="362" y="296"/>
                      </a:lnTo>
                      <a:lnTo>
                        <a:pt x="372" y="319"/>
                      </a:lnTo>
                      <a:lnTo>
                        <a:pt x="382" y="343"/>
                      </a:lnTo>
                      <a:lnTo>
                        <a:pt x="389" y="370"/>
                      </a:lnTo>
                      <a:lnTo>
                        <a:pt x="397" y="397"/>
                      </a:lnTo>
                      <a:lnTo>
                        <a:pt x="403" y="418"/>
                      </a:lnTo>
                      <a:lnTo>
                        <a:pt x="407" y="439"/>
                      </a:lnTo>
                      <a:lnTo>
                        <a:pt x="410" y="461"/>
                      </a:lnTo>
                      <a:lnTo>
                        <a:pt x="414" y="503"/>
                      </a:lnTo>
                    </a:path>
                  </a:pathLst>
                </a:custGeom>
                <a:gradFill rotWithShape="0">
                  <a:gsLst>
                    <a:gs pos="0">
                      <a:srgbClr val="dc0081"/>
                    </a:gs>
                    <a:gs pos="100000">
                      <a:srgbClr val="ffe1ff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8" name=""/>
            <p:cNvGrpSpPr/>
            <p:nvPr/>
          </p:nvGrpSpPr>
          <p:grpSpPr>
            <a:xfrm>
              <a:off x="6270480" y="1467000"/>
              <a:ext cx="1868760" cy="1739880"/>
              <a:chOff x="6270480" y="1467000"/>
              <a:chExt cx="1868760" cy="1739880"/>
            </a:xfrm>
          </p:grpSpPr>
          <p:sp>
            <p:nvSpPr>
              <p:cNvPr id="629" name=""/>
              <p:cNvSpPr/>
              <p:nvPr/>
            </p:nvSpPr>
            <p:spPr>
              <a:xfrm>
                <a:off x="6270480" y="1467000"/>
                <a:ext cx="1868760" cy="1739880"/>
              </a:xfrm>
              <a:prstGeom prst="ellipse">
                <a:avLst/>
              </a:prstGeom>
              <a:gradFill rotWithShape="0">
                <a:gsLst>
                  <a:gs pos="0">
                    <a:srgbClr val="f2a8d3"/>
                  </a:gs>
                  <a:gs pos="100000">
                    <a:srgbClr val="dc00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0" name=""/>
              <p:cNvGrpSpPr/>
              <p:nvPr/>
            </p:nvGrpSpPr>
            <p:grpSpPr>
              <a:xfrm>
                <a:off x="6512400" y="1705680"/>
                <a:ext cx="761400" cy="1191600"/>
                <a:chOff x="6512400" y="1705680"/>
                <a:chExt cx="761400" cy="11916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6851880" y="1777320"/>
                  <a:ext cx="421920" cy="111960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6516360" y="1884600"/>
                  <a:ext cx="336600" cy="10126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6555240" y="1946520"/>
                  <a:ext cx="244080" cy="899640"/>
                  <a:chOff x="6555240" y="1946520"/>
                  <a:chExt cx="244080" cy="89964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6555240" y="1946520"/>
                    <a:ext cx="244080" cy="89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6558480" y="2736360"/>
                    <a:ext cx="234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556680" y="2069280"/>
                    <a:ext cx="24264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562440" y="2161800"/>
                    <a:ext cx="231840" cy="51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562440" y="2255400"/>
                    <a:ext cx="234000" cy="6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562440" y="2341440"/>
                    <a:ext cx="230040" cy="5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592320" y="212148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592320" y="2213640"/>
                    <a:ext cx="168840" cy="37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592320" y="230616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592320" y="2398320"/>
                    <a:ext cx="16884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582960" y="1990440"/>
                    <a:ext cx="38520" cy="2376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6627600" y="2118240"/>
                    <a:ext cx="907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627600" y="2206440"/>
                    <a:ext cx="90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6627600" y="2299680"/>
                    <a:ext cx="90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627600" y="2390400"/>
                    <a:ext cx="90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558480" y="2689920"/>
                    <a:ext cx="234000" cy="61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558480" y="2644920"/>
                    <a:ext cx="234000" cy="6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6512400" y="1705680"/>
                  <a:ext cx="760320" cy="26172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7054920" y="1705680"/>
                <a:ext cx="595440" cy="471600"/>
                <a:chOff x="7054920" y="1705680"/>
                <a:chExt cx="595440" cy="47160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7160040" y="1705680"/>
                  <a:ext cx="490320" cy="391320"/>
                </a:xfrm>
                <a:custGeom>
                  <a:avLst/>
                  <a:gdLst/>
                  <a:ahLst/>
                  <a:rect l="l" t="t" r="r" b="b"/>
                  <a:pathLst>
                    <a:path w="1248" h="996">
                      <a:moveTo>
                        <a:pt x="0" y="996"/>
                      </a:moveTo>
                      <a:lnTo>
                        <a:pt x="0" y="94"/>
                      </a:lnTo>
                      <a:lnTo>
                        <a:pt x="79" y="0"/>
                      </a:lnTo>
                      <a:lnTo>
                        <a:pt x="467" y="0"/>
                      </a:lnTo>
                      <a:lnTo>
                        <a:pt x="526" y="93"/>
                      </a:lnTo>
                      <a:lnTo>
                        <a:pt x="1248" y="94"/>
                      </a:lnTo>
                      <a:lnTo>
                        <a:pt x="124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45929" dir="2028877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7054920" y="1958040"/>
                  <a:ext cx="511200" cy="219240"/>
                  <a:chOff x="7054920" y="1958040"/>
                  <a:chExt cx="511200" cy="219240"/>
                </a:xfrm>
              </p:grpSpPr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7058520" y="1969200"/>
                    <a:ext cx="507600" cy="208080"/>
                    <a:chOff x="7058520" y="1969200"/>
                    <a:chExt cx="507600" cy="20808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7207920" y="200916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7058520" y="196920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8" name=""/>
                  <p:cNvSpPr/>
                  <p:nvPr/>
                </p:nvSpPr>
                <p:spPr>
                  <a:xfrm>
                    <a:off x="7204320" y="199800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7054920" y="1958040"/>
                    <a:ext cx="1562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7060680" y="196380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7054920" y="2301840"/>
                <a:ext cx="972360" cy="543960"/>
                <a:chOff x="7054920" y="2301840"/>
                <a:chExt cx="972360" cy="543960"/>
              </a:xfrm>
            </p:grpSpPr>
            <p:grpSp>
              <p:nvGrpSpPr>
                <p:cNvPr id="662" name=""/>
                <p:cNvGrpSpPr/>
                <p:nvPr/>
              </p:nvGrpSpPr>
              <p:grpSpPr>
                <a:xfrm>
                  <a:off x="7217280" y="2301840"/>
                  <a:ext cx="810000" cy="512280"/>
                  <a:chOff x="7217280" y="2301840"/>
                  <a:chExt cx="810000" cy="512280"/>
                </a:xfrm>
              </p:grpSpPr>
              <p:sp>
                <p:nvSpPr>
                  <p:cNvPr id="663" name=""/>
                  <p:cNvSpPr/>
                  <p:nvPr/>
                </p:nvSpPr>
                <p:spPr>
                  <a:xfrm>
                    <a:off x="7217280" y="2301840"/>
                    <a:ext cx="81000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761">
                        <a:moveTo>
                          <a:pt x="1661" y="165"/>
                        </a:moveTo>
                        <a:lnTo>
                          <a:pt x="1603" y="150"/>
                        </a:lnTo>
                        <a:lnTo>
                          <a:pt x="1603" y="106"/>
                        </a:lnTo>
                        <a:lnTo>
                          <a:pt x="881" y="0"/>
                        </a:lnTo>
                        <a:lnTo>
                          <a:pt x="799" y="48"/>
                        </a:lnTo>
                        <a:lnTo>
                          <a:pt x="600" y="21"/>
                        </a:lnTo>
                        <a:lnTo>
                          <a:pt x="61" y="301"/>
                        </a:lnTo>
                        <a:lnTo>
                          <a:pt x="0" y="519"/>
                        </a:lnTo>
                        <a:lnTo>
                          <a:pt x="32" y="547"/>
                        </a:lnTo>
                        <a:lnTo>
                          <a:pt x="1150" y="76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 flipH="1" flipV="1">
                    <a:off x="7251840" y="2450160"/>
                    <a:ext cx="547920" cy="97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7642800" y="2562840"/>
                    <a:ext cx="131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79">
                        <a:moveTo>
                          <a:pt x="0" y="38"/>
                        </a:moveTo>
                        <a:lnTo>
                          <a:pt x="10" y="0"/>
                        </a:lnTo>
                        <a:lnTo>
                          <a:pt x="270" y="40"/>
                        </a:lnTo>
                        <a:lnTo>
                          <a:pt x="258" y="78"/>
                        </a:lnTo>
                        <a:lnTo>
                          <a:pt x="0" y="3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7238160" y="2470320"/>
                    <a:ext cx="15912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04">
                        <a:moveTo>
                          <a:pt x="0" y="153"/>
                        </a:moveTo>
                        <a:lnTo>
                          <a:pt x="282" y="203"/>
                        </a:lnTo>
                        <a:lnTo>
                          <a:pt x="327" y="50"/>
                        </a:lnTo>
                        <a:lnTo>
                          <a:pt x="42" y="0"/>
                        </a:lnTo>
                        <a:lnTo>
                          <a:pt x="0" y="15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7391160" y="2356920"/>
                    <a:ext cx="6112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56">
                        <a:moveTo>
                          <a:pt x="1251" y="0"/>
                        </a:moveTo>
                        <a:lnTo>
                          <a:pt x="821" y="320"/>
                        </a:lnTo>
                        <a:lnTo>
                          <a:pt x="0" y="179"/>
                        </a:lnTo>
                        <a:lnTo>
                          <a:pt x="0" y="213"/>
                        </a:lnTo>
                        <a:lnTo>
                          <a:pt x="818" y="355"/>
                        </a:lnTo>
                        <a:lnTo>
                          <a:pt x="1251" y="35"/>
                        </a:lnTo>
                        <a:lnTo>
                          <a:pt x="1251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 flipH="1" flipV="1">
                    <a:off x="7471440" y="2397240"/>
                    <a:ext cx="382320" cy="68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 flipH="1">
                    <a:off x="7388640" y="2323800"/>
                    <a:ext cx="218520" cy="118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7778160" y="2381400"/>
                    <a:ext cx="24876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794">
                        <a:moveTo>
                          <a:pt x="510" y="0"/>
                        </a:moveTo>
                        <a:lnTo>
                          <a:pt x="510" y="344"/>
                        </a:lnTo>
                        <a:lnTo>
                          <a:pt x="27" y="794"/>
                        </a:lnTo>
                        <a:lnTo>
                          <a:pt x="25" y="615"/>
                        </a:lnTo>
                        <a:lnTo>
                          <a:pt x="0" y="596"/>
                        </a:lnTo>
                        <a:lnTo>
                          <a:pt x="41" y="340"/>
                        </a:lnTo>
                        <a:lnTo>
                          <a:pt x="510" y="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7263000" y="2647440"/>
                    <a:ext cx="514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341">
                        <a:moveTo>
                          <a:pt x="1053" y="244"/>
                        </a:moveTo>
                        <a:lnTo>
                          <a:pt x="932" y="341"/>
                        </a:lnTo>
                        <a:lnTo>
                          <a:pt x="0" y="135"/>
                        </a:lnTo>
                        <a:lnTo>
                          <a:pt x="0" y="0"/>
                        </a:lnTo>
                        <a:lnTo>
                          <a:pt x="1051" y="24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7232760" y="2570400"/>
                    <a:ext cx="5590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409">
                        <a:moveTo>
                          <a:pt x="1145" y="409"/>
                        </a:moveTo>
                        <a:lnTo>
                          <a:pt x="1145" y="226"/>
                        </a:lnTo>
                        <a:lnTo>
                          <a:pt x="1124" y="212"/>
                        </a:lnTo>
                        <a:lnTo>
                          <a:pt x="0" y="0"/>
                        </a:lnTo>
                        <a:lnTo>
                          <a:pt x="0" y="162"/>
                        </a:lnTo>
                        <a:lnTo>
                          <a:pt x="1144" y="40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7293240" y="2680200"/>
                    <a:ext cx="40068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46">
                        <a:moveTo>
                          <a:pt x="821" y="1"/>
                        </a:moveTo>
                        <a:lnTo>
                          <a:pt x="821" y="105"/>
                        </a:lnTo>
                        <a:lnTo>
                          <a:pt x="643" y="235"/>
                        </a:lnTo>
                        <a:lnTo>
                          <a:pt x="616" y="246"/>
                        </a:lnTo>
                        <a:lnTo>
                          <a:pt x="576" y="240"/>
                        </a:lnTo>
                        <a:lnTo>
                          <a:pt x="13" y="117"/>
                        </a:lnTo>
                        <a:lnTo>
                          <a:pt x="0" y="10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7295040" y="2707920"/>
                    <a:ext cx="395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36">
                        <a:moveTo>
                          <a:pt x="810" y="0"/>
                        </a:moveTo>
                        <a:lnTo>
                          <a:pt x="637" y="125"/>
                        </a:lnTo>
                        <a:lnTo>
                          <a:pt x="603" y="136"/>
                        </a:lnTo>
                        <a:lnTo>
                          <a:pt x="573" y="13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7293240" y="2622600"/>
                    <a:ext cx="4006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50">
                        <a:moveTo>
                          <a:pt x="186" y="0"/>
                        </a:moveTo>
                        <a:lnTo>
                          <a:pt x="821" y="115"/>
                        </a:lnTo>
                        <a:lnTo>
                          <a:pt x="644" y="238"/>
                        </a:lnTo>
                        <a:lnTo>
                          <a:pt x="625" y="246"/>
                        </a:lnTo>
                        <a:lnTo>
                          <a:pt x="599" y="250"/>
                        </a:lnTo>
                        <a:lnTo>
                          <a:pt x="572" y="245"/>
                        </a:lnTo>
                        <a:lnTo>
                          <a:pt x="13" y="133"/>
                        </a:lnTo>
                        <a:lnTo>
                          <a:pt x="0" y="120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7521840" y="2326320"/>
                    <a:ext cx="13536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73">
                        <a:moveTo>
                          <a:pt x="277" y="0"/>
                        </a:moveTo>
                        <a:lnTo>
                          <a:pt x="277" y="117"/>
                        </a:lnTo>
                        <a:lnTo>
                          <a:pt x="71" y="172"/>
                        </a:lnTo>
                        <a:lnTo>
                          <a:pt x="0" y="164"/>
                        </a:lnTo>
                        <a:lnTo>
                          <a:pt x="2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 flipH="1">
                    <a:off x="7800480" y="2370600"/>
                    <a:ext cx="133560" cy="84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7656480" y="2327400"/>
                    <a:ext cx="2743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185">
                        <a:moveTo>
                          <a:pt x="562" y="89"/>
                        </a:move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422" y="184"/>
                        </a:lnTo>
                        <a:lnTo>
                          <a:pt x="562" y="8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7660080" y="2347560"/>
                    <a:ext cx="244440" cy="38160"/>
                  </a:xfrm>
                  <a:prstGeom prst="line">
                    <a:avLst/>
                  </a:prstGeom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 flipV="1">
                    <a:off x="7714080" y="2755440"/>
                    <a:ext cx="0" cy="58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"/>
                <p:cNvGrpSpPr/>
                <p:nvPr/>
              </p:nvGrpSpPr>
              <p:grpSpPr>
                <a:xfrm>
                  <a:off x="7054920" y="2626560"/>
                  <a:ext cx="511560" cy="219240"/>
                  <a:chOff x="7054920" y="2626560"/>
                  <a:chExt cx="511560" cy="219240"/>
                </a:xfrm>
              </p:grpSpPr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7058520" y="2637720"/>
                    <a:ext cx="507960" cy="208080"/>
                    <a:chOff x="7058520" y="2637720"/>
                    <a:chExt cx="507960" cy="20808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7207920" y="2677680"/>
                      <a:ext cx="35856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7058520" y="263772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85" name=""/>
                  <p:cNvSpPr/>
                  <p:nvPr/>
                </p:nvSpPr>
                <p:spPr>
                  <a:xfrm>
                    <a:off x="7204320" y="2666520"/>
                    <a:ext cx="35856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7054920" y="2626560"/>
                    <a:ext cx="1562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7060680" y="2632320"/>
                    <a:ext cx="1429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88" name=""/>
            <p:cNvSpPr/>
            <p:nvPr/>
          </p:nvSpPr>
          <p:spPr>
            <a:xfrm flipH="1">
              <a:off x="3362400" y="3384720"/>
              <a:ext cx="642960" cy="30636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c1fef9"/>
                </a:gs>
                <a:gs pos="100000">
                  <a:srgbClr val="009ea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4770360" y="3359160"/>
              <a:ext cx="642960" cy="30636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c1fef9"/>
                </a:gs>
                <a:gs pos="100000">
                  <a:srgbClr val="009ea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rot="17662800">
              <a:off x="3862080" y="3851280"/>
              <a:ext cx="642600" cy="30636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c1fef9"/>
                </a:gs>
                <a:gs pos="100000">
                  <a:srgbClr val="009ea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589640" y="3765600"/>
              <a:ext cx="975600" cy="1388880"/>
              <a:chOff x="4589640" y="3765600"/>
              <a:chExt cx="975600" cy="1388880"/>
            </a:xfrm>
          </p:grpSpPr>
          <p:sp>
            <p:nvSpPr>
              <p:cNvPr id="692" name=""/>
              <p:cNvSpPr/>
              <p:nvPr/>
            </p:nvSpPr>
            <p:spPr>
              <a:xfrm flipH="1" rot="5400000">
                <a:off x="5042520" y="3981240"/>
                <a:ext cx="738000" cy="306360"/>
              </a:xfrm>
              <a:custGeom>
                <a:avLst/>
                <a:gdLst/>
                <a:ahLst/>
                <a:rect l="l" t="t" r="r" b="b"/>
                <a:pathLst>
                  <a:path w="1082" h="154">
                    <a:moveTo>
                      <a:pt x="1082" y="74"/>
                    </a:moveTo>
                    <a:lnTo>
                      <a:pt x="876" y="154"/>
                    </a:lnTo>
                    <a:lnTo>
                      <a:pt x="876" y="111"/>
                    </a:lnTo>
                    <a:lnTo>
                      <a:pt x="0" y="111"/>
                    </a:lnTo>
                    <a:lnTo>
                      <a:pt x="0" y="41"/>
                    </a:lnTo>
                    <a:lnTo>
                      <a:pt x="876" y="41"/>
                    </a:lnTo>
                    <a:lnTo>
                      <a:pt x="876" y="0"/>
                    </a:lnTo>
                    <a:lnTo>
                      <a:pt x="1082" y="74"/>
                    </a:lnTo>
                  </a:path>
                </a:pathLst>
              </a:custGeom>
              <a:gradFill rotWithShape="0">
                <a:gsLst>
                  <a:gs pos="0">
                    <a:srgbClr val="009ea1"/>
                  </a:gs>
                  <a:gs pos="100000">
                    <a:srgbClr val="c1fef9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589640" y="4581360"/>
                <a:ext cx="942840" cy="573120"/>
              </a:xfrm>
              <a:prstGeom prst="wedgeEllipseCallout">
                <a:avLst>
                  <a:gd name="adj1" fmla="val 35523"/>
                  <a:gd name="adj2" fmla="val -96259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0ccff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R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20:04:43Z</dcterms:created>
  <dc:creator>Priscilla Johnston</dc:creator>
  <dc:description/>
  <dc:language>en-US</dc:language>
  <cp:lastModifiedBy>Irene Barnett</cp:lastModifiedBy>
  <dcterms:modified xsi:type="dcterms:W3CDTF">2000-11-21T16:48:28Z</dcterms:modified>
  <cp:revision>71</cp:revision>
  <dc:subject/>
  <dc:title>Module 3: Preparing for a Cluster Services Installation</dc:title>
</cp:coreProperties>
</file>