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AEAE-897D-42DD-825A-5890EB9A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683FB-65B6-4E17-A70C-A7D97A1C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1B62-CC70-4A2C-A1F5-363903FEB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F984-9ACB-4F9E-8CAF-ED4C56960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EFDC0-7052-4448-B059-7969F433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52DB2-8F3F-4526-9E0A-910E2BBD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C5FCB-B733-45BC-A568-7772E575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CBDC0-3DCF-4003-9931-A9A52D22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05305-D0D1-47B2-8031-B88BF442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07890-B110-4573-89DF-86164FBC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D92D4-6D69-4BEB-888E-E72D32FA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A6A1-3782-4C35-91C3-E44533E1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7F6C0C-EAF6-44C7-8EB9-3A7EB70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C8C8E-1082-42A4-B2B7-3DC9D69C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81A897-3937-4FB2-8B32-08B43773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AF35C-A301-4238-85FF-6ED22D30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7497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93006-8EA2-4CDA-AC4E-6D846298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AC5E-0986-4E4C-8C7E-A84B2AE0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0E0C5-AA9A-447E-AE58-6FE5F380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DB17-F89F-418C-BCA4-0445322C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B532-75DC-4272-AB01-3C31AC81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0F24-9800-4C31-B24D-0B795CDD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497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6E85-D8C1-4806-98CF-BC83B624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497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882C9-8D3D-45F5-83EF-6BCE9D60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60320" indent="-285480">
              <a:spcAft>
                <a:spcPts val="499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179360" indent="-228600">
              <a:spcAft>
                <a:spcPts val="499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Aft>
                <a:spcPts val="499"/>
              </a:spcAft>
              <a:buClr>
                <a:srgbClr val="df00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Aft>
                <a:spcPts val="499"/>
              </a:spcAft>
              <a:buClr>
                <a:srgbClr val="df00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Aft>
                <a:spcPts val="499"/>
              </a:spcAft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Aft>
                <a:spcPts val="499"/>
              </a:spcAft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98560" y="6661080"/>
            <a:ext cx="39592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29600" y="6661080"/>
            <a:ext cx="457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1F87EABD-296C-4E2F-AEEF-AE62FFDAC450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97480" y="6661080"/>
            <a:ext cx="180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6 TietoEnator Corporation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8680" cy="26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47480" y="6660720"/>
            <a:ext cx="12286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WIZPIC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8229600" cy="342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4"/>
          </p:nvPr>
        </p:nvSpPr>
        <p:spPr>
          <a:xfrm>
            <a:off x="1798560" y="6661080"/>
            <a:ext cx="395928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229600" y="6661080"/>
            <a:ext cx="45720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D486571A-83E6-4974-AEB7-E1F7CF9AF83D}" type="slidenum"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97480" y="6661080"/>
            <a:ext cx="180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Arial"/>
              </a:rPr>
              <a:t>Copyright © 2006 TietoEnator Corporation</a:t>
            </a:r>
            <a:endParaRPr b="0" lang="en-US" sz="7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8680" cy="260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dt" idx="6"/>
          </p:nvPr>
        </p:nvSpPr>
        <p:spPr>
          <a:xfrm>
            <a:off x="447480" y="6660720"/>
            <a:ext cx="122868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914400" indent="36360" algn="ctr">
              <a:spcAft>
                <a:spcPts val="337"/>
              </a:spcAft>
              <a:buClr>
                <a:srgbClr val="df0032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Aft>
                <a:spcPts val="201"/>
              </a:spcAft>
              <a:buClr>
                <a:srgbClr val="df003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Aft>
                <a:spcPts val="201"/>
              </a:spcAft>
              <a:buClr>
                <a:srgbClr val="df003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onitoring%20-%20generally_VSB_12_2007_EN.ppt" TargetMode="External"/><Relationship Id="rId3" Type="http://schemas.openxmlformats.org/officeDocument/2006/relationships/hyperlink" Target="file:///Patrol_monitoring_VSB_12_2007_EN.ppt" TargetMode="External"/><Relationship Id="rId4" Type="http://schemas.openxmlformats.org/officeDocument/2006/relationships/hyperlink" Target="file:///Event%20example_VSB_12_2007_EN.ppt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ote server monitor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66880" y="53337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Agenda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spcAft>
                <a:spcPts val="60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2a2a2"/>
                </a:solidFill>
                <a:uFillTx/>
                <a:latin typeface="Arial"/>
                <a:hlinkClick r:id="rId2"/>
              </a:rPr>
              <a:t>Monitoring generall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60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2a2a2"/>
                </a:solidFill>
                <a:uFillTx/>
                <a:latin typeface="Arial"/>
                <a:hlinkClick r:id="rId3"/>
              </a:rPr>
              <a:t>BMC Patrol monitoring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60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2a2a2"/>
                </a:solidFill>
                <a:uFillTx/>
                <a:latin typeface="Arial"/>
                <a:hlinkClick r:id="rId4"/>
              </a:rPr>
              <a:t>Event examp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284040" indent="-284040">
              <a:spcAft>
                <a:spcPts val="601"/>
              </a:spcAft>
              <a:buClr>
                <a:srgbClr val="df003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dows monitoring settings examp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04ED-1249-4CF7-A7AB-935A37D71B4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2007-12-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22:37:40Z</dcterms:created>
  <dc:creator>prokeada</dc:creator>
  <dc:description/>
  <dc:language>en-US</dc:language>
  <cp:lastModifiedBy>prokeada</cp:lastModifiedBy>
  <dcterms:modified xsi:type="dcterms:W3CDTF">2007-12-09T22:55:42Z</dcterms:modified>
  <cp:revision>3</cp:revision>
  <dc:subject/>
  <dc:title>Remote server monito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GHeight">
    <vt:lpwstr>270</vt:lpwstr>
  </property>
  <property fmtid="{D5CDD505-2E9C-101B-9397-08002B2CF9AE}" pid="3" name="BGLeft">
    <vt:lpwstr>36</vt:lpwstr>
  </property>
  <property fmtid="{D5CDD505-2E9C-101B-9397-08002B2CF9AE}" pid="4" name="BGTop">
    <vt:lpwstr>60</vt:lpwstr>
  </property>
  <property fmtid="{D5CDD505-2E9C-101B-9397-08002B2CF9AE}" pid="5" name="BGWidth">
    <vt:lpwstr>648</vt:lpwstr>
  </property>
  <property fmtid="{D5CDD505-2E9C-101B-9397-08002B2CF9AE}" pid="6" name="Colour1">
    <vt:lpwstr>255,204,0</vt:lpwstr>
  </property>
  <property fmtid="{D5CDD505-2E9C-101B-9397-08002B2CF9AE}" pid="7" name="Colour2">
    <vt:lpwstr>255,102,0</vt:lpwstr>
  </property>
  <property fmtid="{D5CDD505-2E9C-101B-9397-08002B2CF9AE}" pid="8" name="Colour3">
    <vt:lpwstr>51,102,51</vt:lpwstr>
  </property>
  <property fmtid="{D5CDD505-2E9C-101B-9397-08002B2CF9AE}" pid="9" name="Colour4">
    <vt:lpwstr>51,51,153</vt:lpwstr>
  </property>
</Properties>
</file>