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8DC-CE0F-4441-B724-6CCCFDDC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7D5-B11C-4E34-B62B-DA5A9BB9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469-2B0A-4CC8-BF67-26EA6778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409-2BDE-413B-BEEF-55D9E0F4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299-F77A-4037-89B5-325C525B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BBE-3256-4B34-A1E3-5503A196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255-BF1E-425D-B343-12AFCBE6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73F-6D8E-45B0-8E22-2755781B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974-CBC7-4B84-BD20-313E3041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7DF-D575-4551-994E-A6AB5885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3478-879B-49A3-A47D-05BA39B7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70E-1034-4067-8CE5-98FE3F16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E9A7-2CC0-4039-83A0-72FF3BE0F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FI technologie v podání AV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pracovali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áš Trávn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rtin Han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19440" y="2305080"/>
            <a:ext cx="1905120" cy="22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s.amalka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LAN security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volení kli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entizace kli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ifr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dius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s.amalka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219640" cy="527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s.amalka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N ří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dávání, pohyb a změna jednotlivých bodů spoj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uje  a monitoruje skup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dukuje broadcasty a multic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yšuje bezpeč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nemožňu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tulová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kli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s.amalka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ya V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ožňuje vytvořit až 16 VLAN/S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zpečnostní profily SSID je dosažitelný jen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802.11b/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P a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802.11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 upgrade ki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s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802.11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podporuje vícenásobné VLAN / SSID pá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P s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802.11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dporuje vícenásobné VLAN/SSID pár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s.amalka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ming - W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ávání klientů mezi jednotlivými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AAP - Inter-Access Point Protoc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bíhá na 2 a 3 vrstv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uhá vrstva : v rámci jedné pod sítě (předání mezi jednotlivými 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etí vrstva : Mezi více segmenty sítě, nustnost zapojit Mobile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ey-cachin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kešování klíč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ologie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e-authenticatio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před authoriz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s.amalka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14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s.amalka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Key-c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aha minimalizovat spoždění při přehlašování mezi již navštívenými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ívání bezpečných rel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žení zpoždění z 200ms na 25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ýšení zátěže serveru zajišťujícího autorizaci (rad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s.amalka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re-authentic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nížení přihlašovacích časů, při přihlášení na AP ke jsme ještě neby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áme dopředu vědět AP že tam směřujeme a předběžně se u něj autorizuje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ále probíhá přihlášení pomocí Key-c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s.amalka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4292280"/>
            <a:ext cx="829152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ychlém roamingu se ovšem pracuje vzniká norma IEEE 802.11r pro rychlejší předávání uživatelů (reasociaci) mezi přístupovými body téže WL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473880" cy="391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s.amalka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ko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ireles Distribution Systém (W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aning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pora V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užnost roamingu (802.11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ps.amalk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s.amalka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jení mezi dvěma 802.11a, 802.11b nebo 802.11b/g AccesPo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řednictvím jejich rádiových rozhra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ž 6 access poi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dílení komunikačního pásma – út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s.amalka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704000" cy="52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s.amalka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tavení W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figurace partnerské MAC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nikátnost MAC adresy (4 MAC adres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ejná frekvence kanálů – cha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ejná NETWORK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ejné WEP šifrování, stejný klí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dné dynamické klíče (WPA- o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zakazovat Spanning tree (smyčk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s.amalka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DS techn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standard, jen uvolněný k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řízení od jednoho výrob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rušené pásmo (NetStumbl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iné SSID jména (winX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tické IP nejsou nutné (DH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mostění vs. Opakova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s.amalka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i sám určuje topologii sítě z toho, odkud přijímá bloky dat od odesilat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ní spojení zvyšuje spolehliv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ce – cykly v graf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atečná inteligence mos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s.amalka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anning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"strom, který pokrývá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anning Tree Algorithm (S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EEE 8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mluva mostů o acyklické topologi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ot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statní vybírají ten, který vede ke kořenov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cyklická struktura s kořenovým mo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s.amalka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ání síť před neautorizovaným přístup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děluje uživatele do sku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ps.amalka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7:32:36Z</dcterms:created>
  <dc:creator>koleje</dc:creator>
  <dc:description/>
  <dc:language>en-US</dc:language>
  <cp:lastModifiedBy>A</cp:lastModifiedBy>
  <dcterms:modified xsi:type="dcterms:W3CDTF">2005-01-26T10:38:14Z</dcterms:modified>
  <cp:revision>19</cp:revision>
  <dc:subject/>
  <dc:title>WIFI technologie v podání AVAYA</dc:title>
</cp:coreProperties>
</file>